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4.jpeg" ContentType="image/jpeg"/>
  <Override PartName="/ppt/media/image2.png" ContentType="image/png"/>
  <Override PartName="/ppt/media/image1.jpeg" ContentType="image/jpeg"/>
  <Override PartName="/ppt/media/image10.png" ContentType="image/pn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D28FD-ADF4-4B3D-963D-D954C414E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68676-3BA1-4417-BC50-CAB265CAD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D389C-78DE-4DFC-9C21-186E4DCF1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4D304-4553-461E-A10F-7FEBA4D00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92C03-4F6C-4497-A6B2-1025D1EA2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3CEF2-E402-43F2-B333-0B68C984D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F87ED-DFE8-42AB-BAED-83BBA110C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ADC8A-0E2A-4363-9982-53377B3D7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A643C-EB4E-44AD-BD69-3195AAABB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75E38-4F12-4BF2-BF21-7B43C8DCE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7ED28-232A-480F-B836-92C6C3E66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58E08-AFE5-48F7-9141-F612E9BA5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5F430-2485-4120-8486-05E5440B9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6923D-8AD7-420A-BD25-D155CC568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2604B-A5D5-48B3-B597-AE0BF05B5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605DB-8D6A-4F03-9F5F-B79D31F90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37E91-DB65-4CD6-8C60-B8549AF42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F3749-4544-4CCB-9224-A2522F6E4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9F7F8-34E2-4890-917D-F062C77F9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5F912-AA46-4659-9C53-439C9FD5E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17738-BDB3-4421-A943-6052FA4A3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4DDC6-F645-442F-B73F-B8A2F76BC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B4AC6-DD87-41C0-841E-C929ABA3F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528BA-F828-4F23-BDFB-72A65143E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1C456-674A-459A-A378-FB6CBE037A3C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C9EC6-382E-416C-BD1B-8ABCE9215517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167652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ccff"/>
                </a:solidFill>
                <a:latin typeface="Times New Roman"/>
              </a:rPr>
              <a:t>ВЕЛИКАЯ ОТЕЧЕСТВЕННАЯ ВОЙНА</a:t>
            </a:r>
            <a:endParaRPr b="0" lang="en-US" sz="8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900000" y="3886200"/>
            <a:ext cx="68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ffff"/>
                </a:solidFill>
                <a:latin typeface="Tahoma"/>
              </a:rPr>
              <a:t>1941 - 1945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8317080" y="60930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720"/>
                            </p:stCondLst>
                            <p:childTnLst>
                              <p:par>
                                <p:cTn id="1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" dur="180979" fill="hold"/>
                                        <p:tgtEl>
                                          <p:spTgt spid="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e5ffff"/>
                </a:solidFill>
                <a:latin typeface="Times New Roman"/>
              </a:rPr>
              <a:t>         </a:t>
            </a:r>
            <a:r>
              <a:rPr b="1" lang="ru-RU" sz="6000" spc="-1" strike="noStrike">
                <a:solidFill>
                  <a:srgbClr val="e5ffff"/>
                </a:solidFill>
                <a:latin typeface="Times New Roman"/>
              </a:rPr>
              <a:t>Марат Казей</a:t>
            </a:r>
            <a:endParaRPr b="0" lang="en-US" sz="6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362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        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...Война обрушилась на белорусскую землю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 деревню, где жил Марат с мамой,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    ворвались фашисты. Осенью Марату уже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е пришлось идти в школу в пятый  класс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Школьное здание фашисты превратили в свой дом. После смерти мамы Марат ушел к партизанам и стал разведчиком. Проникал во вражеские гарнизоны и доставлял ценные сведения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   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Мальчик участвовал в боях и проявлял отвагу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   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Марат погиб в бою. Сражался до последнего патрона, а когда у него осталась лишь одна граната, подпустил врагов поближе и взорвал их... и себя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   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За мужество и отвагу пионер Марат Казей был удостоен звания Героя Советского Союза. В городе Минске поставлен памятник юному герою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539640" y="404640"/>
            <a:ext cx="2328840" cy="25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5ffff"/>
                </a:solidFill>
                <a:latin typeface="Tahoma"/>
              </a:rPr>
              <a:t>ПОБЕДА НАД ВРАГОМ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971640" y="1197000"/>
            <a:ext cx="7057800" cy="52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0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5ffff"/>
                </a:solidFill>
                <a:latin typeface="Tahoma"/>
              </a:rPr>
              <a:t>ПАРАД ПОБЕДЫ</a:t>
            </a:r>
            <a:endParaRPr b="0" lang="en-US" sz="6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1258920" y="1484280"/>
            <a:ext cx="6913440" cy="51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44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7" dur="1" fill="hold"/>
                                        <p:tgtEl>
                                          <p:spTgt spid="1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9 МАЯ – ДЕНЬ ПОБЕДЫ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14" name="" descr="&amp;Scy;&amp;acy;&amp;lcy;&amp;yucy;&amp;tcy; &amp;Pcy;&amp;ocy;&amp;bcy;&amp;iecy;&amp;dcy;&amp;ycy; 09 &amp;mcy;&amp;acy;&amp;yacy; 1945 &amp;gcy;. &amp;Mcy;&amp;iecy;&amp;scy;&amp;tcy;&amp;ocy; &amp;scy;&amp;hardcy;&amp;iecy;&amp;mcy;&amp;kcy;&amp;icy;: &amp;Mcy;&amp;ocy;&amp;scy;&amp;kcy;&amp;vcy;&amp;acy; &amp;Acy;&amp;vcy;&amp;tcy;&amp;ocy;&amp;rcy; &amp;scy;&amp;hardcy;&amp;iecy;&amp;mcy;&amp;kcy;&amp;icy;: &amp;KHcy;&amp;acy;&amp;lcy;&amp;icy;&amp;pcy; &amp;YAcy;&amp;kcy;&amp;ocy;&amp;vcy; &amp;Ncy;&amp;icy;&amp;kcy;&amp;ocy;&amp;lcy;&amp;acy;&amp;iecy;&amp;vcy;&amp;icy;&amp;chcy; &amp;TScy;&amp;Acy;&amp;Acy;&amp;Dcy;&amp;Mcy; &amp;iecy;&amp;dcy;. &amp;khcy;&amp;rcy;. 1-38677"/>
          <p:cNvPicPr/>
          <p:nvPr/>
        </p:nvPicPr>
        <p:blipFill>
          <a:blip r:embed="rId2"/>
          <a:stretch/>
        </p:blipFill>
        <p:spPr>
          <a:xfrm>
            <a:off x="755640" y="1484280"/>
            <a:ext cx="7777080" cy="50403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8459640" y="260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restart="whenNotActive" nodeType="interactiveSeq" fill="hold">
                <p:stCondLst>
                  <p:cond evt="onClick">
                    <p:tgtEl>
                      <p:spTgt spid="115"/>
                    </p:tgtEl>
                  </p:cond>
                </p:stCondLst>
                <p:childTnLst>
                  <p:par>
                    <p:cTn id="50" fill="hold">
                      <p:stCondLst>
                        <p:cond evt="onClick">
                          <p:tgtEl>
                            <p:spTgt spid="115"/>
                          </p:tgtEl>
                        </p:cond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3" dur="181083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82000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«СЕГОДНЯ, 22 ИЮНЯ 1941 ГОДА В 4 ЧАСА УТРА …»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6" name="" descr="&amp;ZHcy;&amp;icy;&amp;tcy;&amp;iecy;&amp;lcy;&amp;icy; &amp;Vcy;&amp;lcy;&amp;acy;&amp;dcy;&amp;icy;&amp;vcy;&amp;ocy;&amp;scy;&amp;tcy;&amp;ocy;&amp;kcy;&amp;acy; &amp;scy;&amp;lcy;&amp;ucy;&amp;shcy;&amp;acy;&amp;yucy;&amp;tcy; &amp;pcy;&amp;ocy; &amp;rcy;&amp;acy;&amp;dcy;&amp;icy;&amp;ocy; &amp;scy;&amp;ocy;&amp;ocy;&amp;bcy;&amp;shchcy;&amp;iecy;&amp;ncy;&amp;icy;&amp;iecy; &amp;ocy; &amp;ncy;&amp;acy;&amp;pcy;&amp;acy;&amp;dcy;&amp;iecy;&amp;ncy;&amp;icy;&amp;icy; &amp;gcy;&amp;icy;&amp;tcy;&amp;lcy;&amp;iecy;&amp;rcy;&amp;ocy;&amp;vcy;&amp;scy;&amp;kcy;&amp;ocy;&amp;jcy; &amp;Gcy;&amp;iecy;&amp;rcy;&amp;mcy;&amp;acy;&amp;ncy;&amp;icy;&amp;icy; &amp;ncy;&amp;acy; &amp;Scy;&amp;Scy;&amp;Scy;&amp;Rcy; 22 &amp;icy;&amp;yucy;&amp;ncy;&amp;yacy; 1941 &amp;gcy;. &amp;Mcy;&amp;iecy;&amp;scy;&amp;tcy;&amp;ocy; &amp;scy;&amp;hardcy;&amp;iecy;&amp;mcy;&amp;kcy;&amp;icy;: &amp;Vcy;&amp;lcy;&amp;acy;&amp;dcy;&amp;icy;&amp;vcy;&amp;ocy;&amp;scy;&amp;tcy;&amp;ocy;&amp;kcy; &amp;Acy;&amp;vcy;&amp;tcy;&amp;ocy;&amp;rcy; &amp;scy;&amp;hardcy;&amp;iecy;&amp;mcy;&amp;kcy;&amp;icy;: &amp;Mcy;&amp;yacy;&amp;scy;&amp;ncy;&amp;icy;&amp;kcy;&amp;ocy;&amp;vcy; &amp;Vcy;. &amp;Fcy;. &amp;Gcy;&amp;Acy;&amp;Pcy;&amp;Kcy; &amp;iecy;&amp;dcy;.&amp;khcy;&amp;rcy;.&amp;Pcy;-3629"/>
          <p:cNvPicPr/>
          <p:nvPr/>
        </p:nvPicPr>
        <p:blipFill>
          <a:blip r:embed="rId2"/>
          <a:stretch/>
        </p:blipFill>
        <p:spPr>
          <a:xfrm>
            <a:off x="900000" y="1413000"/>
            <a:ext cx="6912000" cy="495756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8532720" y="6237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" dur="91315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4427640" y="549360"/>
            <a:ext cx="4440240" cy="583236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0" y="620280"/>
            <a:ext cx="478800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УЧАСТНИКИ ПАРАДА В МОСКВЕ НА КРАСНОЙ ПЛОЩАДИ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ОТПРАВЛЯЮТСЯ НА ВОЙНУ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&amp;Scy;&amp;ocy;&amp;vcy;&amp;iecy;&amp;tcy;&amp;scy;&amp;kcy;&amp;icy;&amp;iecy; &amp;vcy;&amp;ocy;&amp;icy;&amp;ncy;&amp;ycy; &amp;ocy;&amp;tcy;&amp;pcy;&amp;rcy;&amp;acy;&amp;vcy;&amp;lcy;&amp;yacy;&amp;yucy;&amp;tcy;&amp;scy;&amp;yacy; &amp;ncy;&amp;acy; &amp;fcy;&amp;rcy;&amp;ocy;&amp;ncy;&amp;tcy; 1941 &amp;gcy;. &amp;Mcy;&amp;iecy;&amp;scy;&amp;tcy;&amp;ocy; &amp;scy;&amp;hardcy;&amp;iecy;&amp;mcy;&amp;kcy;&amp;icy;: &amp;Tcy;&amp;acy;&amp;mcy;&amp;bcy;&amp;ocy;&amp;vcy;c&amp;kcy;&amp;acy;&amp;yacy; &amp;ocy;&amp;bcy;&amp;lcy;&amp;acy;&amp;scy;&amp;tcy;&amp;softcy; &amp;Acy;&amp;vcy;&amp;tcy;&amp;ocy;&amp;rcy; &amp;scy;&amp;hardcy;&amp;iecy;&amp;mcy;&amp;kcy;&amp;icy;: &amp;CHcy;&amp;iecy;&amp;rcy;&amp;ncy;&amp;ocy;&amp;vcy; &amp;Dcy;. &amp;Rcy;&amp;Gcy;&amp;Acy;&amp;Kcy;&amp;Fcy;&amp;Dcy; &amp;iecy;&amp;dcy;.&amp;khcy;&amp;rcy;.0-256305"/>
          <p:cNvPicPr/>
          <p:nvPr/>
        </p:nvPicPr>
        <p:blipFill>
          <a:blip r:embed="rId2"/>
          <a:stretch/>
        </p:blipFill>
        <p:spPr>
          <a:xfrm>
            <a:off x="4643280" y="404640"/>
            <a:ext cx="3646800" cy="569772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178920" y="404280"/>
            <a:ext cx="4543560" cy="56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НАШИ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СОЛДАТЫ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ОТПРАВЛЯЮТСЯ НА ФРОНТ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684360" y="620640"/>
            <a:ext cx="7561080" cy="564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ffff"/>
                </a:solidFill>
                <a:latin typeface="Times New Roman"/>
              </a:rPr>
              <a:t>           </a:t>
            </a:r>
            <a:r>
              <a:rPr b="1" lang="en-US" sz="4000" spc="-1" strike="noStrike">
                <a:solidFill>
                  <a:srgbClr val="e5ffff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e5ffff"/>
                </a:solidFill>
                <a:latin typeface="Times New Roman"/>
              </a:rPr>
              <a:t>Зоя Космодемьянская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86920" y="1557000"/>
            <a:ext cx="770580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одилась 13 сентября 1923 года.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сле окончания 9 классов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московской школы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Зоя по собственному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желанию отправилась на фронт в партизанский отряд. Дважды направлялась в тыл противника. В конце ноября 1941 года в районе деревне Петрищево она была схвачена фашистами, которые её пытали.  От неё требовали признания, кто и зачем ее послал. Мужественная девочка не ответила ни на один вопрос немцев. Она даже не назвала своего подлинного имени и фамилии. После долгих и мучительных истязаний Зою убили.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Ей дали звание Героя Советского Союза  за мужество и героизм, проявленные в борьбе с немецкими фашистами. Существует много памятников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611280" y="476280"/>
            <a:ext cx="171432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ffff"/>
                </a:solidFill>
                <a:latin typeface="Times New Roman"/>
              </a:rPr>
              <a:t>    </a:t>
            </a:r>
            <a:r>
              <a:rPr b="1" lang="en-US" sz="6000" spc="-1" strike="noStrike">
                <a:solidFill>
                  <a:srgbClr val="e5ffff"/>
                </a:solidFill>
                <a:latin typeface="Times New Roman"/>
              </a:rPr>
              <a:t>Леня Голиков</a:t>
            </a:r>
            <a:endParaRPr b="0" lang="en-US" sz="6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4400" y="1915920"/>
            <a:ext cx="8229600" cy="494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  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Рос в деревне Лукино. Когда его родное село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захватил враг,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мальчик ушел к партизанам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   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е раз он ходил в разведку, приносил важные сведения в партизанский отряд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    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Был в его жизни бой, который Леня вел один на один с фашистским генералом. Граната, брошенная мальчиком, подбила машину. Из нее выбрался гитлеровец с портфелем в руках и, отстреливаясь, бросился бежать. Леня - за ним. Почти километр преследовал он врага и, наконец, убил его. В портфеле оказались очень важные документы. Штаб партизан немедленно переправил их самолетом в Москву.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о вскоре Леня погиб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     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2 апреля 1944 года был опубликован указ Президиума Верховного Совета СССР о присвоении пионеру-партизану Лене Голикову звание Героя Советского Союз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79280" y="476280"/>
            <a:ext cx="1559160" cy="19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ffff"/>
                </a:solidFill>
                <a:latin typeface="Tahoma"/>
              </a:rPr>
              <a:t>          </a:t>
            </a:r>
            <a:r>
              <a:rPr b="1" lang="en-US" sz="4400" spc="-1" strike="noStrike">
                <a:solidFill>
                  <a:srgbClr val="e5ffff"/>
                </a:solidFill>
                <a:latin typeface="Times New Roman"/>
              </a:rPr>
              <a:t>ВАЛЯ КОТИК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   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Родился 11 февраля 1930 года.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Учился в школе №4 города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Шепетовки, был признанны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ожаком пионеров, своих ровесников. Когда в Шепетовку ворвались фашисты, Валя Котик вместе с друзьями решил бороться с врагом. После события доверили Вале быть разведчиком. Он узнавал расположение вражеских постов, порядок смены караул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  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ионер, которому только-только исполнилось четырнадцать лет, сражался плечом к плечу со взрослыми, освобождая родную землю.   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аля Котик погиб как герой, и Родина посмертно удостоила его званием Героя Советского Союза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684360" y="404640"/>
            <a:ext cx="206820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         </a:t>
            </a:r>
            <a:r>
              <a:rPr b="1" lang="en-US" sz="4400" spc="-1" strike="noStrike">
                <a:solidFill>
                  <a:srgbClr val="e5ffff"/>
                </a:solidFill>
                <a:latin typeface="Times New Roman"/>
              </a:rPr>
              <a:t>ЗИНА ПОРТНОВА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4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ойна застала Зину в деревне Зуя,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куда она приехала на каникулы.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Была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создана подпольная организация "Юные мстители", и Зину избрали членом ее комитета. Она участвовала в операциях против врага, распространяла листовки, вела разведку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 декабре 1943 года девочку схватили фашисты и пытали. Ответом врагу было молчание Зины.   Отважная юная пионерка была зверски замучена, но до последней минуты оставалась стойкой, мужественной, несгибаемой. И Родина посмертно отметила ее подвиг высшим своим званием - званием Героя Советского Союза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539640" y="260280"/>
            <a:ext cx="207036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7T09:59:55Z</dcterms:created>
  <dc:creator>orlov</dc:creator>
  <dc:description/>
  <dc:language>en-US</dc:language>
  <cp:lastModifiedBy>orlov</cp:lastModifiedBy>
  <dcterms:modified xsi:type="dcterms:W3CDTF">2007-11-17T18:13:54Z</dcterms:modified>
  <cp:revision>15</cp:revision>
  <dc:subject/>
  <dc:title>Слайд 1</dc:title>
</cp:coreProperties>
</file>