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.jpeg" ContentType="image/jpeg"/>
  <Override PartName="/ppt/media/image3.gif" ContentType="image/gif"/>
  <Override PartName="/ppt/media/image2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F2D-EE2D-43CF-B782-19BDD25B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4D0-530E-4F4B-8C54-F39B176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A57-9272-4542-B6ED-97CC806E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754-5A7E-446B-8204-B2F67078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C34-B4FC-4AED-B26E-24931A3B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680-5F1A-4933-A875-211CDA5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A7B-6C26-443D-A2C1-68657038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96D-6AA2-4380-9C28-2D038C9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46BC-F814-491A-9145-DC841AE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6BC-C82C-4E89-A7D4-7A6FD385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BFC-B8A4-4090-8DAD-D95214D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E66-103A-4B8B-849D-DCFFCE6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A06D-FF87-4EF9-A9B0-778D3C2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C554-B2F4-46E2-A384-7938B96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D8D-B9B1-4CAF-8CC4-FDAA85C6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CC9-AD8C-4379-A248-137D9619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3F7E-AA43-44F3-938E-B0CB4D40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9D2-7682-491F-B81D-A948DBF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C17-179E-4D3F-8350-976EA05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A48-1B36-4086-BBFE-2611B2A4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384-4DE0-430D-89C3-55F6F1F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95B-E3BF-48D8-8DA5-D7FADE9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D70-F3A0-4BCE-AB0F-68B3DF9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78D-4B23-4E5F-9ECD-981AECA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EA2-B9FC-44E2-91A0-0D8AD4F3CC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7F9-9B7F-4097-BD4A-74BC575396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Если хочешь много знать,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Многого добиться,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Обязательно читать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Должен научиться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iz_squirrel_with_fol_a_ha"/>
          <p:cNvPicPr/>
          <p:nvPr/>
        </p:nvPicPr>
        <p:blipFill>
          <a:blip r:embed="rId1"/>
          <a:stretch/>
        </p:blipFill>
        <p:spPr>
          <a:xfrm>
            <a:off x="6143760" y="3716280"/>
            <a:ext cx="30002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baby_puppy_playing_wi_a_lw"/>
          <p:cNvPicPr/>
          <p:nvPr/>
        </p:nvPicPr>
        <p:blipFill>
          <a:blip r:embed="rId1"/>
          <a:stretch/>
        </p:blipFill>
        <p:spPr>
          <a:xfrm>
            <a:off x="6227640" y="4260960"/>
            <a:ext cx="2475000" cy="215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baby_puppy_begging_lw"/>
          <p:cNvPicPr/>
          <p:nvPr/>
        </p:nvPicPr>
        <p:blipFill>
          <a:blip r:embed="rId2"/>
          <a:stretch/>
        </p:blipFill>
        <p:spPr>
          <a:xfrm>
            <a:off x="179280" y="189000"/>
            <a:ext cx="208116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3534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У**чи    ва* 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ре***а 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Сч*стл*в*г*    п**и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uppy_jumping_lc"/>
          <p:cNvPicPr/>
          <p:nvPr/>
        </p:nvPicPr>
        <p:blipFill>
          <a:blip r:embed="rId1"/>
          <a:stretch/>
        </p:blipFill>
        <p:spPr>
          <a:xfrm>
            <a:off x="6919920" y="3141720"/>
            <a:ext cx="222408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puppy_jump_and_bark_lc"/>
          <p:cNvPicPr/>
          <p:nvPr/>
        </p:nvPicPr>
        <p:blipFill>
          <a:blip r:embed="rId2"/>
          <a:stretch/>
        </p:blipFill>
        <p:spPr>
          <a:xfrm>
            <a:off x="0" y="0"/>
            <a:ext cx="2052720" cy="3284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5840" y="2637000"/>
            <a:ext cx="849780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Удачи вам, ребят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Счастливого пути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348000" y="3860640"/>
            <a:ext cx="287280" cy="216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059280" y="3716280"/>
            <a:ext cx="36036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708360" y="3933720"/>
            <a:ext cx="3589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3419640" y="350028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2843280" y="3573360"/>
            <a:ext cx="4334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3419640" y="3573360"/>
            <a:ext cx="72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3203640" y="4076640"/>
            <a:ext cx="2160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нежная принцес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47" name="Picture 5" descr="big"/>
          <p:cNvPicPr/>
          <p:nvPr/>
        </p:nvPicPr>
        <p:blipFill>
          <a:blip r:embed="rId1"/>
          <a:stretch/>
        </p:blipFill>
        <p:spPr>
          <a:xfrm>
            <a:off x="2556000" y="1484280"/>
            <a:ext cx="3957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Жёлтая кепо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0" name="Picture 4" descr="big1"/>
          <p:cNvPicPr/>
          <p:nvPr/>
        </p:nvPicPr>
        <p:blipFill>
          <a:blip r:embed="rId1"/>
          <a:stretch/>
        </p:blipFill>
        <p:spPr>
          <a:xfrm>
            <a:off x="2843280" y="1268280"/>
            <a:ext cx="336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Илья-царевич и Серый вол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358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1979640" y="0"/>
            <a:ext cx="509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Line 13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Мальчик и Карлс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6" name="Picture 4" descr="2"/>
          <p:cNvPicPr/>
          <p:nvPr/>
        </p:nvPicPr>
        <p:blipFill>
          <a:blip r:embed="rId1"/>
          <a:stretch/>
        </p:blipFill>
        <p:spPr>
          <a:xfrm>
            <a:off x="2627280" y="549360"/>
            <a:ext cx="355284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пящая баб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9" name="Picture 5" descr="28593b"/>
          <p:cNvPicPr/>
          <p:nvPr/>
        </p:nvPicPr>
        <p:blipFill>
          <a:blip r:embed="rId1"/>
          <a:stretch/>
        </p:blipFill>
        <p:spPr>
          <a:xfrm>
            <a:off x="2771640" y="981000"/>
            <a:ext cx="3411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тойкий железный солдат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73ff"/>
                </a:solidFill>
                <a:latin typeface="Arial"/>
              </a:rPr>
              <a:t>Стойкий оловянный солдат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abirint6791big"/>
          <p:cNvPicPr/>
          <p:nvPr/>
        </p:nvPicPr>
        <p:blipFill>
          <a:blip r:embed="rId1"/>
          <a:stretch/>
        </p:blipFill>
        <p:spPr>
          <a:xfrm>
            <a:off x="2627280" y="1800360"/>
            <a:ext cx="34290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Приключения Знайки и его друз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9933ff"/>
                </a:solidFill>
                <a:latin typeface="Arial"/>
              </a:rPr>
              <a:t>Приключения Незнайк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799423"/>
          <p:cNvPicPr/>
          <p:nvPr/>
        </p:nvPicPr>
        <p:blipFill>
          <a:blip r:embed="rId1"/>
          <a:stretch/>
        </p:blipFill>
        <p:spPr>
          <a:xfrm>
            <a:off x="2700360" y="1700280"/>
            <a:ext cx="36306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Гадкий цыплён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73ff"/>
                </a:solidFill>
                <a:latin typeface="Arial"/>
              </a:rPr>
              <a:t>Гадкий утён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930705801"/>
          <p:cNvPicPr/>
          <p:nvPr/>
        </p:nvPicPr>
        <p:blipFill>
          <a:blip r:embed="rId1"/>
          <a:stretch/>
        </p:blipFill>
        <p:spPr>
          <a:xfrm>
            <a:off x="2916360" y="1413000"/>
            <a:ext cx="3166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казка о рыбаке и рыбач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казка о рыбаке и рыб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pic%209295"/>
          <p:cNvPicPr/>
          <p:nvPr/>
        </p:nvPicPr>
        <p:blipFill>
          <a:blip r:embed="rId1"/>
          <a:srcRect l="0" t="0" r="0" b="7597"/>
          <a:stretch/>
        </p:blipFill>
        <p:spPr>
          <a:xfrm>
            <a:off x="2195640" y="1844640"/>
            <a:ext cx="52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Конь-горбу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4602074000632"/>
          <p:cNvPicPr/>
          <p:nvPr/>
        </p:nvPicPr>
        <p:blipFill>
          <a:blip r:embed="rId1"/>
          <a:stretch/>
        </p:blipFill>
        <p:spPr>
          <a:xfrm>
            <a:off x="2736720" y="1584360"/>
            <a:ext cx="3490920" cy="5157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Конек-горбун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Луковый мальч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Чиполли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3259"/>
          <p:cNvPicPr/>
          <p:nvPr/>
        </p:nvPicPr>
        <p:blipFill>
          <a:blip r:embed="rId1"/>
          <a:stretch/>
        </p:blipFill>
        <p:spPr>
          <a:xfrm>
            <a:off x="2340000" y="1916280"/>
            <a:ext cx="3889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веко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Реп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1232"/>
          <p:cNvPicPr/>
          <p:nvPr/>
        </p:nvPicPr>
        <p:blipFill>
          <a:blip r:embed="rId1"/>
          <a:stretch/>
        </p:blipFill>
        <p:spPr>
          <a:xfrm>
            <a:off x="2771640" y="1484280"/>
            <a:ext cx="3537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3419640" y="3573360"/>
            <a:ext cx="72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3203640" y="4076640"/>
            <a:ext cx="2160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2124000" y="5229360"/>
            <a:ext cx="93528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394920" y="5157360"/>
            <a:ext cx="136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68360" y="3860280"/>
            <a:ext cx="7128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carta_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74320"/>
            <a:ext cx="822960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ишина Евгения Владимировн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У СОШ №57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Москвы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Вы скачали эту презентацию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У       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У       Ж                                        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bunny_jogging_ha"/>
          <p:cNvPicPr/>
          <p:nvPr/>
        </p:nvPicPr>
        <p:blipFill>
          <a:blip r:embed="rId1"/>
          <a:stretch/>
        </p:blipFill>
        <p:spPr>
          <a:xfrm>
            <a:off x="2916360" y="2708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unny_hopping_around_hc"/>
          <p:cNvPicPr/>
          <p:nvPr/>
        </p:nvPicPr>
        <p:blipFill>
          <a:blip r:embed="rId2"/>
          <a:stretch/>
        </p:blipFill>
        <p:spPr>
          <a:xfrm>
            <a:off x="250920" y="3284640"/>
            <a:ext cx="2352600" cy="3333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bunny_thumping_foot_ha"/>
          <p:cNvPicPr/>
          <p:nvPr/>
        </p:nvPicPr>
        <p:blipFill>
          <a:blip r:embed="rId3"/>
          <a:stretch/>
        </p:blipFill>
        <p:spPr>
          <a:xfrm>
            <a:off x="6529320" y="3357720"/>
            <a:ext cx="2614680" cy="3268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ДРУЖБ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2:33:04Z</dcterms:created>
  <dc:creator>Женя &amp; Оля</dc:creator>
  <dc:description/>
  <dc:language>en-US</dc:language>
  <cp:lastModifiedBy>vvv</cp:lastModifiedBy>
  <dcterms:modified xsi:type="dcterms:W3CDTF">2008-10-30T18:15:04Z</dcterms:modified>
  <cp:revision>13</cp:revision>
  <dc:subject/>
  <dc:title>Если хочешь много знать,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