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10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2.jpeg" ContentType="image/jpeg"/>
  <Override PartName="/ppt/media/image3.gif" ContentType="image/gif"/>
  <Override PartName="/ppt/media/image22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946-B14E-4A54-9966-635E89D2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C0A-8C84-4026-BDF7-5720BB2B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59A-33C4-4A49-9118-CB3E62B9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647-C49B-4F1E-BDC1-EC9B4FBE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0768-BE9C-48E7-B1EA-3B63F750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B25-56B1-444B-BF09-5B047314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0B90-C828-447C-96C4-F57F8B62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1D76-4534-41EF-BAD8-F6F436B5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1EDC-BD07-401B-939C-76444F4A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F6D2-2B6E-4210-B9B4-8F312235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776-3583-4152-BB5A-B5CBE55F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724-90A0-4535-8C39-35D927F9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FC1-716D-4AB2-9552-4A47B1D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B5C1-4E12-477B-B8B5-F2A4FF26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3CCF-998B-4946-9034-F0EA5D28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7AAC-E29F-46B4-BE86-552F21C9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5D6A-EE07-4770-BA0D-5EE1D360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474-AC18-4D24-9660-D962FF98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53D-B2E0-478B-A17A-BC4E8A10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ECE-AC3C-41E3-B754-74E21B8D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DD9-90AA-47DA-AA92-743545BC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E0C-C7C6-43A1-98D8-6E75332E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655-A1CA-435F-8C94-5E2CBDC2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E64-6588-4B12-9A89-BDE7A4E7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FA28-6CBC-43C7-A574-FFE19D7870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A056-F2D8-4651-B3BA-0899CEB185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Если хочешь много знать,</a:t>
            </a:r>
            <a:br>
              <a:rPr sz="5400"/>
            </a:b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 Многого добиться,</a:t>
            </a:r>
            <a:br>
              <a:rPr sz="5400"/>
            </a:b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 Обязательно читать</a:t>
            </a:r>
            <a:br>
              <a:rPr sz="5400"/>
            </a:b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 Должен научиться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iz_squirrel_with_fol_a_ha"/>
          <p:cNvPicPr/>
          <p:nvPr/>
        </p:nvPicPr>
        <p:blipFill>
          <a:blip r:embed="rId1"/>
          <a:stretch/>
        </p:blipFill>
        <p:spPr>
          <a:xfrm>
            <a:off x="6143760" y="3716280"/>
            <a:ext cx="30002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baby_puppy_playing_wi_a_lw"/>
          <p:cNvPicPr/>
          <p:nvPr/>
        </p:nvPicPr>
        <p:blipFill>
          <a:blip r:embed="rId1"/>
          <a:stretch/>
        </p:blipFill>
        <p:spPr>
          <a:xfrm>
            <a:off x="6227640" y="4260960"/>
            <a:ext cx="2475000" cy="215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baby_puppy_begging_lw"/>
          <p:cNvPicPr/>
          <p:nvPr/>
        </p:nvPicPr>
        <p:blipFill>
          <a:blip r:embed="rId2"/>
          <a:stretch/>
        </p:blipFill>
        <p:spPr>
          <a:xfrm>
            <a:off x="179280" y="189000"/>
            <a:ext cx="208116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3534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У**чи    ва* 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ре***а 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Сч*стл*в*г*    п**и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puppy_jumping_lc"/>
          <p:cNvPicPr/>
          <p:nvPr/>
        </p:nvPicPr>
        <p:blipFill>
          <a:blip r:embed="rId1"/>
          <a:stretch/>
        </p:blipFill>
        <p:spPr>
          <a:xfrm>
            <a:off x="6919920" y="3141720"/>
            <a:ext cx="2224080" cy="3481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puppy_jump_and_bark_lc"/>
          <p:cNvPicPr/>
          <p:nvPr/>
        </p:nvPicPr>
        <p:blipFill>
          <a:blip r:embed="rId2"/>
          <a:stretch/>
        </p:blipFill>
        <p:spPr>
          <a:xfrm>
            <a:off x="0" y="0"/>
            <a:ext cx="2052720" cy="3284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5840" y="2637000"/>
            <a:ext cx="849780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Удачи вам, ребят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Счастливого пути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Line 4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363528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492000" y="1484280"/>
            <a:ext cx="14292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3348000" y="3860640"/>
            <a:ext cx="287280" cy="216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3059280" y="3716280"/>
            <a:ext cx="360360" cy="28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708360" y="3933720"/>
            <a:ext cx="3589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3419640" y="350028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2843280" y="3573360"/>
            <a:ext cx="4334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Line 4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63528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H="1">
            <a:off x="3492000" y="1484280"/>
            <a:ext cx="14292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3419640" y="3573360"/>
            <a:ext cx="7272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3203640" y="4076640"/>
            <a:ext cx="21600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нежная принцесс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47" name="Picture 5" descr="big"/>
          <p:cNvPicPr/>
          <p:nvPr/>
        </p:nvPicPr>
        <p:blipFill>
          <a:blip r:embed="rId1"/>
          <a:stretch/>
        </p:blipFill>
        <p:spPr>
          <a:xfrm>
            <a:off x="2556000" y="1484280"/>
            <a:ext cx="39574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Жёлтая кепоч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50" name="Picture 4" descr="big1"/>
          <p:cNvPicPr/>
          <p:nvPr/>
        </p:nvPicPr>
        <p:blipFill>
          <a:blip r:embed="rId1"/>
          <a:stretch/>
        </p:blipFill>
        <p:spPr>
          <a:xfrm>
            <a:off x="2843280" y="1268280"/>
            <a:ext cx="3367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Илья-царевич и Серый вол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358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53" name="Picture 4" descr="4"/>
          <p:cNvPicPr/>
          <p:nvPr/>
        </p:nvPicPr>
        <p:blipFill>
          <a:blip r:embed="rId1"/>
          <a:stretch/>
        </p:blipFill>
        <p:spPr>
          <a:xfrm>
            <a:off x="1979640" y="0"/>
            <a:ext cx="509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Line 13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Мальчик и Карлс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56" name="Picture 4" descr="2"/>
          <p:cNvPicPr/>
          <p:nvPr/>
        </p:nvPicPr>
        <p:blipFill>
          <a:blip r:embed="rId1"/>
          <a:stretch/>
        </p:blipFill>
        <p:spPr>
          <a:xfrm>
            <a:off x="2627280" y="549360"/>
            <a:ext cx="355284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пящая баб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9973ff"/>
              </a:solidFill>
              <a:latin typeface="Arial"/>
            </a:endParaRPr>
          </a:p>
        </p:txBody>
      </p:sp>
      <p:pic>
        <p:nvPicPr>
          <p:cNvPr id="159" name="Picture 5" descr="28593b"/>
          <p:cNvPicPr/>
          <p:nvPr/>
        </p:nvPicPr>
        <p:blipFill>
          <a:blip r:embed="rId1"/>
          <a:stretch/>
        </p:blipFill>
        <p:spPr>
          <a:xfrm>
            <a:off x="2771640" y="981000"/>
            <a:ext cx="3411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тойкий железный солдати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73ff"/>
                </a:solidFill>
                <a:latin typeface="Arial"/>
              </a:rPr>
              <a:t>Стойкий оловянный солдат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labirint6791big"/>
          <p:cNvPicPr/>
          <p:nvPr/>
        </p:nvPicPr>
        <p:blipFill>
          <a:blip r:embed="rId1"/>
          <a:stretch/>
        </p:blipFill>
        <p:spPr>
          <a:xfrm>
            <a:off x="2627280" y="1800360"/>
            <a:ext cx="34290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Приключения Знайки и его друз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9933ff"/>
                </a:solidFill>
                <a:latin typeface="Arial"/>
              </a:rPr>
              <a:t>Приключения Незнайки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799423"/>
          <p:cNvPicPr/>
          <p:nvPr/>
        </p:nvPicPr>
        <p:blipFill>
          <a:blip r:embed="rId1"/>
          <a:stretch/>
        </p:blipFill>
        <p:spPr>
          <a:xfrm>
            <a:off x="2700360" y="1700280"/>
            <a:ext cx="36306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Гадкий цыплён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73ff"/>
                </a:solidFill>
                <a:latin typeface="Arial"/>
              </a:rPr>
              <a:t>Гадкий утён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930705801"/>
          <p:cNvPicPr/>
          <p:nvPr/>
        </p:nvPicPr>
        <p:blipFill>
          <a:blip r:embed="rId1"/>
          <a:stretch/>
        </p:blipFill>
        <p:spPr>
          <a:xfrm>
            <a:off x="2916360" y="1413000"/>
            <a:ext cx="31669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казка о рыбаке и рыбачк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казка о рыбаке и рыбк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pic%209295"/>
          <p:cNvPicPr/>
          <p:nvPr/>
        </p:nvPicPr>
        <p:blipFill>
          <a:blip r:embed="rId1"/>
          <a:srcRect l="0" t="0" r="0" b="7597"/>
          <a:stretch/>
        </p:blipFill>
        <p:spPr>
          <a:xfrm>
            <a:off x="2195640" y="1844640"/>
            <a:ext cx="52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Конь-горбу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4602074000632"/>
          <p:cNvPicPr/>
          <p:nvPr/>
        </p:nvPicPr>
        <p:blipFill>
          <a:blip r:embed="rId1"/>
          <a:stretch/>
        </p:blipFill>
        <p:spPr>
          <a:xfrm>
            <a:off x="2736720" y="1584360"/>
            <a:ext cx="3490920" cy="5157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Конек-горбун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Луковый мальчи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Чиполлин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3259"/>
          <p:cNvPicPr/>
          <p:nvPr/>
        </p:nvPicPr>
        <p:blipFill>
          <a:blip r:embed="rId1"/>
          <a:stretch/>
        </p:blipFill>
        <p:spPr>
          <a:xfrm>
            <a:off x="2340000" y="1916280"/>
            <a:ext cx="3889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Свеко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73ff"/>
                </a:solidFill>
                <a:latin typeface="Arial"/>
              </a:rPr>
              <a:t>Реп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6" descr="1232"/>
          <p:cNvPicPr/>
          <p:nvPr/>
        </p:nvPicPr>
        <p:blipFill>
          <a:blip r:embed="rId1"/>
          <a:stretch/>
        </p:blipFill>
        <p:spPr>
          <a:xfrm>
            <a:off x="2771640" y="1484280"/>
            <a:ext cx="3537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363528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H="1">
            <a:off x="3492000" y="1484280"/>
            <a:ext cx="14292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3419640" y="3573360"/>
            <a:ext cx="7272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 flipH="1">
            <a:off x="3203640" y="4076640"/>
            <a:ext cx="21600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2124000" y="5229360"/>
            <a:ext cx="93528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394920" y="5157360"/>
            <a:ext cx="1368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68360" y="3860280"/>
            <a:ext cx="7128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carta_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274320"/>
            <a:ext cx="8229600" cy="58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ил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ишина Евгения Владимировн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У СОШ №576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Москвы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Вы скачали эту презентацию на сайте - viki.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          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          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У       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Р          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У       Ж                                            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bunny_jogging_ha"/>
          <p:cNvPicPr/>
          <p:nvPr/>
        </p:nvPicPr>
        <p:blipFill>
          <a:blip r:embed="rId1"/>
          <a:stretch/>
        </p:blipFill>
        <p:spPr>
          <a:xfrm>
            <a:off x="2916360" y="27082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unny_hopping_around_hc"/>
          <p:cNvPicPr/>
          <p:nvPr/>
        </p:nvPicPr>
        <p:blipFill>
          <a:blip r:embed="rId2"/>
          <a:stretch/>
        </p:blipFill>
        <p:spPr>
          <a:xfrm>
            <a:off x="250920" y="3284640"/>
            <a:ext cx="2352600" cy="3333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bunny_thumping_foot_ha"/>
          <p:cNvPicPr/>
          <p:nvPr/>
        </p:nvPicPr>
        <p:blipFill>
          <a:blip r:embed="rId3"/>
          <a:stretch/>
        </p:blipFill>
        <p:spPr>
          <a:xfrm>
            <a:off x="6529320" y="3357720"/>
            <a:ext cx="2614680" cy="3268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ДРУЖБ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карта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 flipH="1">
            <a:off x="3924360" y="549360"/>
            <a:ext cx="107928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63528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 flipH="1">
            <a:off x="3492000" y="1484280"/>
            <a:ext cx="14292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2:33:04Z</dcterms:created>
  <dc:creator>Женя &amp; Оля</dc:creator>
  <dc:description/>
  <dc:language>en-US</dc:language>
  <cp:lastModifiedBy>vvv</cp:lastModifiedBy>
  <dcterms:modified xsi:type="dcterms:W3CDTF">2008-10-30T18:15:04Z</dcterms:modified>
  <cp:revision>13</cp:revision>
  <dc:subject/>
  <dc:title>Если хочешь много знать,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