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959-C566-4C3F-823C-EB285106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7BB-F107-4967-86B2-65F3DAB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1F6-D0DE-4CCE-912B-2A36F26B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84E-78B8-4E86-B0A8-68FFD862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F2C-EC0D-46DD-B1CF-352992AE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1B5-B4BC-46D5-AC2A-1D130684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51C-8362-4133-ACCB-F0ACEE5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136-DC80-4229-BB0D-0D776F1D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382-E9F7-45C1-90EF-7A9D68B1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A17-B56F-404E-B32F-4A4AA69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C3E-297C-4166-B04A-CDB2CE6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064-2C2A-4456-8D37-161429D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8758-487D-4A46-B1A1-F4911C513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69;&#1082;&#1089;&#1082;&#1091;&#1088;&#1089;&#1080;&#1080;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&#1058;&#1077;&#1072;&#1090;&#1088;&#1072;&#1083;&#1080;&#1079;&#1086;&#1074;&#1072;&#1085;&#1085;&#1072;&#1103;%20&#1076;&#1077;&#1103;&#1090;&#1077;&#1083;&#1100;&#1085;&#1086;&#1089;&#1090;&#1100;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9912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74ebc"/>
                </a:solidFill>
                <a:latin typeface="Times New Roman"/>
                <a:ea typeface="Times New Roman"/>
              </a:rPr>
              <a:t>Развитие связной речи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58840"/>
            <a:ext cx="81867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  детский  сад №1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5572080" y="3571920"/>
            <a:ext cx="314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 высшей квалификационной категории Вандышева Е.В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121560" y="60008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п. Тоникно, 20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4"/>
          <p:cNvSpPr/>
          <p:nvPr/>
        </p:nvSpPr>
        <p:spPr>
          <a:xfrm>
            <a:off x="2416320" y="2421000"/>
            <a:ext cx="46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2"/>
          <p:cNvGrpSpPr/>
          <p:nvPr/>
        </p:nvGrpSpPr>
        <p:grpSpPr>
          <a:xfrm>
            <a:off x="1054080" y="4687920"/>
            <a:ext cx="3067200" cy="1347840"/>
            <a:chOff x="1054080" y="4687920"/>
            <a:chExt cx="3067200" cy="1347840"/>
          </a:xfrm>
        </p:grpSpPr>
        <p:pic>
          <p:nvPicPr>
            <p:cNvPr id="46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054080" y="4687920"/>
              <a:ext cx="30672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116000" y="4724280"/>
              <a:ext cx="2951280" cy="12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отсутствие логического обоснования своих утверждений и выво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4"/>
          <p:cNvGrpSpPr/>
          <p:nvPr/>
        </p:nvGrpSpPr>
        <p:grpSpPr>
          <a:xfrm>
            <a:off x="1195560" y="579600"/>
            <a:ext cx="2730240" cy="1420560"/>
            <a:chOff x="1195560" y="579600"/>
            <a:chExt cx="2730240" cy="1420560"/>
          </a:xfrm>
        </p:grpSpPr>
        <p:pic>
          <p:nvPicPr>
            <p:cNvPr id="4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195560" y="579600"/>
              <a:ext cx="27302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58920" y="620640"/>
              <a:ext cx="25718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несформированность грамматического строя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оугольник 5"/>
          <p:cNvGrpSpPr/>
          <p:nvPr/>
        </p:nvGrpSpPr>
        <p:grpSpPr>
          <a:xfrm>
            <a:off x="4857840" y="646200"/>
            <a:ext cx="2590560" cy="1358640"/>
            <a:chOff x="4857840" y="646200"/>
            <a:chExt cx="2590560" cy="1358640"/>
          </a:xfrm>
        </p:grpSpPr>
        <p:pic>
          <p:nvPicPr>
            <p:cNvPr id="52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857840" y="646200"/>
              <a:ext cx="259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932360" y="692280"/>
              <a:ext cx="2448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бедный словарный 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оугольник 6"/>
          <p:cNvGrpSpPr/>
          <p:nvPr/>
        </p:nvGrpSpPr>
        <p:grpSpPr>
          <a:xfrm>
            <a:off x="6516720" y="2730600"/>
            <a:ext cx="2494080" cy="1433520"/>
            <a:chOff x="6516720" y="2730600"/>
            <a:chExt cx="2494080" cy="1433520"/>
          </a:xfrm>
        </p:grpSpPr>
        <p:pic>
          <p:nvPicPr>
            <p:cNvPr id="5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516720" y="2730600"/>
              <a:ext cx="249408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588000" y="2781360"/>
              <a:ext cx="23576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неспособность построить моноло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Прямоугольник 7"/>
          <p:cNvGrpSpPr/>
          <p:nvPr/>
        </p:nvGrpSpPr>
        <p:grpSpPr>
          <a:xfrm>
            <a:off x="5291280" y="4748040"/>
            <a:ext cx="3066840" cy="1298880"/>
            <a:chOff x="5291280" y="4748040"/>
            <a:chExt cx="3066840" cy="1298880"/>
          </a:xfrm>
        </p:grpSpPr>
        <p:pic>
          <p:nvPicPr>
            <p:cNvPr id="58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291280" y="4748040"/>
              <a:ext cx="3066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364000" y="4797360"/>
              <a:ext cx="29289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нарушение звукопроизно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Прямоугольник 8"/>
          <p:cNvGrpSpPr/>
          <p:nvPr/>
        </p:nvGrpSpPr>
        <p:grpSpPr>
          <a:xfrm>
            <a:off x="176040" y="2730600"/>
            <a:ext cx="2738520" cy="1433520"/>
            <a:chOff x="176040" y="2730600"/>
            <a:chExt cx="2738520" cy="1433520"/>
          </a:xfrm>
        </p:grpSpPr>
        <p:pic>
          <p:nvPicPr>
            <p:cNvPr id="61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176040" y="2730600"/>
              <a:ext cx="27385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0920" y="2781360"/>
              <a:ext cx="2592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бедная диалогическая 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Стрелка вниз 10"/>
          <p:cNvSpPr/>
          <p:nvPr/>
        </p:nvSpPr>
        <p:spPr>
          <a:xfrm flipH="1" rot="1491000">
            <a:off x="3580920" y="4138560"/>
            <a:ext cx="406080" cy="517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11"/>
          <p:cNvSpPr/>
          <p:nvPr/>
        </p:nvSpPr>
        <p:spPr>
          <a:xfrm flipH="1" rot="5245800">
            <a:off x="2952720" y="3251160"/>
            <a:ext cx="360360" cy="4334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2"/>
          <p:cNvSpPr/>
          <p:nvPr/>
        </p:nvSpPr>
        <p:spPr>
          <a:xfrm flipH="1" rot="11732400">
            <a:off x="5579280" y="2242800"/>
            <a:ext cx="366840" cy="585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низ 13"/>
          <p:cNvSpPr/>
          <p:nvPr/>
        </p:nvSpPr>
        <p:spPr>
          <a:xfrm rot="9255000">
            <a:off x="3539880" y="2257200"/>
            <a:ext cx="388800" cy="6411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14"/>
          <p:cNvSpPr/>
          <p:nvPr/>
        </p:nvSpPr>
        <p:spPr>
          <a:xfrm flipH="1" rot="20809800">
            <a:off x="5417280" y="4115880"/>
            <a:ext cx="406440" cy="5176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Прямоугольник 15"/>
          <p:cNvGrpSpPr/>
          <p:nvPr/>
        </p:nvGrpSpPr>
        <p:grpSpPr>
          <a:xfrm>
            <a:off x="3352680" y="2809800"/>
            <a:ext cx="2773440" cy="1420920"/>
            <a:chOff x="3352680" y="2809800"/>
            <a:chExt cx="2773440" cy="1420920"/>
          </a:xfrm>
        </p:grpSpPr>
        <p:pic>
          <p:nvPicPr>
            <p:cNvPr id="69" name="Прямоугольник 15" descr=""/>
            <p:cNvPicPr/>
            <p:nvPr/>
          </p:nvPicPr>
          <p:blipFill>
            <a:blip r:embed="rId7"/>
            <a:stretch/>
          </p:blipFill>
          <p:spPr>
            <a:xfrm>
              <a:off x="3352680" y="2809800"/>
              <a:ext cx="27734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419640" y="2852640"/>
              <a:ext cx="2643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a4c75"/>
                  </a:solidFill>
                  <a:latin typeface="Times New Roman"/>
                  <a:ea typeface="Times New Roman"/>
                </a:rPr>
                <a:t>Проблема речи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Стрелка вниз 16"/>
          <p:cNvSpPr/>
          <p:nvPr/>
        </p:nvSpPr>
        <p:spPr>
          <a:xfrm flipH="1" rot="16200000">
            <a:off x="6121440" y="3321000"/>
            <a:ext cx="3585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Прямоугольник 2"/>
          <p:cNvGrpSpPr/>
          <p:nvPr/>
        </p:nvGrpSpPr>
        <p:grpSpPr>
          <a:xfrm>
            <a:off x="1054080" y="4687920"/>
            <a:ext cx="3067200" cy="1347840"/>
            <a:chOff x="1054080" y="4687920"/>
            <a:chExt cx="3067200" cy="1347840"/>
          </a:xfrm>
        </p:grpSpPr>
        <p:pic>
          <p:nvPicPr>
            <p:cNvPr id="7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054080" y="4687920"/>
              <a:ext cx="30672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116000" y="4724280"/>
              <a:ext cx="2951280" cy="12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2"/>
                </a:rPr>
                <a:t>Экскур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4"/>
          <p:cNvGrpSpPr/>
          <p:nvPr/>
        </p:nvGrpSpPr>
        <p:grpSpPr>
          <a:xfrm>
            <a:off x="291960" y="817560"/>
            <a:ext cx="2695680" cy="1419120"/>
            <a:chOff x="291960" y="817560"/>
            <a:chExt cx="2695680" cy="1419120"/>
          </a:xfrm>
        </p:grpSpPr>
        <p:pic>
          <p:nvPicPr>
            <p:cNvPr id="7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91960" y="817560"/>
              <a:ext cx="26956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57120" y="857160"/>
              <a:ext cx="25718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4"/>
                </a:rPr>
                <a:t>Театрализованная</a:t>
              </a: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5"/>
          <p:cNvGrpSpPr/>
          <p:nvPr/>
        </p:nvGrpSpPr>
        <p:grpSpPr>
          <a:xfrm>
            <a:off x="2998800" y="523800"/>
            <a:ext cx="2212920" cy="1360440"/>
            <a:chOff x="2998800" y="523800"/>
            <a:chExt cx="2212920" cy="1360440"/>
          </a:xfrm>
        </p:grpSpPr>
        <p:pic>
          <p:nvPicPr>
            <p:cNvPr id="79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2998800" y="523800"/>
              <a:ext cx="221292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071880" y="571680"/>
              <a:ext cx="20718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Сенсорное разви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6"/>
          <p:cNvGrpSpPr/>
          <p:nvPr/>
        </p:nvGrpSpPr>
        <p:grpSpPr>
          <a:xfrm>
            <a:off x="6424560" y="3164040"/>
            <a:ext cx="2500200" cy="1431720"/>
            <a:chOff x="6424560" y="3164040"/>
            <a:chExt cx="2500200" cy="1431720"/>
          </a:xfrm>
        </p:grpSpPr>
        <p:pic>
          <p:nvPicPr>
            <p:cNvPr id="82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6424560" y="3164040"/>
              <a:ext cx="2500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500880" y="3214800"/>
              <a:ext cx="23572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Художественная лите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5291280" y="4748040"/>
            <a:ext cx="3066840" cy="1298880"/>
            <a:chOff x="5291280" y="4748040"/>
            <a:chExt cx="3066840" cy="1298880"/>
          </a:xfrm>
        </p:grpSpPr>
        <p:pic>
          <p:nvPicPr>
            <p:cNvPr id="85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5291280" y="4748040"/>
              <a:ext cx="3066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364000" y="4797360"/>
              <a:ext cx="29289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Дидактические иг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152280" y="2730600"/>
            <a:ext cx="2786040" cy="1433520"/>
            <a:chOff x="152280" y="2730600"/>
            <a:chExt cx="2786040" cy="1433520"/>
          </a:xfrm>
        </p:grpSpPr>
        <p:pic>
          <p:nvPicPr>
            <p:cNvPr id="88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152280" y="2730600"/>
              <a:ext cx="278604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50920" y="2781360"/>
              <a:ext cx="2592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Сюжетно – ролевая иг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Стрелка вниз 10"/>
          <p:cNvSpPr/>
          <p:nvPr/>
        </p:nvSpPr>
        <p:spPr>
          <a:xfrm flipH="1" rot="1491000">
            <a:off x="3580920" y="4138560"/>
            <a:ext cx="406080" cy="517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11"/>
          <p:cNvSpPr/>
          <p:nvPr/>
        </p:nvSpPr>
        <p:spPr>
          <a:xfrm flipH="1" rot="5245800">
            <a:off x="2952720" y="3251160"/>
            <a:ext cx="360360" cy="4334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12"/>
          <p:cNvSpPr/>
          <p:nvPr/>
        </p:nvSpPr>
        <p:spPr>
          <a:xfrm flipH="1" rot="13960200">
            <a:off x="5572440" y="2288880"/>
            <a:ext cx="433440" cy="547560"/>
          </a:xfrm>
          <a:prstGeom prst="downArrow">
            <a:avLst>
              <a:gd name="adj1" fmla="val 55389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13"/>
          <p:cNvSpPr/>
          <p:nvPr/>
        </p:nvSpPr>
        <p:spPr>
          <a:xfrm rot="7832400">
            <a:off x="3539520" y="2257200"/>
            <a:ext cx="390600" cy="6415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низ 14"/>
          <p:cNvSpPr/>
          <p:nvPr/>
        </p:nvSpPr>
        <p:spPr>
          <a:xfrm flipH="1" rot="20809800">
            <a:off x="5417280" y="4115880"/>
            <a:ext cx="406440" cy="5176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Прямоугольник 15"/>
          <p:cNvGrpSpPr/>
          <p:nvPr/>
        </p:nvGrpSpPr>
        <p:grpSpPr>
          <a:xfrm>
            <a:off x="3292560" y="2809800"/>
            <a:ext cx="2955960" cy="1420920"/>
            <a:chOff x="3292560" y="2809800"/>
            <a:chExt cx="2955960" cy="1420920"/>
          </a:xfrm>
        </p:grpSpPr>
        <p:pic>
          <p:nvPicPr>
            <p:cNvPr id="9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3292560" y="2809800"/>
              <a:ext cx="29559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19640" y="2852640"/>
              <a:ext cx="2643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a4c75"/>
                  </a:solidFill>
                  <a:latin typeface="Times New Roman"/>
                  <a:ea typeface="Times New Roman"/>
                </a:rPr>
                <a:t>Развитие связной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трелка вниз 16"/>
          <p:cNvSpPr/>
          <p:nvPr/>
        </p:nvSpPr>
        <p:spPr>
          <a:xfrm flipH="1" rot="16200000">
            <a:off x="6121440" y="3321000"/>
            <a:ext cx="3585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Прямоугольник 18"/>
          <p:cNvGrpSpPr/>
          <p:nvPr/>
        </p:nvGrpSpPr>
        <p:grpSpPr>
          <a:xfrm>
            <a:off x="6284880" y="1736640"/>
            <a:ext cx="2590920" cy="1360440"/>
            <a:chOff x="6284880" y="1736640"/>
            <a:chExt cx="2590920" cy="1360440"/>
          </a:xfrm>
        </p:grpSpPr>
        <p:pic>
          <p:nvPicPr>
            <p:cNvPr id="100" name="Прямоугольник 18" descr=""/>
            <p:cNvPicPr/>
            <p:nvPr/>
          </p:nvPicPr>
          <p:blipFill>
            <a:blip r:embed="rId10"/>
            <a:stretch/>
          </p:blipFill>
          <p:spPr>
            <a:xfrm>
              <a:off x="6284880" y="1736640"/>
              <a:ext cx="259092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357960" y="1785960"/>
              <a:ext cx="2448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особия для проведения артикуляционных упражн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Стрелка вниз 19"/>
          <p:cNvSpPr/>
          <p:nvPr/>
        </p:nvSpPr>
        <p:spPr>
          <a:xfrm flipH="1" rot="10566600">
            <a:off x="4357800" y="2180880"/>
            <a:ext cx="366480" cy="58572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Прямоугольник 17"/>
          <p:cNvGrpSpPr/>
          <p:nvPr/>
        </p:nvGrpSpPr>
        <p:grpSpPr>
          <a:xfrm>
            <a:off x="5638680" y="311040"/>
            <a:ext cx="2000520" cy="1359000"/>
            <a:chOff x="5638680" y="311040"/>
            <a:chExt cx="2000520" cy="1359000"/>
          </a:xfrm>
        </p:grpSpPr>
        <p:pic>
          <p:nvPicPr>
            <p:cNvPr id="104" name="Прямоугольник 17" descr=""/>
            <p:cNvPicPr/>
            <p:nvPr/>
          </p:nvPicPr>
          <p:blipFill>
            <a:blip r:embed="rId11"/>
            <a:stretch/>
          </p:blipFill>
          <p:spPr>
            <a:xfrm>
              <a:off x="5638680" y="311040"/>
              <a:ext cx="20005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715000" y="357120"/>
              <a:ext cx="18572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Художественное творч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Стрелка вниз 20"/>
          <p:cNvSpPr/>
          <p:nvPr/>
        </p:nvSpPr>
        <p:spPr>
          <a:xfrm flipH="1" rot="11679600">
            <a:off x="4947480" y="2225520"/>
            <a:ext cx="366840" cy="5860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"/>
          <p:cNvSpPr/>
          <p:nvPr/>
        </p:nvSpPr>
        <p:spPr>
          <a:xfrm>
            <a:off x="714240" y="5716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4c75"/>
                </a:solidFill>
                <a:latin typeface="Times New Roman"/>
                <a:ea typeface="Times New Roman"/>
              </a:rPr>
              <a:t>Мнемотехника </a:t>
            </a:r>
            <a:r>
              <a:rPr b="1" i="1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- в переводе с греческого - «искусство запоминания». Это система методов и приемов, обеспечивающих успешное запоминание, сохранение и воспроизведение информации, знаний об особенностях объектов природы, об окружающем мире, эффективное запоминание структуры рассказа, и, конечно, развитие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755640" y="199116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a4c75"/>
                </a:solidFill>
                <a:latin typeface="Times New Roman"/>
                <a:ea typeface="Times New Roman"/>
              </a:rPr>
              <a:t>Использование мнемотехники в процессе развития речи имеет два асп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ужит определённым методом позн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вляется программой для анализа новых явл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2554200" y="4762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4c75"/>
                </a:solidFill>
                <a:latin typeface="Times New Roman"/>
                <a:ea typeface="Times New Roman"/>
              </a:rPr>
              <a:t>Структура мнемо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3059280" y="1413000"/>
            <a:ext cx="2736720" cy="93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НЕМОКВАД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3059280" y="285264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НЕМОДО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3059280" y="429264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НЕМО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6"/>
          <p:cNvSpPr/>
          <p:nvPr/>
        </p:nvSpPr>
        <p:spPr>
          <a:xfrm>
            <a:off x="4356000" y="2421000"/>
            <a:ext cx="71640" cy="360360"/>
          </a:xfrm>
          <a:prstGeom prst="downArrow">
            <a:avLst>
              <a:gd name="adj1" fmla="val 50000"/>
              <a:gd name="adj2" fmla="val 498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7"/>
          <p:cNvSpPr/>
          <p:nvPr/>
        </p:nvSpPr>
        <p:spPr>
          <a:xfrm>
            <a:off x="4356000" y="981000"/>
            <a:ext cx="71640" cy="360360"/>
          </a:xfrm>
          <a:prstGeom prst="downArrow">
            <a:avLst>
              <a:gd name="adj1" fmla="val 50000"/>
              <a:gd name="adj2" fmla="val 498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8"/>
          <p:cNvSpPr/>
          <p:nvPr/>
        </p:nvSpPr>
        <p:spPr>
          <a:xfrm>
            <a:off x="4356000" y="3860640"/>
            <a:ext cx="71640" cy="360360"/>
          </a:xfrm>
          <a:prstGeom prst="downArrow">
            <a:avLst>
              <a:gd name="adj1" fmla="val 50000"/>
              <a:gd name="adj2" fmla="val 498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2214720" y="1143000"/>
            <a:ext cx="4786200" cy="49291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117" name="TextBox 2"/>
          <p:cNvSpPr/>
          <p:nvPr/>
        </p:nvSpPr>
        <p:spPr>
          <a:xfrm>
            <a:off x="2550960" y="476280"/>
            <a:ext cx="35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4c75"/>
                </a:solidFill>
                <a:latin typeface="Times New Roman"/>
                <a:ea typeface="Times New Roman"/>
              </a:rPr>
              <a:t>Мнемо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428840" y="1214280"/>
            <a:ext cx="6643440" cy="49834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2550960" y="476280"/>
            <a:ext cx="35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4c75"/>
                </a:solidFill>
                <a:latin typeface="Times New Roman"/>
                <a:ea typeface="Times New Roman"/>
              </a:rPr>
              <a:t>Мнемодор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2550960" y="476280"/>
            <a:ext cx="35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4c75"/>
                </a:solidFill>
                <a:latin typeface="Times New Roman"/>
                <a:ea typeface="Times New Roman"/>
              </a:rPr>
              <a:t>Мнемо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Users\290758\Desktop\развитие связной речи\мнемотехника\Тематический комплект мнемотехника\МНЕМОТАБЛИЦЫ ДЛЯ ЗАУЧИВАНИЯ СТИХОТВОРЕНИЙ\252.jpg"/>
          <p:cNvPicPr/>
          <p:nvPr/>
        </p:nvPicPr>
        <p:blipFill>
          <a:blip r:embed="rId1"/>
          <a:stretch/>
        </p:blipFill>
        <p:spPr>
          <a:xfrm>
            <a:off x="2286000" y="932040"/>
            <a:ext cx="4586400" cy="528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Овал 8"/>
          <p:cNvSpPr/>
          <p:nvPr/>
        </p:nvSpPr>
        <p:spPr>
          <a:xfrm>
            <a:off x="3571920" y="2852640"/>
            <a:ext cx="2368440" cy="144000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немо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1"/>
          <p:cNvSpPr/>
          <p:nvPr/>
        </p:nvSpPr>
        <p:spPr>
          <a:xfrm>
            <a:off x="2643120" y="1000080"/>
            <a:ext cx="2087640" cy="144000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гащать словарн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2"/>
          <p:cNvSpPr/>
          <p:nvPr/>
        </p:nvSpPr>
        <p:spPr>
          <a:xfrm>
            <a:off x="5651640" y="1341360"/>
            <a:ext cx="2087280" cy="144000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связанную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3"/>
          <p:cNvSpPr/>
          <p:nvPr/>
        </p:nvSpPr>
        <p:spPr>
          <a:xfrm>
            <a:off x="4788000" y="4508640"/>
            <a:ext cx="3205080" cy="143964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ть устанавливать причинно -следственны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4"/>
          <p:cNvSpPr/>
          <p:nvPr/>
        </p:nvSpPr>
        <p:spPr>
          <a:xfrm>
            <a:off x="6588000" y="2852640"/>
            <a:ext cx="2087640" cy="144000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внимание, 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6"/>
          <p:cNvSpPr/>
          <p:nvPr/>
        </p:nvSpPr>
        <p:spPr>
          <a:xfrm>
            <a:off x="684360" y="2924280"/>
            <a:ext cx="2232000" cy="144144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речеслуховую и  зрите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7"/>
          <p:cNvSpPr/>
          <p:nvPr/>
        </p:nvSpPr>
        <p:spPr>
          <a:xfrm>
            <a:off x="1835280" y="4437000"/>
            <a:ext cx="2592360" cy="144144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реобразование образов в симв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19"/>
          <p:cNvSpPr/>
          <p:nvPr/>
        </p:nvSpPr>
        <p:spPr>
          <a:xfrm flipH="1" rot="2511600">
            <a:off x="3853800" y="4078080"/>
            <a:ext cx="203040" cy="5173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20"/>
          <p:cNvSpPr/>
          <p:nvPr/>
        </p:nvSpPr>
        <p:spPr>
          <a:xfrm flipH="1" rot="5001600">
            <a:off x="3265560" y="3264480"/>
            <a:ext cx="188640" cy="58428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21"/>
          <p:cNvSpPr/>
          <p:nvPr/>
        </p:nvSpPr>
        <p:spPr>
          <a:xfrm flipH="1" rot="19669800">
            <a:off x="5701680" y="4017960"/>
            <a:ext cx="198000" cy="517680"/>
          </a:xfrm>
          <a:prstGeom prst="downArrow">
            <a:avLst>
              <a:gd name="adj1" fmla="val 50000"/>
              <a:gd name="adj2" fmla="val 501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22"/>
          <p:cNvSpPr/>
          <p:nvPr/>
        </p:nvSpPr>
        <p:spPr>
          <a:xfrm flipH="1" rot="16200000">
            <a:off x="6091200" y="3278160"/>
            <a:ext cx="216000" cy="5176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низ 23"/>
          <p:cNvSpPr/>
          <p:nvPr/>
        </p:nvSpPr>
        <p:spPr>
          <a:xfrm flipH="1" rot="13723800">
            <a:off x="5442840" y="2498400"/>
            <a:ext cx="250920" cy="5173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низ 24"/>
          <p:cNvSpPr/>
          <p:nvPr/>
        </p:nvSpPr>
        <p:spPr>
          <a:xfrm flipH="1" rot="10574400">
            <a:off x="3945960" y="2435040"/>
            <a:ext cx="215640" cy="517320"/>
          </a:xfrm>
          <a:prstGeom prst="downArrow">
            <a:avLst>
              <a:gd name="adj1" fmla="val 50000"/>
              <a:gd name="adj2" fmla="val 483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714240" y="4287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a4c75"/>
                </a:solidFill>
                <a:latin typeface="Times New Roman"/>
                <a:ea typeface="Times New Roman"/>
              </a:rPr>
              <a:t>Овладение приёмами мнемотехники решает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0:27Z</dcterms:created>
  <dc:creator>ppsworld.ru</dc:creator>
  <dc:description/>
  <dc:language>en-US</dc:language>
  <cp:lastModifiedBy>777</cp:lastModifiedBy>
  <dcterms:modified xsi:type="dcterms:W3CDTF">2022-04-02T06:37:54Z</dcterms:modified>
  <cp:revision>122</cp:revision>
  <dc:subject/>
  <dc:title>PRESENTATION  NAME</dc:title>
</cp:coreProperties>
</file>