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5EA-39DC-4F70-9E6C-00F982A0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E27-65F7-4413-9F0B-9C4385C0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189-226C-4C3E-A702-24B187C5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D91-B03E-4657-B270-D9059822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346A-A101-4574-BA36-F302CB53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9C8C-883D-4242-818E-EE0AAADD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2307-BD7D-4D83-B111-C524547C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B57F-605B-4690-9026-10877AFE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6A87-E783-4827-9A18-12039213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672D-601D-4738-86DA-377ABDD5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76DB-1090-4412-AFCC-5BCD213F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C95-2F51-4236-AF86-8219E519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65C5-3006-4135-BBCE-5FBDEB46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F311-979F-4B87-B75E-86DD1301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352A-5054-4A91-B055-2F45EE4B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B3EE-009C-421E-BAA1-4CAA9A75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C2A1-AF6B-45AF-A3A2-CC479697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83B2-8ADD-4D18-A7DB-A24C90A1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38547-2FB5-4F5D-8728-269931C1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F8DD-0793-4082-825A-D9D9733F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4BA1-9A00-4323-BFDE-2E3FF7AB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42F4-A821-4F1A-9897-31F876ED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CCD-F795-4FE3-93FF-257A0108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DB58-ED0F-497F-9106-840D4D57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FBF1-C124-4488-A843-EC805CC4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76D6-C7C4-4B14-8F90-C4884366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F165-A6D9-4F5A-ABBD-E09D6240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9934-6AA6-4DA6-8FE3-6702F15E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A316-2D61-4A9E-85E9-5DE8DB21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D56A-DD50-4A44-99EA-EE0A70A7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63408-314A-4FF7-8AB7-6F1FB640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BF40B-9EF2-4DD4-9D5D-0F963654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D1A2-DCCF-46F4-ADB2-60DB1196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48F-929B-4F0E-B90D-B15CC2DD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B808F-391A-4609-9F0E-5CEF60F3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F4C9-4DC3-4C2C-A38E-E0998106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001F4-EF04-44A8-B886-A05091B8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B8B8-5E39-49E6-9333-488422B9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FF880-98B9-48F7-88AC-78316B3B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FA4C-4382-4209-B140-A6650FB0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0FAE7-41F3-4DE0-8A54-1F1FF5E2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0DED8-0440-4786-914B-008704FE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A53E-AFD4-4AAC-AC15-10C4446A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0E26F-A1F0-40BD-BB12-970D1F0B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65F-140A-4A19-9195-A5E3FD33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7DBFB-134A-4B53-A2FB-F1E75C35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49D3C-47AC-48C2-A08C-88FE990B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FA6D8-609C-4B62-885C-51F16C30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5A5DC-E6E9-47A6-99BE-8DF408AF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D8C21-1BDE-4749-B17C-4E9D6319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E3526-CC30-47A0-85DA-42C9C0CD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FC928-1218-4413-9797-52F04E48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17A4-324B-4D25-90FC-1786533C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CB5E0-3465-4700-A849-5DC319F8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E9D02-4251-4002-A798-0583AAC9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B6B-B50E-47B7-B4AD-B2B46DAD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C422C-4216-4167-BFC3-FFD7AC7E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FD143-A8B4-415B-873E-79483345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97C81-8A14-4B73-8C39-70DE5FCD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B4A75-A53F-4815-B567-08A78BBA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11A6-9C47-4692-B634-10DB62E1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CA225-5185-40DF-8797-44AFAD26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CCE65-F4C0-4525-9544-3C9E794D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A8AA2-4BC2-4732-88D2-8EB81CE2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8A9E3-4212-421A-AA48-37473EB3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03B7D-373A-4B21-8D0A-E492EC6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514-BCAC-44E2-8211-912A8C33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39A91-3E71-46D6-9445-8F603C1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ADBEA-D7EE-4959-9937-89860AE3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0B0F9-3593-4F49-BE9D-DB4A8415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20EB1-3504-440A-8859-12DD3471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CBF77-C80D-4B23-91AA-312123A8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401D2-4477-45C1-B1AE-00C326B8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8C18E-E1BA-4652-A958-2C665584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AAC48-7931-4EFA-B2D3-F6B30B5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9A8D8-9B2F-49EC-A2E9-A65820B0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70970-C25A-492B-ADA2-FEEC7758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28A-D568-4BBE-8438-5551A1B2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D6E6D-340B-47DE-B824-55B9EAD0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91936-18E3-42F4-973C-4D598172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AB7C3-1EB5-4368-AA75-B5D3261C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E34F4-5705-44A1-B86C-A34DA481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F7903-2061-4006-9C1A-59B3D83E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480B1-638D-4AE6-8BFD-5926800D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E6D3B-2361-4E7F-9E5A-F694B820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38C64-A045-4BDA-B646-41BC97B5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3CB17-D7CD-46F3-9E9B-21A46B88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B373E-E300-48F8-9999-6D3B1D63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DCC-24BB-4C22-A6B9-56EB568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77653-838D-45C3-BB76-27266F25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EF917-300B-4133-939C-FDCEC18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42EF8-E847-45D5-A079-60FE3E96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E4388-A626-48C6-A00A-A15FF73A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4B2EB-F245-4517-9CB5-2504A4B0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DE265-AE0A-49EC-8CC4-C073F1E8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C1A8F-080A-448C-B20D-D997BD7D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030a0">
                  <a:alpha val="1176"/>
                </a:srgbClr>
              </a:gs>
              <a:gs pos="100000">
                <a:srgbClr val="7030a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82E7-F7EE-4FF6-8079-24FDBB63EA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030a0">
                  <a:alpha val="1176"/>
                </a:srgbClr>
              </a:gs>
              <a:gs pos="100000">
                <a:srgbClr val="7030a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E72C-72E1-4A66-AEE0-9F5ACCBC6FA0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030a0">
                  <a:alpha val="1176"/>
                </a:srgbClr>
              </a:gs>
              <a:gs pos="100000">
                <a:srgbClr val="7030a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F5A5-EFE7-4323-84FA-4FBE39BEA2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030a0">
                  <a:alpha val="1176"/>
                </a:srgbClr>
              </a:gs>
              <a:gs pos="100000">
                <a:srgbClr val="7030a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C6BE-ED87-47FC-BE55-78C2858299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030a0">
                  <a:alpha val="1176"/>
                </a:srgbClr>
              </a:gs>
              <a:gs pos="100000">
                <a:srgbClr val="7030a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A711-160A-42E9-B7B6-FCACEDDC43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45E7-0B3A-42D2-8DB8-1281878BAF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202C-5931-46DB-9CF6-FE7CF9D0EB02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D455-9E31-4A2A-A8DF-7183281DBC26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396720" y="2066760"/>
            <a:ext cx="4668840" cy="18655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763280" y="4089240"/>
            <a:ext cx="28846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1462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6840" y="1600200"/>
            <a:ext cx="6202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Ярлык - …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Инквизиция - …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Идол - …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Реконкиста - …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ече - …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Меровинги - …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Гуситы - …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Русская Правда - …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1147 г. - …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1019-1054 гг. - …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1455-1485 гг. - …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8172000" y="5300280"/>
            <a:ext cx="5144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8321760" cy="1073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395280" y="112536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Ярлык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ханская грамота, дававшая право русским князьям править в своих землях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Инквизиция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церковный суд, созданный для борьбы с еретиками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Идол -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бражение божества или духа, служащее объектом религиозного поклонения у язычник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Реконкиста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освобождение христианами завоёванных мусульманами земель Пиренейского полуострова с VIII по XV вв., с успехами которого связано создание единого Испанского королевств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ече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родное собрание всех жителей города для решения наиболее важных вопрос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Меровинги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первая в истории династия франкских королей. Основатель династии - Хлодвиг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Гуситы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последователи учения Яна Гуса в Чехии, боровшиеся за реформу церкви и улучшение жизни народ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Русская Правд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- первый письменный свод законов на Руси, принят Ярославом Мудр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1147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ервое летописное упоминание о Москв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1019 – 1054 гг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правление Ярослава Мудрого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1455-1485 гг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война Алой и Белой роз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8172000" y="5300280"/>
            <a:ext cx="5144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0:19:39Z</dcterms:created>
  <dc:creator>Admin</dc:creator>
  <dc:description/>
  <dc:language>en-US</dc:language>
  <cp:lastModifiedBy>надежда надежда</cp:lastModifiedBy>
  <dcterms:modified xsi:type="dcterms:W3CDTF">2022-04-02T08:28:22Z</dcterms:modified>
  <cp:revision>121</cp:revision>
  <dc:subject/>
  <dc:title>Методы изучения природы</dc:title>
</cp:coreProperties>
</file>