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F90-7B25-4131-966D-E9978320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EF9-CA68-4449-B6AD-970AECA8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63F-EEE2-4988-B567-96E4C67E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B1C-21CC-4A28-87B7-303E7D3D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6B8-3C5D-497E-B014-662A0047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52B-7DD3-4CBA-B7D2-729394E9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B2C-8104-4F88-8512-F9DF051D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E5B-C904-485C-BEBA-5DDE4AD9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A1A-5B94-4EEE-89DD-583E76E8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E50-9BF3-493B-B018-92F69485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10A-D102-499F-912C-ED347ED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715-9D52-4C5A-93E7-611E484B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6AF5-C099-46F6-BD44-52BF023BE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7160" y="1143000"/>
          <a:ext cx="7500960" cy="322416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51753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  <a:ea typeface="Times New Roman"/>
                        </a:rPr>
                        <a:t>Творческие семейные  работы воспитанников группы раннего возраста  на районный конкур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  <a:ea typeface="Times New Roman"/>
                        </a:rPr>
                        <a:t>по пожарной безопасност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Monotype Corsiva"/>
                          <a:ea typeface="Times New Roman"/>
                        </a:rPr>
                        <a:t>              </a:t>
                      </a: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Monotype Corsiva"/>
                          <a:ea typeface="Times New Roman"/>
                        </a:rPr>
                        <a:t>«Неопалимая Купина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Ваня Комиссаров рисунок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500120" y="428760"/>
            <a:ext cx="4268880" cy="60004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43" name="Прямоугольник 3"/>
          <p:cNvSpPr/>
          <p:nvPr/>
        </p:nvSpPr>
        <p:spPr>
          <a:xfrm>
            <a:off x="5929200" y="2071800"/>
            <a:ext cx="271476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исун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«Не шути с огне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втор: Комиссаров Ва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Ваня Чистяков рисунок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85880" y="857160"/>
            <a:ext cx="7470720" cy="52261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45" name="Прямоугольник 3"/>
          <p:cNvSpPr/>
          <p:nvPr/>
        </p:nvSpPr>
        <p:spPr>
          <a:xfrm>
            <a:off x="142920" y="285840"/>
            <a:ext cx="8786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исунок «Не играй со спич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2139840" y="6072120"/>
            <a:ext cx="42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Автор: Чистяков Ва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Милана Драгунова аппликация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928800" y="785880"/>
            <a:ext cx="7243560" cy="52862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48" name="Прямоугольник 3"/>
          <p:cNvSpPr/>
          <p:nvPr/>
        </p:nvSpPr>
        <p:spPr>
          <a:xfrm>
            <a:off x="357120" y="28584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ппликация «Пожарная маш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535040" y="6072120"/>
            <a:ext cx="50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Автор: Драгунова Ми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Яна Яколева сюжетная композиция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57160" y="857160"/>
            <a:ext cx="7358040" cy="52894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51" name="Прямоугольник 3"/>
          <p:cNvSpPr/>
          <p:nvPr/>
        </p:nvSpPr>
        <p:spPr>
          <a:xfrm>
            <a:off x="857160" y="285840"/>
            <a:ext cx="74296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южетная композиция «Берегите лес от пожа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040480" y="6072120"/>
            <a:ext cx="4225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Автор: Яковлева   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Саша Гусев пластилинография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85880" y="770040"/>
            <a:ext cx="7500960" cy="53737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54" name="Прямоугольник 3"/>
          <p:cNvSpPr/>
          <p:nvPr/>
        </p:nvSpPr>
        <p:spPr>
          <a:xfrm>
            <a:off x="-331920" y="214200"/>
            <a:ext cx="9760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ластилинопластика «Спички  детям не игр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647080" y="6072120"/>
            <a:ext cx="3596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Автор: Гусев С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Ксюша Трусова макет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43160" y="428760"/>
            <a:ext cx="4969080" cy="60721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57" name="Прямоугольник 3"/>
          <p:cNvSpPr/>
          <p:nvPr/>
        </p:nvSpPr>
        <p:spPr>
          <a:xfrm>
            <a:off x="214200" y="1143000"/>
            <a:ext cx="292896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ак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«Пусть знает каждый гражданин, пожарный номер – «0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Авто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Calibri"/>
              </a:rPr>
              <a:t>Трусова Кс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7"/>
          <p:cNvSpPr/>
          <p:nvPr/>
        </p:nvSpPr>
        <p:spPr>
          <a:xfrm>
            <a:off x="500040" y="714240"/>
            <a:ext cx="8143920" cy="542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Ваня Комиссаров.jpg"/>
          <p:cNvPicPr/>
          <p:nvPr/>
        </p:nvPicPr>
        <p:blipFill>
          <a:blip r:embed="rId2"/>
          <a:stretch/>
        </p:blipFill>
        <p:spPr>
          <a:xfrm>
            <a:off x="3541680" y="3402000"/>
            <a:ext cx="2139840" cy="2992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Ваня Чистяков.jpg"/>
          <p:cNvPicPr/>
          <p:nvPr/>
        </p:nvPicPr>
        <p:blipFill>
          <a:blip r:embed="rId3"/>
          <a:stretch/>
        </p:blipFill>
        <p:spPr>
          <a:xfrm>
            <a:off x="6467400" y="3541680"/>
            <a:ext cx="2000160" cy="27925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Ксюша Трусова.jpg"/>
          <p:cNvPicPr/>
          <p:nvPr/>
        </p:nvPicPr>
        <p:blipFill>
          <a:blip r:embed="rId4"/>
          <a:stretch/>
        </p:blipFill>
        <p:spPr>
          <a:xfrm>
            <a:off x="682560" y="3614760"/>
            <a:ext cx="2000160" cy="2792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Милана Драгунова.jpg"/>
          <p:cNvPicPr/>
          <p:nvPr/>
        </p:nvPicPr>
        <p:blipFill>
          <a:blip r:embed="rId5"/>
          <a:stretch/>
        </p:blipFill>
        <p:spPr>
          <a:xfrm>
            <a:off x="3541680" y="328680"/>
            <a:ext cx="206712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Саша Гусев.jpg"/>
          <p:cNvPicPr/>
          <p:nvPr/>
        </p:nvPicPr>
        <p:blipFill>
          <a:blip r:embed="rId6"/>
          <a:stretch/>
        </p:blipFill>
        <p:spPr>
          <a:xfrm>
            <a:off x="682560" y="469800"/>
            <a:ext cx="206712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Яна Яковлева.jpg"/>
          <p:cNvPicPr/>
          <p:nvPr/>
        </p:nvPicPr>
        <p:blipFill>
          <a:blip r:embed="rId7"/>
          <a:stretch/>
        </p:blipFill>
        <p:spPr>
          <a:xfrm>
            <a:off x="6467400" y="438120"/>
            <a:ext cx="206064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a-fireman-vector-11979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714680" y="2357280"/>
            <a:ext cx="45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Презентацию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Мальцева Фируза Никола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воспитатель группы ранне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Февраль,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2T19:39:01Z</dcterms:created>
  <dc:creator>Пользователь</dc:creator>
  <dc:description/>
  <dc:language>en-US</dc:language>
  <cp:lastModifiedBy>Windows_7</cp:lastModifiedBy>
  <dcterms:modified xsi:type="dcterms:W3CDTF">2022-04-02T05:03:10Z</dcterms:modified>
  <cp:revision>17</cp:revision>
  <dc:subject/>
  <dc:title>Слайд 1</dc:title>
</cp:coreProperties>
</file>