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CFD-6970-4AD4-AA91-15DBE4E8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848-2B2D-4696-884C-0FD7D4C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930-FE8A-4FB1-BA3C-5843B3E2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14C-BD7F-4803-9C5C-22AF1027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F1F-B34A-4FD4-A596-797910F6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63F-AB16-447C-80A9-F106B27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C72-D56C-45F0-8EDE-7535DE0E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4AD-B771-436B-8EEF-D51695E6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278-9502-4216-A5A4-74DB6CF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7F9-BFCF-4CC1-815A-7E7DB31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C66-2652-4A82-B42F-FB55A63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D59-F0C1-47D7-AA4E-809DDD28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5E4-9F21-49FF-AC8A-54CBF1A4B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7160" y="1143000"/>
          <a:ext cx="7500960" cy="322416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51753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Творческие семейные  работы воспитанников группы раннего возраста  на районный конкур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по пожарной безопасност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              </a:t>
                      </a: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«Неопалимая Купина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Ваня Комиссаров рисунок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00120" y="428760"/>
            <a:ext cx="4268880" cy="6000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3" name="Прямоугольник 3"/>
          <p:cNvSpPr/>
          <p:nvPr/>
        </p:nvSpPr>
        <p:spPr>
          <a:xfrm>
            <a:off x="5929200" y="2071800"/>
            <a:ext cx="27147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исун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«Не шути с огне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втор: Комиссаров 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Ваня Чистяков рисунок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85880" y="857160"/>
            <a:ext cx="7470720" cy="52261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285840"/>
            <a:ext cx="878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исунок «Не играй со спи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139840" y="607212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Чистяков 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Милана Драгунова аппликация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928800" y="785880"/>
            <a:ext cx="7243560" cy="5286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8" name="Прямоугольник 3"/>
          <p:cNvSpPr/>
          <p:nvPr/>
        </p:nvSpPr>
        <p:spPr>
          <a:xfrm>
            <a:off x="357120" y="2858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ппликация «Пожарная маш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535040" y="6072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Автор: Драгунова Ми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Яна Яколева сюжетная композиция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57160" y="857160"/>
            <a:ext cx="7358040" cy="5289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1" name="Прямоугольник 3"/>
          <p:cNvSpPr/>
          <p:nvPr/>
        </p:nvSpPr>
        <p:spPr>
          <a:xfrm>
            <a:off x="857160" y="285840"/>
            <a:ext cx="74296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южетная композиция «Берегите лес от пожа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040480" y="6072120"/>
            <a:ext cx="4225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Яковлева   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аша Гусев пластилинография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85880" y="770040"/>
            <a:ext cx="7500960" cy="5373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4" name="Прямоугольник 3"/>
          <p:cNvSpPr/>
          <p:nvPr/>
        </p:nvSpPr>
        <p:spPr>
          <a:xfrm>
            <a:off x="-331920" y="214200"/>
            <a:ext cx="9760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ластилинопластика «Спички  детям не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647080" y="6072120"/>
            <a:ext cx="3596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Гусев 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Ксюша Трусова макет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43160" y="428760"/>
            <a:ext cx="4969080" cy="60721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7" name="Прямоугольник 3"/>
          <p:cNvSpPr/>
          <p:nvPr/>
        </p:nvSpPr>
        <p:spPr>
          <a:xfrm>
            <a:off x="214200" y="1143000"/>
            <a:ext cx="29289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к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«Пусть знает каждый гражданин, пожарный номер – «0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Трусова Кс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7"/>
          <p:cNvSpPr/>
          <p:nvPr/>
        </p:nvSpPr>
        <p:spPr>
          <a:xfrm>
            <a:off x="500040" y="714240"/>
            <a:ext cx="8143920" cy="542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Ваня Комиссаров.jpg"/>
          <p:cNvPicPr/>
          <p:nvPr/>
        </p:nvPicPr>
        <p:blipFill>
          <a:blip r:embed="rId2"/>
          <a:stretch/>
        </p:blipFill>
        <p:spPr>
          <a:xfrm>
            <a:off x="3541680" y="3402000"/>
            <a:ext cx="2139840" cy="2992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Ваня Чистяков.jpg"/>
          <p:cNvPicPr/>
          <p:nvPr/>
        </p:nvPicPr>
        <p:blipFill>
          <a:blip r:embed="rId3"/>
          <a:stretch/>
        </p:blipFill>
        <p:spPr>
          <a:xfrm>
            <a:off x="6467400" y="3541680"/>
            <a:ext cx="2000160" cy="2792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Ксюша Трусова.jpg"/>
          <p:cNvPicPr/>
          <p:nvPr/>
        </p:nvPicPr>
        <p:blipFill>
          <a:blip r:embed="rId4"/>
          <a:stretch/>
        </p:blipFill>
        <p:spPr>
          <a:xfrm>
            <a:off x="682560" y="3614760"/>
            <a:ext cx="2000160" cy="2792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Милана Драгунова.jpg"/>
          <p:cNvPicPr/>
          <p:nvPr/>
        </p:nvPicPr>
        <p:blipFill>
          <a:blip r:embed="rId5"/>
          <a:stretch/>
        </p:blipFill>
        <p:spPr>
          <a:xfrm>
            <a:off x="3541680" y="328680"/>
            <a:ext cx="206712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Саша Гусев.jpg"/>
          <p:cNvPicPr/>
          <p:nvPr/>
        </p:nvPicPr>
        <p:blipFill>
          <a:blip r:embed="rId6"/>
          <a:stretch/>
        </p:blipFill>
        <p:spPr>
          <a:xfrm>
            <a:off x="682560" y="469800"/>
            <a:ext cx="206712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Яна Яковлева.jpg"/>
          <p:cNvPicPr/>
          <p:nvPr/>
        </p:nvPicPr>
        <p:blipFill>
          <a:blip r:embed="rId7"/>
          <a:stretch/>
        </p:blipFill>
        <p:spPr>
          <a:xfrm>
            <a:off x="6467400" y="438120"/>
            <a:ext cx="20606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a-fireman-vector-1197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714680" y="2357280"/>
            <a:ext cx="45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Мальцева Фируз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воспитатель группы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Февраль,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2T19:39:01Z</dcterms:created>
  <dc:creator>Пользователь</dc:creator>
  <dc:description/>
  <dc:language>en-US</dc:language>
  <cp:lastModifiedBy>Windows_7</cp:lastModifiedBy>
  <dcterms:modified xsi:type="dcterms:W3CDTF">2022-04-02T05:03:10Z</dcterms:modified>
  <cp:revision>17</cp:revision>
  <dc:subject/>
  <dc:title>Слайд 1</dc:title>
</cp:coreProperties>
</file>