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E7DD-C37C-42A8-9EF5-10D68BA15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E982-49FE-45B8-9188-EFF89C69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293C-E82E-44A9-9A70-250FA1E33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612A-6DB5-4A3C-99D4-624570DAC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9627-8090-485C-94D3-63F053168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5D40-A242-40B8-AD78-CC406011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A307-172B-41BB-BC40-8B429922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FF02-C9D8-4B45-AD3A-9BE4998B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052C2-E414-40EC-B86F-377A4655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32F7-B573-46F9-BCCE-3F883EBC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78C2-6F55-4F5A-A291-0B668773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13EA-6AB9-48FA-80EB-B6E43128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1183-D086-40D8-8C6A-B201752C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D431-4348-433D-97B2-7DA4C2A8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939A-DF66-440A-B7D2-1D9F11E1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9DBE-0F63-4958-889F-DFCA0B803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10B5-257C-438B-A8E3-F051578B9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CAF7-0122-4345-9F54-2D18465E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5E49-4D13-43BE-9914-D603960C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0245-03B3-4E2D-9719-B4384A53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EBFA-4CC5-416A-B18B-6A3FD6DF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AD66-C65E-4654-AED6-994A9CF8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9A7F-EE7F-4D11-B503-A048C5A4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ED07-1F62-4133-9638-1778EDD5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F817-D649-4AB3-A45A-4BE74B7300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BADC-97CB-4471-BFAB-AF7ECB1155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944640" y="907920"/>
            <a:ext cx="7785000" cy="1085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571680"/>
            <a:ext cx="792936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Отравление хлором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42960" y="1356840"/>
            <a:ext cx="7858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зообразный хлор и химические соединения , содержащие хлор в активной форме, опасны для здоровья человек (токсичны). При вдыхании этого газа возможно острое и хроническое отравления. Клинические формы зависят от концентрации хлора в воздухе и продолжительности экспозиции. Различают четыре формы острого отравления хлором: молниеносная, тяжелая, средней тяжести и легкая. Для всех этих форм типична резккая первичная реакция на воздействие газа. Газ вызывает рефлекторные защитные симптомы(кашель , першение в горле, слезотечени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аленные последствия перенесенного острого отравления хлором проявляется как хронический фарингит, ларингит, трахеит, трахеобронхит , пневмосклероз, эмфизема легких, легочно-сердечная недостаточ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Содержимое 4" descr="400px-Skull_and_crossbones.svg.png"/>
          <p:cNvPicPr/>
          <p:nvPr/>
        </p:nvPicPr>
        <p:blipFill>
          <a:blip r:embed="rId1"/>
          <a:stretch/>
        </p:blipFill>
        <p:spPr>
          <a:xfrm>
            <a:off x="7358040" y="5072040"/>
            <a:ext cx="1785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79293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Влияние хлора на организм   человека</a:t>
            </a:r>
            <a:endParaRPr b="0" lang="en-US" sz="40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85520" y="1214280"/>
            <a:ext cx="7715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е локальных поражений организма, хлорированная  вода может вызвать гораздо более серьезные проблемы со здоровьем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егулярном многолетнем контакте ,хлорка может стать причиной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гологических заболеван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очных заболеваний (в т.ч. астмы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трение аллерг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трение псориаза( хроническое неинфекционное заболевани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ы переизбытка хлора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и в гру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кий каш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ь и сухость в глаза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ные бо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79293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Отравление соляной кислотой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85520" y="1214280"/>
            <a:ext cx="7715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яная кислота ядовита. Отравление происходит обычно туманом, образующимся при взаимодействии газа с водяными парами воздуха. На отравление указывает удушливый кашель, головная боль, резь в глазах, заложенность носа и ушей. Наблюдается раздражение слизистых оболочек. Если в этом случае не предпринять никаких мер, отравление переходит в хроническую форму. Это приводит к разрушению зубов, к расстройствам желудка, кишечника. При попадании на кожу происходит химический ожог. Тяжесть ожога зависит от степени поражения и концентрации. Если был контакт с большим количеством кислоты, развивается массивный обширный отек. При попадании в ротовую полость в первую очередь обжигается язык, небо, гортань, потом только пищевод и кишечник. Ожоги сопровождаются сильными болями часто с примесями кров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Содержимое 4" descr="400px-Skull_and_crossbones.svg.png"/>
          <p:cNvPicPr/>
          <p:nvPr/>
        </p:nvPicPr>
        <p:blipFill>
          <a:blip r:embed="rId1"/>
          <a:stretch/>
        </p:blipFill>
        <p:spPr>
          <a:xfrm>
            <a:off x="7358040" y="5072040"/>
            <a:ext cx="1785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79293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Практическая часть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99720" y="1214280"/>
            <a:ext cx="7715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ктикуме по изучению свойств соляной кислоты предлагается следующ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: воздействие соляной кислоты и воды на жвач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оведения опыта мы приготовили 2 пробирк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пробир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 раствором 14%-ной соляной кисло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пробир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 дистиллированной вод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бирке под №2 оболочка жвачки быстро растворилась , жвачка стала жесткая и твердая. На 3-й день объем жвачки увеличился вдвое, она стала более рыхлая, перистая, намного мягче. Из этого можно сделать вывод, чт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став жвачки входит резиновое вещество с трехмерной структурой. Значит, жвачка, которая попала в желудок, разбухает, и очень долго не будет перевариваться. Вода жвачку не растворя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79293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Практическая часть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pic>
        <p:nvPicPr>
          <p:cNvPr id="117" name="Содержимое 3" descr="20220401_084728.jpg"/>
          <p:cNvPicPr/>
          <p:nvPr/>
        </p:nvPicPr>
        <p:blipFill>
          <a:blip r:embed="rId1"/>
          <a:stretch/>
        </p:blipFill>
        <p:spPr>
          <a:xfrm>
            <a:off x="1500120" y="150012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" descr="20220401_084759"/>
          <p:cNvPicPr/>
          <p:nvPr/>
        </p:nvPicPr>
        <p:blipFill>
          <a:blip r:embed="rId2"/>
          <a:stretch/>
        </p:blipFill>
        <p:spPr>
          <a:xfrm>
            <a:off x="5019840" y="1500120"/>
            <a:ext cx="2624040" cy="3511440"/>
          </a:xfrm>
          <a:prstGeom prst="rect">
            <a:avLst/>
          </a:prstGeom>
          <a:ln w="0">
            <a:noFill/>
          </a:ln>
        </p:spPr>
      </p:pic>
      <p:sp>
        <p:nvSpPr>
          <p:cNvPr id="120" name="Содержимое 2"/>
          <p:cNvSpPr/>
          <p:nvPr/>
        </p:nvSpPr>
        <p:spPr>
          <a:xfrm>
            <a:off x="785880" y="5143680"/>
            <a:ext cx="742932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ирка №1                                  Пробирка №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одой                                   с соляной кисло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79293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Заключение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85520" y="1214280"/>
            <a:ext cx="7715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р является неотъемлемой частью нашей жизни, начиная от микроэлемента в теле человека и заканчивая универсальным средством очищ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яная кислота так же, как и хлор является жизненно необходимым веществом для организма человека. Именно соляной кислоте природа «поручила» процесс расщепления пищи в организме. Концентрация кислоты в желудке составляет всего 0,4% , но этого оказывается достаточно, чтобы за неделю переварить бритвенное лезв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680" y="1428480"/>
            <a:ext cx="7929360" cy="37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pic>
        <p:nvPicPr>
          <p:cNvPr id="124" name="Picture 2" descr="Хлор"/>
          <p:cNvPicPr/>
          <p:nvPr/>
        </p:nvPicPr>
        <p:blipFill>
          <a:blip r:embed="rId1"/>
          <a:stretch/>
        </p:blipFill>
        <p:spPr>
          <a:xfrm>
            <a:off x="6429240" y="435780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https://fb.ru/misc/i/gallery/13639/2203252.jpg"/>
          <p:cNvPicPr/>
          <p:nvPr/>
        </p:nvPicPr>
        <p:blipFill>
          <a:blip r:embed="rId2"/>
          <a:stretch/>
        </p:blipFill>
        <p:spPr>
          <a:xfrm>
            <a:off x="1143000" y="857160"/>
            <a:ext cx="17780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28440" y="857160"/>
            <a:ext cx="7643880" cy="521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Основные задачи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ыяснить, наносить ли хлор вред организму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Выяснить, какие допустимые нормы хлора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ыяснить, зачем человеку соляная кислота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аковы источники соляной кислоты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делать соответствующие вывод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d6009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D:\Documents and Settings\Admin\Мои документы\Downloads\558px-Electron_shell_017_Chlorine.svg.png"/>
          <p:cNvPicPr/>
          <p:nvPr/>
        </p:nvPicPr>
        <p:blipFill>
          <a:blip r:embed="rId1"/>
          <a:stretch/>
        </p:blipFill>
        <p:spPr>
          <a:xfrm>
            <a:off x="3571920" y="1357200"/>
            <a:ext cx="491652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57160" y="1143000"/>
            <a:ext cx="2928960" cy="92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Хлор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(Cl) -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элемент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II A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группы</a:t>
            </a:r>
            <a:endParaRPr b="0" lang="en-US" sz="2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857160" y="4429080"/>
          <a:ext cx="3214800" cy="606600"/>
        </p:xfrm>
        <a:graphic>
          <a:graphicData uri="http://schemas.openxmlformats.org/drawingml/2006/table">
            <a:tbl>
              <a:tblPr/>
              <a:tblGrid>
                <a:gridCol w="1571760"/>
                <a:gridCol w="1643040"/>
              </a:tblGrid>
              <a:tr h="60660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епени окис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 6, 5, 4, 3, 1, −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9694"/>
                    </a:solidFill>
                  </a:tcPr>
                </a:tc>
              </a:tr>
            </a:tbl>
          </a:graphicData>
        </a:graphic>
      </p:graphicFrame>
      <p:pic>
        <p:nvPicPr>
          <p:cNvPr id="89" name="Picture 1" descr="D:\Documents and Settings\Admin\Мои документы\Downloads\Cl.jpg"/>
          <p:cNvPicPr/>
          <p:nvPr/>
        </p:nvPicPr>
        <p:blipFill>
          <a:blip r:embed="rId2"/>
          <a:stretch/>
        </p:blipFill>
        <p:spPr>
          <a:xfrm>
            <a:off x="1428840" y="2357280"/>
            <a:ext cx="15746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2600" y="42840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0093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Зачем человеку соляная кислота</a:t>
            </a:r>
            <a:r>
              <a:rPr b="0" lang="en-US" sz="2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?</a:t>
            </a:r>
            <a:endParaRPr b="0" lang="en-US" sz="28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42960" y="1600200"/>
            <a:ext cx="785808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ая функция желудка- это выделение соляной кислоты и желудочного сока. Кислота выполняет одну из важных функций- обезвреживание поступивший в организм пищи от микробов. Соляная кислота, которую выделяет желудок способна уби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-95% всех попадающих с пищей бактерий. Кроме того, кислота подготавливает к перевариванию самые сложные продукты-бел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2600" y="428760"/>
            <a:ext cx="7929720" cy="43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Источники соляной кислоты</a:t>
            </a:r>
            <a:r>
              <a:rPr b="0" lang="en-US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ту выделяют специальные клетки, расположенные в стенке желудка, они называются главные клетки или париетальные клетки. В каждой такой клетки  есть специальные насос. Он качает ионы водорода в желудок, там они соединяются с ионами хлора и получается соляная кислота. В норме желудочный сок имеет кислую реакцию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.5-1.8), что обусловлено соляной кислотой. Соляная кислота активирует ферменты, превращая пепсиногены в пепсины.</a:t>
            </a:r>
            <a:endParaRPr b="0" lang="en-US" sz="2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93" name="Прямоугольник 7"/>
          <p:cNvSpPr/>
          <p:nvPr/>
        </p:nvSpPr>
        <p:spPr>
          <a:xfrm>
            <a:off x="1357200" y="4786200"/>
            <a:ext cx="6357960" cy="192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рганизме человека и животных хлор содержится в основном в межклеточных жидкостях (в том числе в крови) и играет важную роль в регуляции осмотических процессов, а также в процессах, связанных с работой нервных кле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4996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d60093"/>
                </a:solidFill>
                <a:latin typeface="Calibri"/>
              </a:rPr>
              <a:t>?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Зачем человеку хлор</a:t>
            </a:r>
            <a:r>
              <a:rPr b="0" lang="en-US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?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тно-щелочный баланс организм – это обмен натрия, хлора и калия. Все эти три элемента должны быть в межклеточной жидкости, крови и костях. При нарушения баланса человек начинает болеть Если обмен хлора в организме нарушен, это сразу же сказывается на самочувстви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т появится отеки рук,  ног , лица , сердце начинает работать с перебоям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орегуляция- совокупность процессов происходящих в живом организме. Хлор является активным осмотическим макроэлементом , поскольку он- постоянный участник всех этих процессов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ще одна полезная роль хлора- помогать человеку удерживать воду в тканях, Хлор также способен помочь вывести токсины из тканей, помогает крови оставаться здоровой.</a:t>
            </a:r>
            <a:br>
              <a:rPr sz="2000"/>
            </a:br>
            <a:endParaRPr b="0" lang="en-US" sz="20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Источники хлора 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14240" y="1571400"/>
            <a:ext cx="77868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ти вся суточная норма- а  именно 90% хлора- поступает в организм человека, когда он солит продукты, то есть с солью. В продуктах  хлора  достаточно мало, много разве что в хлебе или сыре. Больше всего хлора поступает в организм человека с хлорированной вод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285920" y="3500280"/>
          <a:ext cx="6929280" cy="2000520"/>
        </p:xfrm>
        <a:graphic>
          <a:graphicData uri="http://schemas.openxmlformats.org/drawingml/2006/table">
            <a:tbl>
              <a:tblPr/>
              <a:tblGrid>
                <a:gridCol w="3465360"/>
                <a:gridCol w="3463920"/>
              </a:tblGrid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держание хл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леб ржа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5 м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ы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0 м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ивочное ма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0 м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ыба минт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 м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00040" y="285480"/>
            <a:ext cx="785808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       </a:t>
            </a:r>
            <a:r>
              <a:rPr b="0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Суточная норма хло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здоровых людей достаточно 4000-6000 мг хлора в сутки. В норму входит хлор, который содержится и в уже готовой пище, и в воде, и в соли, которую мы бросаем в блюда. Максимальная доза хлора- 7000 мг- все еще не нанесет вред человеку, но постоянно такие дозы употреблять нельзя- наступит переизбыток хлора. Если человек страдает заболеванием пищеварительного тракта, хлора нужно больш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 в хлоре для детей от 300 мг в возрасте до 3-х месяцев до 2300 мг в возрасте 18 лет.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 в хлоридах, мг в сут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357200" y="4714920"/>
          <a:ext cx="6286680" cy="1089000"/>
        </p:xfrm>
        <a:graphic>
          <a:graphicData uri="http://schemas.openxmlformats.org/drawingml/2006/table">
            <a:tbl>
              <a:tblPr/>
              <a:tblGrid>
                <a:gridCol w="1000080"/>
                <a:gridCol w="857520"/>
                <a:gridCol w="847440"/>
                <a:gridCol w="900360"/>
                <a:gridCol w="906480"/>
                <a:gridCol w="896760"/>
                <a:gridCol w="878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озра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-2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-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-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-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03" name="Picture 1" descr="D:\Documents and Settings\Admin\Мои документы\Downloads\Cl.jpg"/>
          <p:cNvPicPr/>
          <p:nvPr/>
        </p:nvPicPr>
        <p:blipFill>
          <a:blip r:embed="rId1"/>
          <a:stretch/>
        </p:blipFill>
        <p:spPr>
          <a:xfrm>
            <a:off x="7572240" y="3786120"/>
            <a:ext cx="64152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8001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Чем грозит недостаток и переизбыток хлора</a:t>
            </a:r>
            <a:endParaRPr b="0" lang="en-US" sz="40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42960" y="1356840"/>
            <a:ext cx="7858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едостатке хлора в организме нарушается кислотно-щелочный баланс, углеводный обмен. У человека могут выпадать волосы и крошиться ногти, кожа стареет и резко покрывается морщинами. Может наступить обезвоживание  и нарушение работы почек и желудочно-кишечного тракта. Причины могут быть низкосолевые или бессолевые или при приеме лекарственных препаратов без контроля врач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избыток хлора связан в частых случаях с хлорированием воды. С одной стороны , неочищенная вода вызывает до 80% всех заболеваний в мире . С  другой стороны, ученый Финляндии и США доказали путем исследования, что рак печени и опухоли почек 2% случаев возникает из-за чрезмерно хлорированной питьевой воды. Также  из-за повышенного содержания хлора наша иммунная система страдает в 80% случае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17:44:51Z</dcterms:created>
  <dc:creator>Назарова Малика</dc:creator>
  <dc:description>Скачано с сайта: http://ppt.3dn.ru</dc:description>
  <dc:language>en-US</dc:language>
  <cp:lastModifiedBy>Windows User</cp:lastModifiedBy>
  <dcterms:modified xsi:type="dcterms:W3CDTF">2022-04-01T20:33:33Z</dcterms:modified>
  <cp:revision>55</cp:revision>
  <dc:subject/>
  <dc:title>Хлор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899641049</vt:lpwstr>
  </property>
</Properties>
</file>