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B38-C936-4451-99FE-E6DDE352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353-2EF0-49F2-AED7-25E1F117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ADB-75C0-4504-9EB5-D9D846D2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B57-07EC-4E3E-B5FF-7BF907E6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9506-0F17-49AD-A290-C1CAC6DF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808D-4AF8-445C-B949-F83BD606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2DC6-224A-4975-8A70-7941E7B3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0D94-A029-43E6-AD73-8A2A70FE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AA1B-647F-4EB2-B218-31DC0F33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666D-EC7E-455C-9D75-C6FD20FA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EF6-7DA4-48D9-9BF0-CF092DBF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E60-0E9C-47B1-8F01-AAA65236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1537-64A6-4BD5-BA26-832E705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EB48-D0CB-45C9-8F9A-5062E2D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9D9A-AF21-4A24-8736-B6E0D3C8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1DEA-740D-4BAA-B112-6D022933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7755-EEDE-48F1-B43F-ED48CDA6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96D-B2F3-4B2D-8FF8-5E25AD23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9EA-7E8C-4DDC-8ABD-A98E4B0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DD2-8237-4D6C-AF61-3591739D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D51-9E01-4F1B-B1C9-30BE10F6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A9E-A0D5-4C13-88D7-C6A11AC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641-DBC2-48A6-A889-F9AFEBD0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645-2D8F-4038-8487-10DD09E3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EBD-126F-4616-8B4B-907E769C888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1C2F-2C9D-407E-8EF1-94239D3FEDB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Настя\AppData\Roaming\Microsoft\Windows\Network Shortcuts\SUC51974.jpg"/>
          <p:cNvPicPr/>
          <p:nvPr/>
        </p:nvPicPr>
        <p:blipFill>
          <a:blip r:embed="rId1"/>
          <a:stretch/>
        </p:blipFill>
        <p:spPr>
          <a:xfrm>
            <a:off x="5446800" y="2349360"/>
            <a:ext cx="3294000" cy="424836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539640" y="260280"/>
            <a:ext cx="828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de66"/>
                </a:solidFill>
                <a:latin typeface="Arial"/>
              </a:rPr>
              <a:t>Гарькуша Инга Николаевн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de66"/>
              </a:solidFill>
              <a:latin typeface="Arial"/>
              <a:ea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68360" y="1197000"/>
            <a:ext cx="5904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олжность: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тель дошкольной         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уппы НС(К)ОШ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да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разование: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сшее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аж работы: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7 лет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684360" y="549360"/>
            <a:ext cx="755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зультаты выявления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едпосылок речевого развития: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2133720"/>
          <a:ext cx="8207280" cy="4335480"/>
        </p:xfrm>
        <a:graphic>
          <a:graphicData uri="http://schemas.openxmlformats.org/drawingml/2006/table">
            <a:tbl>
              <a:tblPr/>
              <a:tblGrid>
                <a:gridCol w="5681520"/>
                <a:gridCol w="2525760"/>
              </a:tblGrid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мание обращенной речи,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обственной речи: односложные слов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ребёнок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мание речи в ситуации наглядного выбора,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обственной речи 2-3 лепетных слова, произвольное голосообразовани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ребёнк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нимание обращенной речи,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сутствие устной речи, непроизвольное голосообразование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ребёнок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Users\Настя\Desktop\S63049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Настя\Desktop\S6301504.jpg"/>
          <p:cNvPicPr/>
          <p:nvPr/>
        </p:nvPicPr>
        <p:blipFill>
          <a:blip r:embed="rId2"/>
          <a:stretch/>
        </p:blipFill>
        <p:spPr>
          <a:xfrm>
            <a:off x="1523880" y="16686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мотивированное речевое общение с детьми в процессе практической деятель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формирование у детей потребности в  речевом общени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поддержание всех проявлений речи ребенка, каким бы не был их уровень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побуждение к активному применению реч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использование остаточного слуха как необходимого условия формирования устной речи и обще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контроль за речью детей со стороны взрослых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облюдение единых требований к речи всего педагогического коллектив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Настя\Desktop\S63056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C:\Users\Настя\Desktop\S63048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C:\Users\Настя\Desktop\S63056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4"/>
          <p:cNvGraphicFramePr/>
          <p:nvPr/>
        </p:nvGraphicFramePr>
        <p:xfrm>
          <a:off x="0" y="84240"/>
          <a:ext cx="9144000" cy="66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44000" cy="66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9280" y="1599840"/>
            <a:ext cx="896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99"/>
                </a:solidFill>
                <a:latin typeface="Times New Roman"/>
              </a:rPr>
              <a:t>Наблюдение в природ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99"/>
                </a:solidFill>
                <a:latin typeface="Times New Roman"/>
              </a:rPr>
              <a:t>как  средство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imes New Roman"/>
              </a:rPr>
              <a:t>обогащения   словар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imes New Roman"/>
              </a:rPr>
              <a:t>детей    с нарушениями слух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6"/>
          <p:cNvSpPr txBox="1"/>
          <p:nvPr/>
        </p:nvSpPr>
        <p:spPr>
          <a:xfrm>
            <a:off x="179280" y="2421000"/>
            <a:ext cx="864072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7" descr="lines10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488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lines10"/>
          <p:cNvPicPr/>
          <p:nvPr/>
        </p:nvPicPr>
        <p:blipFill>
          <a:blip r:embed="rId2"/>
          <a:stretch/>
        </p:blipFill>
        <p:spPr>
          <a:xfrm>
            <a:off x="-73080" y="6369120"/>
            <a:ext cx="9217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-360" y="18900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 algn="ctr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 algn="just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основании анализа литературных источников и проведенного мной  исследования, теоретически обосновать и разработать методические рекомендации, направленные на формирование и закрепление речевых навыков детей с недостатками речи (учебно-методический комплект, систему приемов и методов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920" y="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изучить состояния речи де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анализировать содержание програм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Воспитание и обучения  глухих детей дошкольного возраста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разработать систему приемов для овладения речью дошкольников в процессе наблюдения за природо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верить эффективность предложенной раб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одбор и специальная обработка речевого матери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создание слухоречевой сред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тесное  взаимодействие всех членов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дагогического коллекти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активное участие в этом процессе родит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539640" y="476280"/>
            <a:ext cx="834876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словия успешного формирования словаря: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обальное восприятие  явлений и реч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новные виды речевой деятельности: слушание, слухозрительное восприятие слов и фраз, глобальное чтение табличе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собственной речи детей: приближённость и опора на целостные един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торой этап - от четырех до шести ле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епенный переход от целостного восприятия к анализу речевого материал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м  воспринимаемых целостно слов и выражений в письменной речи постепен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данном этапе обучения языку происходит переход к аналитическому чтению, в основе которого лежит аналитико-синтетический способ восприятия сло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учение аналитическому чтению глухих детей происходит с помощью дактилологии. Она обеспечивает быстрое овладение звуко-буквенным анализом слова; способствует быстрому переходу от глобального к аналитическому чтению; содействует повышению уровня осознания устной речи, т.к. дети к пяти годам могут воспринимать и воспроизводить слова и фразы устно -дактиль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560" y="285840"/>
            <a:ext cx="843588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етий этап - от шести до семи лет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углубление анализа речевого материала при восприятии и при воспроизведени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основной способ восприятия: слухозрительный, (дополняется в случаях предъявления сложного или нового материала чтением с руки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на данном этапе совершенствуются навыки аналитического чтени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анализ усвоенного речевого материала дополняется собственным письмом детей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для уточнения буквенного состава слов и предложений может использоваться устно-дактильное проговарив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C:\Users\Настя\Desktop\S63049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4:03:28Z</dcterms:created>
  <dc:creator>Настя</dc:creator>
  <dc:description/>
  <dc:language>en-US</dc:language>
  <cp:lastModifiedBy>Lada</cp:lastModifiedBy>
  <dcterms:modified xsi:type="dcterms:W3CDTF">2013-11-09T06:57:54Z</dcterms:modified>
  <cp:revision>26</cp:revision>
  <dc:subject/>
  <dc:title>Гарькуша Инга Николаевна Образование: высшие. Место работы: Нижневартовская  специальная (коррекционая)общеобразовательная школа 1,2 вида Должность: воспитатель дошкольной группы. Стаж работы 15 лет.</dc:title>
</cp:coreProperties>
</file>