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86A-B623-431D-813F-093EC84A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A04-5E1E-4FBC-94CA-5BF1EF44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F4594-F402-4BB0-BE87-F445256F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ACE2A-B4D5-43EA-95BF-D7A5CDDE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5C1E5-D2DE-4AEB-BD66-29667E06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80CD3-9885-4E80-A1EC-B9B06CBE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CF480-CFC2-4BD7-A989-644F7079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A886B-4567-44BB-9DB5-F211801A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73CF2-7BA7-46EB-8E3A-EC970162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0AB17-7DCF-43B5-8650-AC68CF13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6CDCC-918A-4429-B3B8-F895A042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2E06E-5489-4EF4-9A85-5EC9E217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399-68A9-4A12-8AA2-F550938D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3628F-A6FA-4AC1-ACE0-B0D03745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9AFB7-EBC2-4331-9115-3267FB77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EC80F-31AD-43C8-B9A5-8146EDF5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9AA73-E578-4575-936F-113E72E8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96706-CF34-41A1-AEFB-DA5738CE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DD12A-910B-4957-8D99-2DF2E38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60FA8-AD56-4DDA-ABCE-942D3B3F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0CD02-48F3-40C2-B88E-516CB86B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25998-3C76-410F-8A0E-BD5ED49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91642-682A-4563-9C0A-43677091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AA6-B187-4209-9C24-9B81D19E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2D59F-7D86-44D8-854C-7D30887F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B8D3B-4C47-40AF-A6B0-32E2B2EA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52B84-E988-44D6-8D85-D3300682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FFC3C-09AF-4619-B0B0-98DD586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C6698-EC03-40DF-BB91-D55AEF8B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8E00B-D85B-4D7B-B786-A17A01F5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98984-8C35-4E1E-9D77-FA22EAC9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8809E-AD56-4A36-9B81-F63812AE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6C26F-B9BF-48C6-8417-E2425584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FF849-8848-487D-A495-4239DBA0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2600-08DA-445A-81E6-B5B1D0A1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A9C36-1378-4FEB-B404-27FB67DE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CDA2F-EC3D-40B5-A3A9-1AF56D9C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01D6E-93E6-4D80-BA98-ED0BDD90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B4CFF-3194-406A-88EA-823DAB30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B8F92-41DE-4634-92E5-B26CB15F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8B627-F291-4C32-866C-813D19EC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6E790-2A69-4CB2-87C9-3DA8AA1D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29B05-63F9-44CD-B563-6F5B29E1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86ADF-B2DE-4A99-ACCD-405C1C18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C8BAA-188A-4B5B-95EE-C6BA4ADB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6463-7BBF-4473-953A-A81C427A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73843-5F34-487F-969E-B40DD9FC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734E2-6C98-4995-9743-C14F58B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7E00D-A41F-4E8F-833C-BB47BFBD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5E54B-5D9F-4962-83FE-E2C27FC3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392B7-36F6-4AC9-9182-8D13E2FD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CBB39-358B-402C-9E4F-17CDEB93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F5C0F-9BC0-409A-955F-49D8996E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67487-C1D4-4046-9513-D9E6FCEA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C054F-9B62-4352-9263-3B387B95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3F0C9-FFAA-41FD-9C92-7A089328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53B3-EC92-4862-8B0A-9AF681C5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D0AE1-C84E-4D7E-80F3-38FBA8E1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FAEDD-92DC-4E38-95B6-5DF0F82B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02EBB-C77F-4853-B712-4A3E9C67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19207-CBC5-4BC0-AE95-4A6F376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21CEA-757E-4048-8848-9DAD180E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D7E71-D079-4824-8236-D4CB653D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78257-D317-4B70-BBF1-9BCE56A6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7437A-C9C0-4CED-9490-8F5722D0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0E267-1A34-45F3-8DC7-27A2F4EF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AF549-7166-41AF-A815-A3E4246B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B8CA-9F46-4DDA-ADE9-6FCAA0FE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D9CD8-F385-428F-B577-895F5126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5BDE2-07A3-4E6E-AB2D-EA736DBE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D94D1-2DA4-4758-8D60-2E42D02F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A6595-9BD0-4010-A6B8-6BBD577B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660C7-BFC7-4C57-A525-90B848BC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4D33A-9608-4250-A79B-B887A461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CA1A8-894F-4A68-8F6C-AB2627C7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7329E-2B8B-44F9-B9ED-4DA4DDB1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4A9B6-A7E9-49BD-B4FF-0CD51E44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1C1E7-0AD9-4947-97BB-80A4ABDA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5909-3890-4E88-9D14-30AA1DC3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889DF-8308-4F04-A8FF-C3A55ACB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44E7F-CCBD-43B4-94D7-54FF0A8A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C4277-33D4-4E25-92D9-7ECE2C92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52E41-CBE3-47A6-9706-F79E0EEF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80AFA-AE29-4308-88E5-394E7395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D9663-D3A2-483B-A3E5-B7776AE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2F8D4-C1DD-4AEC-A66A-EF53C68F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57A5B-12A4-4521-A6C3-AE7EC8F4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05A5B-E040-4DAA-BBF6-A4C33C11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F8FAF-6F7E-4DF8-B4C6-FFD45567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6739-FA33-4393-8F49-68AAAFF8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83D1D-E9FF-403F-B4E1-3AEF0E29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9350-9F9E-4F9A-9C84-C966AD1F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E86-A49E-4ED4-9D57-C776BE0D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9D02-7E4A-4493-AB35-FE6FB287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9D39-093E-4CD3-BD02-EBF8564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A486-9A19-43B9-8D65-BE56D10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235E-3510-44EB-A51F-CD7B0C9A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8B2D-26BA-42B0-9979-DF66260F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5816C-710A-4F94-894F-687A9E06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F1FC-B156-457F-A1BA-3B3BC3FA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F2DA-01AE-4DF7-858B-D07FE4D9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7246-5996-4EC2-AF44-446830D6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5710A-ACCB-4052-B5B2-C36B44F3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BEA-6936-4025-AA26-E6F03EF3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84CE-B09C-42AE-9758-0C3D6103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694A1-1A95-4EA3-B914-E324E138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14035-9447-4089-8DCC-E7459899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760E-3423-4B53-B3DF-F8FF0463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83EA-7F7B-41E8-B13E-0877A503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6D3C-7B20-4927-BF87-7BF0D3E6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D893-F64D-4083-98FB-52C4E18B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A445-0C51-4CCE-BA88-38BA366A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EDC3B-4F14-416A-8FC2-73FF42A7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588F2-A8A1-4F6D-AA19-9BD2D29C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1E8-33C7-4128-B5C8-49F3B435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38D3F-E9F5-48C8-A031-3E2B4F05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2A2EB-3511-4F22-9696-3919CDDB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63FD-40C4-49EE-913C-C4E0E488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0B92-C67A-4CFD-9118-F59006D4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16A2B-776E-499E-BE83-BD0E024C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EC0F-3B34-4FE3-AEE5-E5DF0B7F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CD0E4-C811-47AA-82DD-A2DA3CC1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4C31-52CE-45EC-B026-98A35BD5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E212-DB22-4254-AC4B-565747AA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8D47-C840-435A-9CE2-DD59BD3E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427-58E5-4A22-B687-4F0A1ABE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4CCF5-F7C9-4257-B5AC-B4876300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D0011-F4CF-4D66-8B2D-D40AE3FF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F965-891F-438C-B65A-BA7A91E1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90114-589C-450B-819F-FCA2B4DD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D9926-7ECF-44CB-951A-461E08D6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A4D81-38B2-41EC-9CC4-9B6C42D8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82BA9-018B-481C-8D4E-7064346A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1000A-E8A5-4CC7-9138-809C07CE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FEF3-561A-4A1A-91C7-46EC78FC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D76E-DE08-4A21-8C86-6D93B4CF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F64-D77B-4618-A7D0-86BE5A11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44D66-C22A-45E7-8A44-60B966AA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3AF03-CDDD-4A73-B1EA-82D55112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87784-5C65-454B-8081-4AED1B50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F2CF-82AC-4CD7-BED9-F44321FE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75FE1-547E-467D-970A-1ABAC6B9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E63E3-C923-4A05-A25E-402245BB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48367-1C2A-4F1D-8D79-BA93B878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BDBB0-989E-4498-BB36-52E9C724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A6CA1-7526-4439-BBFB-DE48392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A59E5-6321-4D55-848D-09811671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E22-1BD6-4639-849F-A34077C2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036C9-CAF8-4AE0-A29A-350DB085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007F2-83E8-44CE-8EB8-F66AF927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76DD2-718A-43FC-B3B7-C5090081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55BCF-76FF-439A-90B7-193DDA39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07B43-AA95-4131-B9F9-08DFEF14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4704D-33F7-4E80-970E-75F67714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E9B9-8DA1-4ABC-8541-9E6C1F6E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33C3-9139-4E38-88A8-71FDDEA0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19DC7-BD3C-4311-AAB2-2525C08B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F3DBC-D6B6-4989-AF88-4F5AE8E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8B9-5510-4510-987B-5D02CABB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3AD31-D3F7-4309-86BB-73050011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9FDD4-B215-4FA5-BA5C-228F4FE8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AA41C-DEC9-49F1-952C-BBE8262A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A1225-78B5-4A1A-99E9-1E2A82C9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AE6E2-6811-4A8E-A9F6-E9BAA7B3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27FE6-D8F8-41CC-B841-A4E62432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7E1C9-F838-4714-B58F-6452607B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494E3-E4D0-4074-BE8F-F6C4565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1B5CE-9545-45E2-9F2D-A01F2A57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BCF22-E745-4591-9AA8-E505FF77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917-9CAA-46F5-9522-BF32A85C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433D3-FA53-43F6-916B-F36CA114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0A49A-DA3C-4498-A3D9-B8422527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BB38F-9B80-4A0A-BB08-D7AD58A0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1C93B-359F-42F2-AF1D-8BB9045D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3C313-D9F1-4809-A071-9FF3D78A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B481F-08E0-438D-A13E-166A610A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C8942-7851-4376-A63F-F808CDF9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94176-42C6-4879-B05D-8D880D28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AA604-1508-4292-8ABE-E76ED41C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B1323-CEC5-4B45-B870-E85F9923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1F5E-FF93-48D1-A79B-6C40952C61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8BE9-D5C8-4589-BDDA-125EF9B260C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F6E1-2D50-423D-A9C2-3E70616D25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D43F-464B-41AC-81EA-17F5940FEC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4CBA-B1FD-4CC2-9A4B-01F15FCC88C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6865-88A9-46B9-BD09-9AF1570B81B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B86F-D513-4B18-9A60-38A3F67580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3894-E039-42BE-B49B-1CD70494AF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DD87-81FB-4467-8E5C-F86A5646F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E873-0FFA-45D6-B2DF-A88400D68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3499-1503-4B36-95D9-A001F68F4B6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EF3A-6B61-424D-84FC-2826FC58C08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59AB-67BD-47B0-BE63-017B18B386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C1ED-D948-4913-8745-FEBDC83EFF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FBFF-D48F-43CD-8C9F-4AD0136926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971280"/>
            <a:ext cx="7772400" cy="1485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cc"/>
                </a:solidFill>
                <a:latin typeface="Arial"/>
              </a:rPr>
              <a:t>ENGLIS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943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REPORTED SPEE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tatements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6" descr="Грамматика английского языка, английская грамматика"/>
          <p:cNvPicPr/>
          <p:nvPr/>
        </p:nvPicPr>
        <p:blipFill>
          <a:blip r:embed="rId1"/>
          <a:stretch/>
        </p:blipFill>
        <p:spPr>
          <a:xfrm>
            <a:off x="0" y="0"/>
            <a:ext cx="3124080" cy="1257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Грамматика английского языка, английская грамматика"/>
          <p:cNvPicPr/>
          <p:nvPr/>
        </p:nvPicPr>
        <p:blipFill>
          <a:blip r:embed="rId2"/>
          <a:stretch/>
        </p:blipFill>
        <p:spPr>
          <a:xfrm>
            <a:off x="0" y="0"/>
            <a:ext cx="31240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Объект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623440" cy="1673280"/>
          </a:xfrm>
          <a:prstGeom prst="rect">
            <a:avLst/>
          </a:prstGeom>
          <a:ln w="0">
            <a:noFill/>
          </a:ln>
        </p:spPr>
      </p:pic>
      <p:sp>
        <p:nvSpPr>
          <p:cNvPr id="677" name="TextBox 5"/>
          <p:cNvSpPr/>
          <p:nvPr/>
        </p:nvSpPr>
        <p:spPr>
          <a:xfrm>
            <a:off x="914400" y="217188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told me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sai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……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6"/>
          <p:cNvSpPr/>
          <p:nvPr/>
        </p:nvSpPr>
        <p:spPr>
          <a:xfrm>
            <a:off x="932040" y="3408480"/>
            <a:ext cx="57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said me……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8"/>
          <p:cNvSpPr/>
          <p:nvPr/>
        </p:nvSpPr>
        <p:spPr>
          <a:xfrm flipV="1">
            <a:off x="914400" y="3885840"/>
            <a:ext cx="3505320" cy="514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Less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solidFill>
            <a:srgbClr val="edf2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2" name="WordArt 4"/>
          <p:cNvSpPr txBox="1"/>
          <p:nvPr/>
        </p:nvSpPr>
        <p:spPr>
          <a:xfrm>
            <a:off x="1895400" y="2143080"/>
            <a:ext cx="5353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PORTED SPEECH:    QUES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1"/>
          <p:cNvSpPr/>
          <p:nvPr/>
        </p:nvSpPr>
        <p:spPr>
          <a:xfrm>
            <a:off x="237960" y="895320"/>
            <a:ext cx="8906040" cy="180036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When we change direct questions to reported questions, the</a:t>
            </a:r>
            <a:r>
              <a:rPr b="0" lang="ru-RU" sz="2800" spc="-1" strike="noStrike">
                <a:solidFill>
                  <a:srgbClr val="000000"/>
                </a:solidFill>
                <a:latin typeface="EF Circular Lati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verb form often goes back one tense, pronouns change, and</a:t>
            </a:r>
            <a:r>
              <a:rPr b="0" lang="ru-RU" sz="2800" spc="-1" strike="noStrike">
                <a:solidFill>
                  <a:srgbClr val="000000"/>
                </a:solidFill>
                <a:latin typeface="EF Circular Lati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time expressions often ch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3"/>
          <p:cNvSpPr/>
          <p:nvPr/>
        </p:nvSpPr>
        <p:spPr>
          <a:xfrm>
            <a:off x="2006640" y="20520"/>
            <a:ext cx="565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F Circular Latin"/>
              </a:rPr>
              <a:t>Report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4"/>
          <p:cNvSpPr/>
          <p:nvPr/>
        </p:nvSpPr>
        <p:spPr>
          <a:xfrm>
            <a:off x="392040" y="280044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F Circular Lati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F Circular Lati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EF Circular Latin"/>
              </a:rPr>
              <a:t>Did you see the football match yesterda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F Circular Latin"/>
              </a:rPr>
              <a:t>She asked me if I had seen football match the day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1"/>
          <p:cNvSpPr/>
          <p:nvPr/>
        </p:nvSpPr>
        <p:spPr>
          <a:xfrm>
            <a:off x="958680" y="785880"/>
            <a:ext cx="68724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F Circular Lati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We don’t use question marks in reported spe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F Circular Lati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2"/>
          <p:cNvSpPr/>
          <p:nvPr/>
        </p:nvSpPr>
        <p:spPr>
          <a:xfrm>
            <a:off x="969840" y="1866960"/>
            <a:ext cx="786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19"/>
                </a:solidFill>
                <a:latin typeface="EF Circular Latin"/>
              </a:rPr>
              <a:t>2. Normal word order is used in reported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19"/>
                </a:solidFill>
                <a:latin typeface="EF Circular Latin"/>
              </a:rPr>
              <a:t>SUBJECT +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3"/>
          <p:cNvSpPr/>
          <p:nvPr/>
        </p:nvSpPr>
        <p:spPr>
          <a:xfrm>
            <a:off x="765000" y="3252960"/>
            <a:ext cx="610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How old is she?”, he as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He asked how old she w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4"/>
          <p:cNvSpPr/>
          <p:nvPr/>
        </p:nvSpPr>
        <p:spPr>
          <a:xfrm>
            <a:off x="969840" y="316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F Circular Latin"/>
              </a:rPr>
              <a:t>Report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>
            <a:off x="804960" y="784080"/>
            <a:ext cx="101772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F Circular Lati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We don’t use do/does/did in reported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F Circular Lati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2"/>
          <p:cNvSpPr/>
          <p:nvPr/>
        </p:nvSpPr>
        <p:spPr>
          <a:xfrm>
            <a:off x="946080" y="1703520"/>
            <a:ext cx="10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19"/>
                </a:solidFill>
                <a:latin typeface="EF Circular Latin"/>
              </a:rPr>
              <a:t>2. We use the words - </a:t>
            </a:r>
            <a:r>
              <a:rPr b="1" lang="en-US" sz="2800" spc="-1" strike="noStrike">
                <a:solidFill>
                  <a:srgbClr val="ff0000"/>
                </a:solidFill>
                <a:latin typeface="EF Circular Latin"/>
              </a:rPr>
              <a:t>if /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3"/>
          <p:cNvSpPr/>
          <p:nvPr/>
        </p:nvSpPr>
        <p:spPr>
          <a:xfrm>
            <a:off x="946080" y="2322360"/>
            <a:ext cx="804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He asked: “</a:t>
            </a:r>
            <a:r>
              <a:rPr b="1" lang="en-US" sz="2800" spc="-1" strike="noStrike">
                <a:solidFill>
                  <a:srgbClr val="ff0000"/>
                </a:solidFill>
                <a:latin typeface="EF Circular Lati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you speak English?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He aske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EF Circular Lati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I spoke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4"/>
          <p:cNvSpPr/>
          <p:nvPr/>
        </p:nvSpPr>
        <p:spPr>
          <a:xfrm>
            <a:off x="1066680" y="184320"/>
            <a:ext cx="66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Report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5"/>
          <p:cNvSpPr/>
          <p:nvPr/>
        </p:nvSpPr>
        <p:spPr>
          <a:xfrm>
            <a:off x="804960" y="3511440"/>
            <a:ext cx="804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They asked: "Did it snowed yesterday?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They asked if it had snowed the day bef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Box 3"/>
          <p:cNvSpPr/>
          <p:nvPr/>
        </p:nvSpPr>
        <p:spPr>
          <a:xfrm>
            <a:off x="457200" y="708120"/>
            <a:ext cx="797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He asked his friend: “</a:t>
            </a:r>
            <a:r>
              <a:rPr b="1" lang="en-US" sz="2800" spc="-1" strike="noStrike">
                <a:solidFill>
                  <a:srgbClr val="ff0000"/>
                </a:solidFill>
                <a:latin typeface="EF Circular Lati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you like sport?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He asked his frie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EF Circular Lati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EF Circular Latin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liked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4"/>
          <p:cNvSpPr/>
          <p:nvPr/>
        </p:nvSpPr>
        <p:spPr>
          <a:xfrm>
            <a:off x="1065240" y="184320"/>
            <a:ext cx="66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Report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380880" y="2260440"/>
            <a:ext cx="7972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Teacher asked her pupil: “Do you have a homework?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Teacher asked her pupil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EF Circular Latin"/>
              </a:rPr>
              <a:t>if  </a:t>
            </a:r>
            <a:r>
              <a:rPr b="1" lang="en-US" sz="2800" spc="-1" strike="noStrike">
                <a:solidFill>
                  <a:srgbClr val="7030a0"/>
                </a:solidFill>
                <a:latin typeface="EF Circular Latin"/>
              </a:rPr>
              <a:t>he/she</a:t>
            </a: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had her/his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Box 1"/>
          <p:cNvSpPr/>
          <p:nvPr/>
        </p:nvSpPr>
        <p:spPr>
          <a:xfrm>
            <a:off x="2170080" y="2397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F Circular Latin"/>
              </a:rPr>
              <a:t>WH-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2"/>
          <p:cNvSpPr/>
          <p:nvPr/>
        </p:nvSpPr>
        <p:spPr>
          <a:xfrm>
            <a:off x="531720" y="890640"/>
            <a:ext cx="76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did you go?”, Christopher asked Lu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istopher asked Lucy where she had g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3"/>
          <p:cNvSpPr/>
          <p:nvPr/>
        </p:nvSpPr>
        <p:spPr>
          <a:xfrm>
            <a:off x="531720" y="2141640"/>
            <a:ext cx="76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you lik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asked me what I li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4"/>
          <p:cNvSpPr/>
          <p:nvPr/>
        </p:nvSpPr>
        <p:spPr>
          <a:xfrm>
            <a:off x="636480" y="3390840"/>
            <a:ext cx="76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you doing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asked me what I was d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5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Read the questions and turn them in the indirect form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52280" y="894960"/>
            <a:ext cx="8839440" cy="4172040"/>
          </a:xfrm>
          <a:prstGeom prst="rect">
            <a:avLst/>
          </a:prstGeom>
          <a:solidFill>
            <a:srgbClr val="00ffcc"/>
          </a:solidFill>
          <a:ln w="12600">
            <a:solidFill>
              <a:srgbClr val="009999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Oleg asked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hn: “Have you got a radio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Ira asked her sister: “Do you like watching TV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Teacher asked pupils: “Will young people prefer reading CD books to reading printed ones? 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Tom asked Mike: “How did you get here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Alice asked Megan: “Why were your sister sad yesterday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She asked: “Has your brother found a job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He asked Pete: “Will you go to the seaside next year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Less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solidFill>
            <a:srgbClr val="a8f6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6" name="WordArt 5"/>
          <p:cNvSpPr txBox="1"/>
          <p:nvPr/>
        </p:nvSpPr>
        <p:spPr>
          <a:xfrm>
            <a:off x="2438280" y="1657440"/>
            <a:ext cx="335304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PORTED SPEECH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MAN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solidFill>
            <a:srgbClr val="edf2ac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Для передачи в косвенной речи предложений в повелительном наклонении используются глаго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k, advise, order, remind, teach, tell,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resent Simpl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ister often says: ”Help me”. – My sister often asks me to help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28240" y="171000"/>
            <a:ext cx="3809880" cy="1257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Direct spe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4876920" y="171360"/>
            <a:ext cx="3809880" cy="12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Indirect  spe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Reported spe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"/>
          <p:cNvSpPr/>
          <p:nvPr/>
        </p:nvSpPr>
        <p:spPr>
          <a:xfrm>
            <a:off x="76320" y="24573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Palatino Linotype"/>
              </a:rPr>
              <a:t>She says: “I want to buy a dress</a:t>
            </a:r>
            <a:r>
              <a:rPr b="1" lang="ru-RU" sz="4000" spc="-1" strike="noStrike">
                <a:solidFill>
                  <a:srgbClr val="ff0000"/>
                </a:solidFill>
                <a:latin typeface="Palatino Linotype"/>
              </a:rPr>
              <a:t>.</a:t>
            </a:r>
            <a:r>
              <a:rPr b="1" lang="en-US" sz="4000" spc="-1" strike="noStrike">
                <a:solidFill>
                  <a:srgbClr val="ff0000"/>
                </a:solidFill>
                <a:latin typeface="Palatino Linotype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3"/>
          <p:cNvSpPr/>
          <p:nvPr/>
        </p:nvSpPr>
        <p:spPr>
          <a:xfrm>
            <a:off x="4572000" y="25034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alatino Linotype"/>
              </a:rPr>
              <a:t>She says (that) she wants to buy a dress</a:t>
            </a: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Прямая со стрелкой 6"/>
          <p:cNvCxnSpPr/>
          <p:nvPr/>
        </p:nvCxnSpPr>
        <p:spPr>
          <a:xfrm>
            <a:off x="1828440" y="1542600"/>
            <a:ext cx="1080" cy="6296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624" name="Прямая со стрелкой 8"/>
          <p:cNvCxnSpPr/>
          <p:nvPr/>
        </p:nvCxnSpPr>
        <p:spPr>
          <a:xfrm>
            <a:off x="6781320" y="1542960"/>
            <a:ext cx="1080" cy="7437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triangle" w="med"/>
          </a:ln>
        </p:spPr>
      </p:cxnSp>
      <p:sp>
        <p:nvSpPr>
          <p:cNvPr id="625" name="Прямая соединительная линия 10"/>
          <p:cNvSpPr/>
          <p:nvPr/>
        </p:nvSpPr>
        <p:spPr>
          <a:xfrm>
            <a:off x="2590920" y="2914560"/>
            <a:ext cx="4572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ая соединительная линия 12"/>
          <p:cNvSpPr/>
          <p:nvPr/>
        </p:nvSpPr>
        <p:spPr>
          <a:xfrm>
            <a:off x="7772400" y="290988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ая соединительная линия 14"/>
          <p:cNvSpPr/>
          <p:nvPr/>
        </p:nvSpPr>
        <p:spPr>
          <a:xfrm>
            <a:off x="1219320" y="291456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ая соединительная линия 20"/>
          <p:cNvSpPr/>
          <p:nvPr/>
        </p:nvSpPr>
        <p:spPr>
          <a:xfrm>
            <a:off x="5591160" y="28908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ead the sentences and turn them in the indirect form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solidFill>
            <a:srgbClr val="acd6f2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sister often says: “Help m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octor says: “Give up fast foo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acher said: “Answer my question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man said: “Don’t speak so loudl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aid: “Win the gam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said: “Stop talking”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pil said: “Tell us about Christmas in Englan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mother said: “Don’t play computer gam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said: “Explain the meaning of the 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Алгоритм перевода предложений из прямой речи в косвенну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solidFill>
            <a:srgbClr val="e7b7e4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 тип предложения вкосвенной речи(повествовательное предложение,общий (альтернативный )вопрос , специальный вопрос,повелительное наклонение + -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 средство связи главной и придаточной частей (союз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ительное слово, бессоюзная связ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, какое время ты используешь в главн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предели, какое время ты используешь в главной ча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3222720"/>
          </a:xfrm>
          <a:prstGeom prst="rect">
            <a:avLst/>
          </a:prstGeom>
          <a:solidFill>
            <a:srgbClr val="e7b7e4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Если это прошедшее время, примени в придаточной части согласование врем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3222720"/>
          </a:xfrm>
          <a:prstGeom prst="rect">
            <a:avLst/>
          </a:prstGeom>
          <a:solidFill>
            <a:srgbClr val="e7b7e4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Если это настоящее, будущее время, оставь 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придаточной части то время, которое употреблено в прям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>
            <a:off x="6629400" y="10857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2362320" y="10857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6629400" y="462924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0"/>
          <p:cNvSpPr/>
          <p:nvPr/>
        </p:nvSpPr>
        <p:spPr>
          <a:xfrm>
            <a:off x="2362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ереведи предложение в косвенную речь, не забы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3222720"/>
          </a:xfrm>
          <a:prstGeom prst="rect">
            <a:avLst/>
          </a:prstGeom>
          <a:solidFill>
            <a:srgbClr val="e7b7e4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рямом порядке слов в придаточной ч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оответствии лиц (обращай внимание на все формы местоимен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группе слов, которые нужно заменитьэквивалентами при согласовании врем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3222720"/>
          </a:xfrm>
          <a:prstGeom prst="rect">
            <a:avLst/>
          </a:prstGeom>
          <a:solidFill>
            <a:srgbClr val="e7b7e4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рямом порядке в придаточной ч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оответствии лиц(обращай внимание на все формы местоим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6"/>
          <p:cNvSpPr/>
          <p:nvPr/>
        </p:nvSpPr>
        <p:spPr>
          <a:xfrm>
            <a:off x="640080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7"/>
          <p:cNvSpPr/>
          <p:nvPr/>
        </p:nvSpPr>
        <p:spPr>
          <a:xfrm>
            <a:off x="23623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8839440" cy="49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Good Luc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609480" y="1371240"/>
            <a:ext cx="8229600" cy="131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Palatino Linotype"/>
              </a:rPr>
              <a:t>S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Palatino Linotype"/>
              </a:rPr>
              <a:t>said</a:t>
            </a:r>
            <a:r>
              <a:rPr b="1" lang="en-US" sz="4000" spc="-1" strike="noStrike">
                <a:solidFill>
                  <a:srgbClr val="ff0000"/>
                </a:solidFill>
                <a:latin typeface="Palatino Linotype"/>
              </a:rPr>
              <a:t>: “I want to buy a dress</a:t>
            </a:r>
            <a:r>
              <a:rPr b="1" lang="ru-RU" sz="4000" spc="-1" strike="noStrike">
                <a:solidFill>
                  <a:srgbClr val="ff0000"/>
                </a:solidFill>
                <a:latin typeface="Palatino Linotype"/>
              </a:rPr>
              <a:t>.</a:t>
            </a:r>
            <a:r>
              <a:rPr b="1" lang="en-US" sz="4000" spc="-1" strike="noStrike">
                <a:solidFill>
                  <a:srgbClr val="ff0000"/>
                </a:solidFill>
                <a:latin typeface="Palatino Linotype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"/>
          <p:cNvSpPr/>
          <p:nvPr/>
        </p:nvSpPr>
        <p:spPr>
          <a:xfrm>
            <a:off x="1219320" y="628560"/>
            <a:ext cx="23619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бъект 3"/>
          <p:cNvSpPr/>
          <p:nvPr/>
        </p:nvSpPr>
        <p:spPr>
          <a:xfrm>
            <a:off x="609480" y="23432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Palatino Linotype"/>
              </a:rPr>
              <a:t>S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Palatino Linotype"/>
              </a:rPr>
              <a:t>said</a:t>
            </a:r>
            <a:r>
              <a:rPr b="1" lang="ru-RU" sz="4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Palatino Linotype"/>
              </a:rPr>
              <a:t> she wanted to buy a dress</a:t>
            </a:r>
            <a:r>
              <a:rPr b="1" lang="ru-RU" sz="4000" spc="-1" strike="noStrike">
                <a:solidFill>
                  <a:srgbClr val="ff0000"/>
                </a:solidFill>
                <a:latin typeface="Palatino Linotyp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857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ENSE  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880560"/>
            <a:ext cx="8229600" cy="4262760"/>
          </a:xfrm>
          <a:prstGeom prst="rect">
            <a:avLst/>
          </a:prstGeom>
          <a:solidFill>
            <a:srgbClr val="e7b7e4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sent 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st 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sent Perfect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9"/>
          <p:cNvSpPr/>
          <p:nvPr/>
        </p:nvSpPr>
        <p:spPr>
          <a:xfrm>
            <a:off x="3124080" y="1076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0"/>
          <p:cNvSpPr/>
          <p:nvPr/>
        </p:nvSpPr>
        <p:spPr>
          <a:xfrm>
            <a:off x="2514600" y="2171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1"/>
          <p:cNvSpPr/>
          <p:nvPr/>
        </p:nvSpPr>
        <p:spPr>
          <a:xfrm>
            <a:off x="3276720" y="29210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3733920" y="1486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1"/>
          <p:cNvSpPr/>
          <p:nvPr/>
        </p:nvSpPr>
        <p:spPr>
          <a:xfrm>
            <a:off x="4914000" y="923760"/>
            <a:ext cx="2078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9"/>
          <p:cNvSpPr/>
          <p:nvPr/>
        </p:nvSpPr>
        <p:spPr>
          <a:xfrm>
            <a:off x="5318280" y="1349280"/>
            <a:ext cx="312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t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0"/>
          <p:cNvSpPr/>
          <p:nvPr/>
        </p:nvSpPr>
        <p:spPr>
          <a:xfrm>
            <a:off x="4835520" y="2039760"/>
            <a:ext cx="305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11"/>
          <p:cNvSpPr/>
          <p:nvPr/>
        </p:nvSpPr>
        <p:spPr>
          <a:xfrm>
            <a:off x="4845600" y="2741760"/>
            <a:ext cx="211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487080" y="149040"/>
            <a:ext cx="56149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/is -&gt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-&g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/does -&gt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/has -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ll -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-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-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-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-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3"/>
          <p:cNvSpPr/>
          <p:nvPr/>
        </p:nvSpPr>
        <p:spPr>
          <a:xfrm>
            <a:off x="2151000" y="19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4"/>
          <p:cNvSpPr/>
          <p:nvPr/>
        </p:nvSpPr>
        <p:spPr>
          <a:xfrm>
            <a:off x="2151000" y="48564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5"/>
          <p:cNvSpPr/>
          <p:nvPr/>
        </p:nvSpPr>
        <p:spPr>
          <a:xfrm>
            <a:off x="2751120" y="1289160"/>
            <a:ext cx="17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6"/>
          <p:cNvSpPr/>
          <p:nvPr/>
        </p:nvSpPr>
        <p:spPr>
          <a:xfrm>
            <a:off x="2874960" y="17096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7"/>
          <p:cNvSpPr/>
          <p:nvPr/>
        </p:nvSpPr>
        <p:spPr>
          <a:xfrm>
            <a:off x="2222640" y="287820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w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2135160" y="337824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cou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2463840" y="22953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1"/>
          <p:cNvSpPr/>
          <p:nvPr/>
        </p:nvSpPr>
        <p:spPr>
          <a:xfrm>
            <a:off x="2367000" y="39304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m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2"/>
          <p:cNvSpPr/>
          <p:nvPr/>
        </p:nvSpPr>
        <p:spPr>
          <a:xfrm>
            <a:off x="2571840" y="452124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ha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457200" y="1200240"/>
          <a:ext cx="4038480" cy="33940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23804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66ff"/>
                          </a:solidFill>
                          <a:uFillTx/>
                          <a:latin typeface="Arial"/>
                          <a:ea typeface="Times New Roman"/>
                        </a:rPr>
                        <a:t>can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lang="en-GB" sz="18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Times New Roman"/>
                        </a:rPr>
                        <a:t>can</a:t>
                      </a: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swim under water for two minu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23840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66ff"/>
                          </a:solidFill>
                          <a:uFillTx/>
                          <a:latin typeface="Arial"/>
                          <a:ea typeface="Times New Roman"/>
                        </a:rPr>
                        <a:t>must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l tickets </a:t>
                      </a:r>
                      <a:r>
                        <a:rPr b="1" lang="en-GB" sz="18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Times New Roman"/>
                        </a:rPr>
                        <a:t>must</a:t>
                      </a: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be bought in adv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1764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66ff"/>
                          </a:solidFill>
                          <a:uFillTx/>
                          <a:latin typeface="Arial"/>
                          <a:ea typeface="Times New Roman"/>
                        </a:rPr>
                        <a:t>may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lang="en-GB" sz="18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Times New Roman"/>
                        </a:rPr>
                        <a:t>may</a:t>
                      </a: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call y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4648320" y="1200240"/>
          <a:ext cx="4038480" cy="33940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23804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66ff"/>
                          </a:solidFill>
                          <a:uFillTx/>
                          <a:latin typeface="Arial"/>
                          <a:ea typeface="Times New Roman"/>
                        </a:rPr>
                        <a:t>could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e said (that) he </a:t>
                      </a:r>
                      <a:r>
                        <a:rPr b="1" lang="en-GB" sz="18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Times New Roman"/>
                        </a:rPr>
                        <a:t>could </a:t>
                      </a: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wim under water for two minu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23840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</a:rPr>
                        <a:t>had to</a:t>
                      </a:r>
                      <a:r>
                        <a:rPr b="0" lang="en-GB" sz="18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e said (that) all tickets </a:t>
                      </a:r>
                      <a:r>
                        <a:rPr b="1" lang="en-GB" sz="18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Times New Roman"/>
                        </a:rPr>
                        <a:t>had to</a:t>
                      </a: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be bought in advance</a:t>
                      </a: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1764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</a:rPr>
                        <a:t>might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e said (that) he </a:t>
                      </a:r>
                      <a:r>
                        <a:rPr b="1" lang="en-GB" sz="18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Times New Roman"/>
                        </a:rPr>
                        <a:t>might</a:t>
                      </a: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call 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998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Time expressions often chan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314000"/>
            <a:ext cx="8229600" cy="3279960"/>
          </a:xfrm>
          <a:prstGeom prst="rect">
            <a:avLst/>
          </a:prstGeom>
          <a:solidFill>
            <a:srgbClr val="edf2ac"/>
          </a:solidFill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day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at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night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at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terday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day 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orrow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next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week ago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week befo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year/month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year/month 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day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next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5"/>
          <p:cNvSpPr/>
          <p:nvPr/>
        </p:nvSpPr>
        <p:spPr>
          <a:xfrm>
            <a:off x="2743200" y="15429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6"/>
          <p:cNvSpPr/>
          <p:nvPr/>
        </p:nvSpPr>
        <p:spPr>
          <a:xfrm>
            <a:off x="2743200" y="18860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2971800" y="23432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8"/>
          <p:cNvSpPr/>
          <p:nvPr/>
        </p:nvSpPr>
        <p:spPr>
          <a:xfrm>
            <a:off x="3048120" y="280044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9"/>
          <p:cNvSpPr/>
          <p:nvPr/>
        </p:nvSpPr>
        <p:spPr>
          <a:xfrm>
            <a:off x="32004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0"/>
          <p:cNvSpPr/>
          <p:nvPr/>
        </p:nvSpPr>
        <p:spPr>
          <a:xfrm>
            <a:off x="3429000" y="3543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3005280" y="3886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solidFill>
            <a:srgbClr val="66ffff"/>
          </a:solidFill>
          <a:ln w="12600">
            <a:solidFill>
              <a:srgbClr val="edf2ac"/>
            </a:solidFill>
            <a:miter/>
          </a:ln>
        </p:spPr>
        <p:txBody>
          <a:bodyPr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year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following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evening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at ev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4"/>
          <p:cNvSpPr/>
          <p:nvPr/>
        </p:nvSpPr>
        <p:spPr>
          <a:xfrm>
            <a:off x="3048120" y="142884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3429000" y="20001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2590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2514600" y="29145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2514600" y="34862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2286000" y="39434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28760" y="10764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Pronouns chang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571760" y="588960"/>
          <a:ext cx="6572160" cy="4394160"/>
        </p:xfrm>
        <a:graphic>
          <a:graphicData uri="http://schemas.openxmlformats.org/drawingml/2006/table">
            <a:tbl>
              <a:tblPr/>
              <a:tblGrid>
                <a:gridCol w="1155600"/>
                <a:gridCol w="2428920"/>
                <a:gridCol w="2987640"/>
              </a:tblGrid>
              <a:tr h="7081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ц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ые местои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140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14120" rIns="114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ительный паде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 Чт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14120" rIns="114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 Что? Ком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he /she /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r / him /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6:31:26Z</dcterms:created>
  <dc:creator>123</dc:creator>
  <dc:description/>
  <dc:language>en-US</dc:language>
  <cp:lastModifiedBy>Sanek-PC</cp:lastModifiedBy>
  <dcterms:modified xsi:type="dcterms:W3CDTF">2022-04-02T20:03:05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