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FD6-DB30-4239-8EDE-C3C10F0C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3B8-768D-415E-B9E6-F098B388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797-573F-40BD-8517-A5D51302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A69-D867-4F12-B36F-2DB675B1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C83-3B37-4F98-8EDA-8D4974AE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B75-B717-4AC0-AAC3-B0514109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75B-1145-46FB-AC10-43A3789E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17B-513B-4C69-AEFB-D716570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568-72E0-4493-BE29-8FF206D6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95D-698A-483A-BE07-7BEEAC5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4E9-7CAD-4C35-BA47-0EF33CC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EFC-4924-4D6B-A929-1CACF92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658C-3353-432F-8515-64A9F7ED3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опустимы ли наказ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1964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Детям больше нужен пример для подражания, чем кр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Ж. Жуб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76360" y="530064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Презентацию составила воспит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Юрьева М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g34"/>
          <p:cNvPicPr/>
          <p:nvPr/>
        </p:nvPicPr>
        <p:blipFill>
          <a:blip r:embed="rId1"/>
          <a:stretch/>
        </p:blipFill>
        <p:spPr>
          <a:xfrm>
            <a:off x="324000" y="1484280"/>
            <a:ext cx="331308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5410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спитывая ребенка, нельзя забывать, что послушание детей не самоцель, а способ, при помощи которого формируется сознание человека, подготовленность к жизни в обществе. А это возможно лишь в том случае, если взрослые относятся к детям с ув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тих принципов необходимо придерживаться и в воспитании своих детей.  Но очень часто в семьях педагогов происходит обратное.  Мало того,  зачастую получается так, что на своих детей у воспитателей не хватает ни  время,  ни сил.  Не всегда и не каждому  удается сдерживать свою усталость, недовольство, свою негативную энергию, которую сдерживали в течении дня  при общении с детьми в саду, и не выплеснуть как  из рога изобилия на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6"/>
          <p:cNvPicPr/>
          <p:nvPr/>
        </p:nvPicPr>
        <p:blipFill>
          <a:blip r:embed="rId1"/>
          <a:stretch/>
        </p:blipFill>
        <p:spPr>
          <a:xfrm>
            <a:off x="5724360" y="549360"/>
            <a:ext cx="312120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6165720"/>
            <a:ext cx="66358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Литература: Л.Ф. Островская «Почему ребенок не слушаетс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2"/>
          <p:cNvPicPr/>
          <p:nvPr/>
        </p:nvPicPr>
        <p:blipFill>
          <a:blip r:embed="rId1"/>
          <a:stretch/>
        </p:blipFill>
        <p:spPr>
          <a:xfrm>
            <a:off x="611280" y="1916280"/>
            <a:ext cx="5111640" cy="34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img39"/>
          <p:cNvPicPr/>
          <p:nvPr/>
        </p:nvPicPr>
        <p:blipFill>
          <a:blip r:embed="rId2"/>
          <a:stretch/>
        </p:blipFill>
        <p:spPr>
          <a:xfrm>
            <a:off x="5867280" y="1268280"/>
            <a:ext cx="264024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46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ще А. С. Макаренко говорил, что наказание очень трудная вещь, которая требует от взрослого большого такта и осторожности, и применять его следует «как можно реже, только в том случае, когда без наказания нельзя обойтись». Кроме того, надо помнить, что этот метод не является ведущим, а тем более единственным, при помощи которого можно добиться от ребенка 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img31"/>
          <p:cNvPicPr/>
          <p:nvPr/>
        </p:nvPicPr>
        <p:blipFill>
          <a:blip r:embed="rId1"/>
          <a:stretch/>
        </p:blipFill>
        <p:spPr>
          <a:xfrm>
            <a:off x="5148360" y="260280"/>
            <a:ext cx="360036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6130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гда мы говорим о допустимости наказания (конечно, речь идет не о физических мерах), то имеем в виду, что наказание как исключение (а не как система) применяется на виду с другими педагогическими способами воз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 разъясне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 убежде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 поощр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разумной требовательностью  в сочетании с уважением к личности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 положительным примером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4330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ние воспитателя обходиться без наказания - залог успешного развития в детях лучших черт человека. Правильное воспитание - воспитание без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mg2"/>
          <p:cNvPicPr/>
          <p:nvPr/>
        </p:nvPicPr>
        <p:blipFill>
          <a:blip r:embed="rId1"/>
          <a:stretch/>
        </p:blipFill>
        <p:spPr>
          <a:xfrm>
            <a:off x="4788000" y="620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до приучать детей с малых лет к тому, чтобы они ощущали неловкость от сделанного замечания. Но если вы твердо уверены, что в данной ситуации без наказания не обойтись, то необходимо учитывать какова мера и какое действие оно окажет на ребенка: поможет ли исправить его поведение, предотвратит ли в дальнейшем непослушание в аналогичных ситуациях. Прежде всего, должны быть исключены такие наказания, которые вызываю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изическую боль, страх, подавляют детскую волю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691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детей дошкольного возраста впечатляющее воздействие оказывает временное изменение обычно теплого отношения на более холодное, официальное: лишение ласки, к которой ребенок привык, воспринимается им как нака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пытные педагоги иногда используют такую форму наказания, как обсуждение детского проступка в коллективе сверстников. Особенно это применимо к старшим дошкольникам, так как их сознание более высоко развито. Но тут важно не превратить серьезный разговор о проступке в суд над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1"/>
          <p:cNvPicPr/>
          <p:nvPr/>
        </p:nvPicPr>
        <p:blipFill>
          <a:blip r:embed="rId1"/>
          <a:stretch/>
        </p:blipFill>
        <p:spPr>
          <a:xfrm>
            <a:off x="5219640" y="836640"/>
            <a:ext cx="322920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астые наказания за незначительные провинности ранят сердце ребенка, чтобы избавиться от этого, ребенок пытается скрыться за спину «спасительной лжи». «Это не я Борьку толкнул, он сам упал!». «Это не я, это Саша сломал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 было уже сказано, наказание - крайняя мера воздействия. Они допустимы, когда использованы все возможные формы убеждения и не принесли жела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4"/>
          <p:cNvPicPr/>
          <p:nvPr/>
        </p:nvPicPr>
        <p:blipFill>
          <a:blip r:embed="rId1"/>
          <a:stretch/>
        </p:blipFill>
        <p:spPr>
          <a:xfrm>
            <a:off x="5076720" y="476280"/>
            <a:ext cx="37418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475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Возможные формы наказ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риц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мечания в строгом т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ременная холодность в общении и лишение ребенка лас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суждение детского посту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ишение ребенка удовольствий, любимых иг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ременное отстранение от игр с товарищ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конец: насорил - убери, сломал - поч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14"/>
          <p:cNvPicPr/>
          <p:nvPr/>
        </p:nvPicPr>
        <p:blipFill>
          <a:blip r:embed="rId1"/>
          <a:stretch/>
        </p:blipFill>
        <p:spPr>
          <a:xfrm>
            <a:off x="4716360" y="692280"/>
            <a:ext cx="4427640" cy="282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691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Недопустимые формы на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Лишение сна, прогулки, 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казание тру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менение физической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нижение реб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скорб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пугив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1"/>
          <p:cNvPicPr/>
          <p:nvPr/>
        </p:nvPicPr>
        <p:blipFill>
          <a:blip r:embed="rId1"/>
          <a:stretch/>
        </p:blipFill>
        <p:spPr>
          <a:xfrm>
            <a:off x="5148360" y="981000"/>
            <a:ext cx="3779640" cy="251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09:44:35Z</dcterms:created>
  <dc:creator>User</dc:creator>
  <dc:description/>
  <dc:language>en-US</dc:language>
  <cp:lastModifiedBy>Admin</cp:lastModifiedBy>
  <dcterms:modified xsi:type="dcterms:W3CDTF">2022-04-03T18:38:45Z</dcterms:modified>
  <cp:revision>7</cp:revision>
  <dc:subject/>
  <dc:title>Допустимы ли наказания?</dc:title>
</cp:coreProperties>
</file>