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838-8568-4171-81B2-76F3F4FD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981-10D1-4987-8C4C-33C65F0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FE2-4CB4-4DD3-8297-D2D784E1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679-FF6D-4A85-8978-C2641351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74A-343D-49A1-989F-358D2B6F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E33-93EC-4B5F-BA2B-7D4D282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7DF-EF7A-4D96-9677-E3D2737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8A9-4299-4554-8DFD-C04A622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16-E08A-4BA5-BB56-17601FE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CAE-34B0-491A-9071-B392CC8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EE8-0FE8-4DF8-B9B1-AF7AC0B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24A-42F0-44E2-931E-D174FDF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AB09-2D2E-40F5-87E1-34837CE7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14:14:00Z</dcterms:created>
  <dc:creator>emachines</dc:creator>
  <dc:description/>
  <dc:language>en-US</dc:language>
  <cp:lastModifiedBy>emachines</cp:lastModifiedBy>
  <dcterms:modified xsi:type="dcterms:W3CDTF">2022-03-21T14:14:14Z</dcterms:modified>
  <cp:revision>1</cp:revision>
  <dc:subject/>
  <dc:title>Слайд 1</dc:title>
</cp:coreProperties>
</file>