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73B-D7B0-4BA3-99FD-E91A92B7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DFD-2688-4DE4-8744-54E9C32F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32A87-4BF3-45AB-AF60-410950B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1D60E-56D4-4E43-964C-9DC38A8F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71C96-4E01-4DF0-848B-A8271CD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FBE09-744F-48B5-A742-5F47B351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9FC70-A996-430D-9FEE-21D7EFD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F88FD-374F-4A9C-91CE-032323CA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2CCB5-F64F-4FF9-8ACD-30A2D8AB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289E5-20D3-4E23-91EF-2ACC0AC6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0CA48-7D1C-4907-BCCF-7E8CBC69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61E3E5-2954-4753-9B2C-54182303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4C9-4E46-4E97-8DD3-A85D0AE6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FAA940-FD69-440B-AE7C-DE792CB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32E4A-5A1C-42C2-A8FF-2940FC5E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8A2DC4-5697-46CE-8325-0290FEF7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EB01D-3F1A-4BE6-AA23-0DC1F5A0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466C6C-31B7-4BDE-A1B4-63BA034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8F16AE-A1F8-4460-B6DA-62B578F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9DDCC-3F00-44F1-A7AA-0D5F141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79A9F-012B-425D-BFE1-4CABCE3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AC401B-7F9A-4F7B-9EA5-BDB5C4C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8A0922-253C-421D-904F-0D3DB9B9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A4C-E74D-4D88-9E61-5C5D19FC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5396D-AD50-44FA-8A7B-DC06FC1E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219B-1279-47FB-B6DE-68F6EF94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906-2EC4-4997-9AD0-61B0CE9A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E6CB-8D68-4250-A1A8-CB5A61B4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0E1-101B-45F7-A97C-6166282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9D0-B77A-46A9-B77A-742377DD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BD0-C4F8-484E-8E88-7171506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4812-EA33-455A-B9D8-083468C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D9B-76B0-4C15-B6EA-DEBCF6A5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45B3-7BD6-4575-9E9B-8C81229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DB6-D92C-452E-9057-19AF193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3836-7458-46B0-98A1-3829898B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E18-D8AE-43E0-9621-98CBB0DB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5AFD-3B7A-425B-B733-58F34CA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3002-CA46-45B6-98AB-5DBB7B42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F63A-4585-4E94-B221-95FC3D87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F36F-579F-4CDA-AB89-D9F3C42C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3B0C-DEC1-4DCD-9D19-865B04E3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0558-6B4C-4ABE-8239-78D461D8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DC4-C8B3-4F66-BFEE-BBC1AEE6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53D8-E832-411E-BA55-8FA54B3D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3F5F-17FC-4B6F-BFF5-F778868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97B2-61B1-4663-93D6-66911D0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C516-19B2-4AD6-A8DF-F565F45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D2CC-0620-4C99-8A00-C0F57C04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FCA1-DFC2-4D06-90FA-FBBFE25C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6BE0-5C06-4083-851D-3AB70682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E58E9-BB0E-461D-9B18-484C693D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D659-4938-445C-8777-9824921C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F420-E892-49B0-9BC0-BD06AF61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C43-9FCA-458A-8CBC-701BF21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9271-AD38-4E68-ACDA-B929A139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C998B-606C-4CB5-B126-133C32AB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BD8B-4D9F-4F11-9C51-A259B695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2B80-E5C1-42D0-9199-A4B5CE3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377D-1D51-4530-B297-FF623690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1794-6741-4459-9DC4-CB4D1DB3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E3AE-AC70-4689-9F7D-2ACFACE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42B3-633E-40F9-B0B8-4AC4B3C9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DB44-22C1-4A43-BA3F-5B85CA17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7435-C472-4494-970C-9168C129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610-7B71-4EF6-BA2A-0343BF42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80B0-20C4-4171-81A4-C395DA1C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B7EA6-A519-489D-8F98-C00F6D33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0237-8E95-43DD-AEEA-609DA59D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F1A9-4CC6-4F33-9972-25C13CB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64AA-C2EC-4ECE-8A0F-155EA097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C84F-3766-4379-BE4E-B18C6E0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D3A5-2BFF-430A-84EA-A8EAEDD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1248-F122-4D2A-BE62-EA930EF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93CF-109F-4C2C-9492-1D3BFCA2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A5B4-2EB6-4BF7-99E0-A3B13BD9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447-4975-4008-90D5-E66F79E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216E-8AAB-4373-80D3-5A16AD37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7308-D8F1-4E6B-B53A-0CACBD75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EDC7B-F9EC-48BC-BBA9-CECE12A9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4F0B-F976-45C6-A470-EAE0B0B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83B3-8A0D-42A8-9E0C-2C33540C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D61C-942B-4465-913C-BA873E3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58FD-6B1C-4C77-9133-A39D8CE4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842E0-EBC3-4C75-9960-9213FF4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C010-4329-40AB-A1A7-B0DA0BF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564E-B0B9-4C00-871E-A22A4C2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62C-C384-45D6-9732-7253817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A86A-3DE4-4B3A-A067-B1215989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1757-A3CB-46C4-891F-707B0AFA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44BD-20FA-4636-8295-BB110BA2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41C78-94A3-484B-9E43-F8EB4C7B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D65A-3192-44EB-B6EC-AF72F43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B9AD-A87B-4EE8-A48D-832ADB49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F18D-224E-4C41-81D6-57AACA3A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ED17-F1C0-4438-BFE3-7D86AF0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2C0FB-B846-42C4-B43B-7805F192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3DFC-E9C7-4382-ACD7-AF598933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110-DC64-4C4C-B5D6-FA04CEC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99BA-26F1-454B-A45A-FAA5296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559D-0851-467F-9B65-E4252EA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2FDF5-5907-4178-9651-8B94766C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06CF8-AF66-4E26-A5AD-22CF7638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0CA7-90A2-46EB-A12F-BBE00155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7F603-D3F7-4EE5-AFAB-9CCDE3DA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C144-C8F9-4617-A7ED-81AF8F5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67C8F-E2B7-4E94-9AE6-FFAAE1EA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CB7E4-D1A7-42FB-84BC-044B51C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DEA8-88BD-4639-B06F-A96C3E7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298-DF16-45BA-93E4-A6CCAA27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7FDD5-E954-4300-8C4A-7569F5E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C8B4-F864-4781-8420-9FE9430A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4F06-D8BA-4CB0-9E0B-D83AB86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F3962-8A7D-44C8-97BA-11F0E72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CEA6-6691-4269-8D4B-A3B1A2CB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5D17-ADA1-45C7-A3BE-94E1135E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54F29-63EF-40BB-BEE1-E3D95A77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CA7A5-D4D5-4429-8493-EC0FE6C0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D56FC-991F-431F-8E69-7E2528F4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CE5F0-9312-4A9D-AF7F-7E2503B0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F339-F76C-4D6B-AC31-C294BBD1AC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1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1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81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81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1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81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1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82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82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2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2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2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2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2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3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8D9B-AE56-4356-AF2D-30080FE5C4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7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4FF7-E89C-4695-98D2-96455EED98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2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23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3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4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25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8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28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301B-3086-4AB8-A839-0E1266493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2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2D1-27AE-4CF9-A00E-8FC7C6290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8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8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8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38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8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38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39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612-91A2-499A-9B4C-09F2A1AB23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5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5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5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5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5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4B5-C18C-4730-A9ED-EF366BCF01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1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1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61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95C-F072-4D25-B3C1-26A2F21987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66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6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67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69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1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71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1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2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2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09ED-3CB2-4D54-9D95-4695D231B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7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C56D-561F-4EF0-9429-8F758724B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ВОЛЕЙБОЛ</a:t>
            </a:r>
            <a:br>
              <a:rPr sz="54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(классический)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авила игр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игры - направить мяч над сеткой, чтобы он коснулся площадки соперника, и предотвратить такую же попытку соперника. Для этого команда имеет 3 касания мяча (и еще одно возможное дополнительное касание мяча на блок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2" descr="22916693240404"/>
          <p:cNvPicPr/>
          <p:nvPr/>
        </p:nvPicPr>
        <p:blipFill>
          <a:blip r:embed="rId1"/>
          <a:stretch/>
        </p:blipFill>
        <p:spPr>
          <a:xfrm>
            <a:off x="981000" y="1413000"/>
            <a:ext cx="3022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стояние иг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яч в иг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яч находится в игре с момента удара при подаче, разрешенной первым судь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яч вн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яч находится вне игры с момента ошибки, которая зафиксирована свистком одного из су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яч &lt;в площадке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яч считается &lt;в площадке&gt;, когда он касается ее поверхности, включая ограничительные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яч &lt;за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яч считается &lt;за&gt; ког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часть мяча, которая касается пола, находится полностью за ограничительными лини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 касается предмета за пределами площадки, потолка или не участвующего в игре челове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 касается антенн, шнуров, стоек или сетки за пределами боковых лен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 пересекает вертикальную плоскость сетки, целиком или частично находясь за пределами плоскости пере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   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 полностью пересекает плоскость под се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гра. Выигрыш очк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набирает очко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- При успешном приземлении мяча на игровой площадке соперника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- когда команда соперника совершает ошибку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- когда команда соперника получает Заме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7" descr="aaC8hiBBFrg"/>
          <p:cNvPicPr/>
          <p:nvPr/>
        </p:nvPicPr>
        <p:blipFill>
          <a:blip r:embed="rId1"/>
          <a:stretch/>
        </p:blipFill>
        <p:spPr>
          <a:xfrm rot="20352000">
            <a:off x="480960" y="2292120"/>
            <a:ext cx="42404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гровые действия. Подача мяч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ч вводится в игру подачей: подающий игрок ударом направляет мяч на сторону соперника. При подаче мяч должен быть подброшен или выпущен из руки. Подача «с руки» запрещ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0" descr="1361082942_volzanka4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гровые действия. Ошибки на подаче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к заступил ногой на пространство площ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к подбросил и поймал м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истечении 8 секунд после свистка судьи мяч передаётся команде сопер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ание антенны мя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дбросил (не выпустил) м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гровые действия. Прием по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47960" y="1412640"/>
            <a:ext cx="3886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принимают мяч игроки, стоящие на задней линии. Однако принять подачу может любой игрок. Игрокам принимающей команды разрешается сделать три касания (игроку нельзя дважды подряд касаться  мяча) и максимум третьим касанием перевести мяч на половину противника. Обрабатывать мяч на приёме можно в любом месте площадки и свободного простра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photo_1332062385_14"/>
          <p:cNvPicPr/>
          <p:nvPr/>
        </p:nvPicPr>
        <p:blipFill>
          <a:blip r:embed="rId1"/>
          <a:stretch/>
        </p:blipFill>
        <p:spPr>
          <a:xfrm>
            <a:off x="900000" y="1484280"/>
            <a:ext cx="34639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гровые действия. Ошибки на приеме мяч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10920" y="2491920"/>
            <a:ext cx="79246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опускается никакая задержка мяча или «двойное касание» при его обработке, хотя принимать мяч можно любой частью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гровые действия. Вторая передач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ередача выполняется с целью организации атакующих действий. Она должна быть: неожиданная для соперника, точная, удобная для напада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9" descr="106296168"/>
          <p:cNvPicPr/>
          <p:nvPr/>
        </p:nvPicPr>
        <p:blipFill>
          <a:blip r:embed="rId1"/>
          <a:srcRect l="56521" t="2045" r="0" b="0"/>
          <a:stretch/>
        </p:blipFill>
        <p:spPr>
          <a:xfrm>
            <a:off x="1258920" y="1628640"/>
            <a:ext cx="2452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шибки на второй передач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9246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ание мяча ладонями (слышен шлеп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ч задержан в руках (пойм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войное» касание мя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гровые действия. Перех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ьная площадка с каждой стороны условно разделена на шесть зон: три под сеткой (передняя линия) и три сзади, в трех метрах от сетки (задняя линия). Три игрока передней линии занимают позиции (слева направо) 4, 3 и 2, а игроки задней линии, соответственно, 5, 6 и 1 (позиция подающего). Начальная расстановка определяет порядок последующего перехода игроков на площадке. Переход осуществляется после того, как команда «отыграла» подачу соперника. Порядок перехода сохраняется на протяжении всей пар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7" descr="150px-VolleyballRotation"/>
          <p:cNvPicPr/>
          <p:nvPr/>
        </p:nvPicPr>
        <p:blipFill>
          <a:blip r:embed="rId1"/>
          <a:stretch/>
        </p:blipFill>
        <p:spPr>
          <a:xfrm>
            <a:off x="1074600" y="1557360"/>
            <a:ext cx="2907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лейбол является спортивной игрой с мячом, в которой две команды, по шесть игроков в каждой, соревнуются на специальной площадке, разделенной сеткой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75" name="Picture 5" descr="1305120271%5Fbeachvolleyballcvrpg"/>
          <p:cNvPicPr/>
          <p:nvPr/>
        </p:nvPicPr>
        <p:blipFill>
          <a:blip r:embed="rId1"/>
          <a:stretch/>
        </p:blipFill>
        <p:spPr>
          <a:xfrm>
            <a:off x="1835280" y="1998720"/>
            <a:ext cx="5400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дьи и их местоположение и полномо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судь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полняет свои обязанности сидя или стоя на судейской вышке, расположенной у одного из концов сетки. Первый судья руководит матчем от начала до конца. Он руководит всей судейской бригадой и участниками команд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время матча его решения являются окончательными. Он имеет право отменять решения других членов судейской бригады, если считает, что они ошибочны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может заменить члена судейской бригады, который не выполняет правильно свои обязанност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дьи и их местоположение и полномо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ой судь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полняет свои обязанности, стоя за пределами игровой площадки около стойки, на противоположной стороне от первого судьи, лицом в его сторону. Второй судья является помощником первого судьи, но имеет также свою собственную сферу полномочий. Второй судья может, без свистка, показывать ошибки, не относящиеся к его сфере полномочий, но не может настаивать на их принятии первым судье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судья контролирует работу секретар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дьи и их местоположение и полномо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кретар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ыполняет свои обязанности сидя за столиком секретаря на противоположной стороне от первого судьи, лицом к нему. Секретарь ведет протокол в соответствии с Правилами, взаимодействуя со вторым судьей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кретарь использует зуммер или иное звуковое устройство для подачи сигнала судьям в соответствии со своими обязанност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дьи и их местоположение и полномо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и на линии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используется только двое судей на линии, то они стоят в углах площадки, ближайших к правой руке каждого судьи, по диагонали, в 1-2 м от углов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из них контролирует боковую и лицевую линии на его стороне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фициальных соревнований ФИВБ наличие 4-х судей на линии обязательно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стоят в свободной зоне в 1-3 м от каждого угла площадки, на воображаемом продолжении линии, которую они контролируют. Судьи на линии выполняют свои обязанности при помощи флага (40 х 40 см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игрыш партии, мат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тия (кроме решающей - 5-й) выигрывается командой, которая первой набирает 25 очков с преимуществом минимум в 2 очка. В случае равного счета 24-24, игра продолжается до достижения преимущества в 2 очка (26-24, 27-25, ..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бедителем матча является команда, которая выигрывает три парт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чете партий 2-2, решающая (пятая) партия играется до 15 очков с минимальным преимуществом в 2 оч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Изобретателем волейбола считается Уильям Дж.Морган, преподаватель физического воспитания колледжа в городе Холиоке (1895 год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77" name="Picture 5" descr="Kurennaja%5FG%5FS%5F%5Fvolejbol%5Fv%5Fgorsadu%5Ffeodosia%5F60-e"/>
          <p:cNvPicPr/>
          <p:nvPr/>
        </p:nvPicPr>
        <p:blipFill>
          <a:blip r:embed="rId1"/>
          <a:stretch/>
        </p:blipFill>
        <p:spPr>
          <a:xfrm>
            <a:off x="4140360" y="3284640"/>
            <a:ext cx="4105080" cy="2760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7" descr="150px-William_G"/>
          <p:cNvPicPr/>
          <p:nvPr/>
        </p:nvPicPr>
        <p:blipFill>
          <a:blip r:embed="rId2"/>
          <a:stretch/>
        </p:blipFill>
        <p:spPr>
          <a:xfrm>
            <a:off x="1042920" y="206064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лейбол — неконтактный, комбинационный вид спорта, где каждый игрок имеет строгую специализацию на площадке. Важнейшими качествами для игроков в волейбол являются прыгучесть для возможности высоко подняться над сеткой, реакция, координация, физическая сила для эффективного произведения атакующих ударов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лейбольная площад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е поле включает игровую площадку и свободную зону. Оно должно быть прямоугольным и симметрич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свободной зоны: расстояние от боковых линий 3-5 м и от лицевых - 5-8 м. Высота свободного пространства над игровым полем - 12,5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7" descr="VolleyballCourt"/>
          <p:cNvPicPr/>
          <p:nvPr/>
        </p:nvPicPr>
        <p:blipFill>
          <a:blip r:embed="rId1"/>
          <a:stretch/>
        </p:blipFill>
        <p:spPr>
          <a:xfrm>
            <a:off x="1116000" y="1773360"/>
            <a:ext cx="2857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лейбольная площад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поверхность должна быть плоской, горизонтальной и однообразной. Она не должна представлять никакой опасности получения травм игроками. Запрещено играть на неровных или скользких поверхност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2" descr="File:VoleyballPavilion.jpg"/>
          <p:cNvPicPr/>
          <p:nvPr/>
        </p:nvPicPr>
        <p:blipFill>
          <a:blip r:embed="rId1"/>
          <a:stretch/>
        </p:blipFill>
        <p:spPr>
          <a:xfrm>
            <a:off x="324000" y="1989000"/>
            <a:ext cx="4535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лейбольная площад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площадки: 18 м. - длина, 9 м. – ширина. Площадка разделена на две части размером 9×9 метров с помощью сетки метровой ширины. Сетка расположена таким образом, что её высшая точка находится на высоте 2,43 метра от земли на мужских соревнованиях и 2,24 метра — на женских. Сетка может быть любого цвета (на официальных соревнованиях только черная с белыми ограничительными линия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7" descr="220px-VolleyballNet"/>
          <p:cNvPicPr/>
          <p:nvPr/>
        </p:nvPicPr>
        <p:blipFill>
          <a:blip r:embed="rId1"/>
          <a:stretch/>
        </p:blipFill>
        <p:spPr>
          <a:xfrm>
            <a:off x="539640" y="1844640"/>
            <a:ext cx="388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Линии на площадке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ина всех линий 5 см. Линии должны быть светлыми и отличаться по цвету от пола и любых других ли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ительные лини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боковые и две лицевые линии ограничивают игровую площадку. Боковые и лицевые линии входят в размеры игровой площ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линия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 средней линии разделяет игровую площадку на две равные площадки размером 9 х 9 м каждая. Эта линия проведена под сеткой от одной боковой линии до середины другой. Находится строго под сет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8" descr="VolleyballCourt"/>
          <p:cNvPicPr/>
          <p:nvPr/>
        </p:nvPicPr>
        <p:blipFill>
          <a:blip r:embed="rId1"/>
          <a:stretch/>
        </p:blipFill>
        <p:spPr>
          <a:xfrm>
            <a:off x="968400" y="1484280"/>
            <a:ext cx="319248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лейбольный мя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ейбольный мя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стоит кожи (естественной или искусственной), натянутой вокруг каркаса. Мяч может быть разноцветным или полностью белым. Длина окружности мяча 65—67 см; вес — 260—280 г. Внутреннее давление 0,30 — 0,325 кг/см2 (294,3—318,82 гПа). Волейбольные мячи, использующиеся в пляжном волейболе немного больше и у них ниже внутреннее д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8" descr="10001193901%5F1"/>
          <p:cNvPicPr/>
          <p:nvPr/>
        </p:nvPicPr>
        <p:blipFill>
          <a:blip r:embed="rId1"/>
          <a:stretch/>
        </p:blipFill>
        <p:spPr>
          <a:xfrm>
            <a:off x="1122480" y="1484280"/>
            <a:ext cx="1522440" cy="153828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1eae21d0851a7daa7885c369b0670194"/>
          <p:cNvPicPr/>
          <p:nvPr/>
        </p:nvPicPr>
        <p:blipFill>
          <a:blip r:embed="rId2"/>
          <a:stretch/>
        </p:blipFill>
        <p:spPr>
          <a:xfrm>
            <a:off x="2627280" y="285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2" descr="MVP200"/>
          <p:cNvPicPr/>
          <p:nvPr/>
        </p:nvPicPr>
        <p:blipFill>
          <a:blip r:embed="rId3"/>
          <a:stretch/>
        </p:blipFill>
        <p:spPr>
          <a:xfrm>
            <a:off x="900000" y="4221000"/>
            <a:ext cx="15717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47:14Z</dcterms:created>
  <dc:creator>niro-fizkult</dc:creator>
  <dc:description/>
  <dc:language>en-US</dc:language>
  <cp:lastModifiedBy>-</cp:lastModifiedBy>
  <dcterms:modified xsi:type="dcterms:W3CDTF">2021-10-07T06:29:22Z</dcterms:modified>
  <cp:revision>11</cp:revision>
  <dc:subject/>
  <dc:title>ВОЛЕЙБОЛ </dc:title>
</cp:coreProperties>
</file>