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3A56-C446-4065-96AF-ED1ED1EDFD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3B13-17B5-4204-9384-992EED1A9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433-9BB6-4459-A340-34AE81FF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5C3-6E49-4786-9107-64B9FB24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C42-17D9-4FC4-ABF1-3BB4182E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2A4-9324-4D3E-A2BA-94804057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9301-C257-4C19-BEAD-9B414E43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7400-632E-41EF-9B7E-0766BF01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345C-8067-4E40-B3C1-E0470399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026F-F388-4E67-99F0-44FD71E8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2A40-9D39-49B9-8572-8D5EA583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2DC6-A6AA-4503-A3D2-8788CD9C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17DE-EBDF-43EC-9DB0-B13CB3CA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537-9E0D-4C85-9624-9FD831A6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867B-9AF3-42E1-B056-087D6474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1D33-9D30-4E9F-872F-EED5691C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9B7D-541F-49A7-B8FC-79E86A0C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DDCC-A5C5-4B2A-BAE8-C5849A92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DD3B-3743-4613-932E-A6289CDD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0919A-09E5-44C2-A3CB-A4B7393F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4120C-8870-42C5-A83E-7EAE1543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6B100-8EA7-4BF5-BA69-F6B67852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1027-3FBD-4F99-837E-901F58E3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B3381-6251-44D9-8AFC-1DEEFF77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6129-02E1-4C7F-88B6-28E0997D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AC3A9-9009-433C-B817-476681EA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7B50-3F3B-4CA9-9629-7EB986D3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0AA3-B36E-4E97-AB52-0B3AC5E1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EDE23-3FC9-4B8F-A2DF-AC94A4D6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B33C9-BA5D-44C5-A849-4BA42DBA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8D04-5268-4BC7-937A-B8D48132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77D5E-9A3C-4890-A495-6FDB1EDA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C92D1-9730-42CF-9F53-D7951F5F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56DBC-5D66-449F-AC05-1F209935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B8E89-9CD0-4A0E-8685-DFF6E529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5A5-5A4D-4C68-9708-CFAC39E5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E16F2-D287-4853-9F66-359F489E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99843-9A22-4172-8A97-B83808C9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BDACC-C234-4BDB-B9D2-3EA504AA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87421-2064-427C-ACF2-C8472237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3EF41-D004-4552-BFCB-D554A558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91E63-BB40-4686-85E3-E706F5AE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2463D-039B-4679-B03B-7E34C04C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0FDE7-2101-483C-B0A8-D9B267F4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76D8C-03E1-406E-A622-000F6D05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927-F477-437D-8075-6D4B1767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F91-4AF4-4E69-B503-A1E970AB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3E2-A998-40FD-9F42-2E7F4DAE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830-BAB5-47A8-B681-D20CE617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16D-A101-43DD-AFEB-1534EDFC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6938-67A8-4C39-A86C-FE24236402C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AAA7-969F-40F7-8AC8-64D0D809C3A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4E1B-0BC6-4029-89CF-A12739AE85A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9EDA-B30D-4E3C-8963-5C0D8E6EE59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3078000" y="4290840"/>
            <a:ext cx="6224760" cy="31212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9"/>
          <p:cNvSpPr/>
          <p:nvPr/>
        </p:nvSpPr>
        <p:spPr>
          <a:xfrm>
            <a:off x="2700360" y="836640"/>
            <a:ext cx="3743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http://www.ynet.co.il/PicServer2/13062011/3654039/shutterstock_72393445_wa.jpg"/>
          <p:cNvPicPr/>
          <p:nvPr/>
        </p:nvPicPr>
        <p:blipFill>
          <a:blip r:embed="rId2"/>
          <a:stretch/>
        </p:blipFill>
        <p:spPr>
          <a:xfrm>
            <a:off x="0" y="4915080"/>
            <a:ext cx="2916360" cy="1942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http://bm.img.com.ua/img/otvet/q/6/628456_n.jpg"/>
          <p:cNvPicPr/>
          <p:nvPr/>
        </p:nvPicPr>
        <p:blipFill>
          <a:blip r:embed="rId3"/>
          <a:stretch/>
        </p:blipFill>
        <p:spPr>
          <a:xfrm>
            <a:off x="469800" y="2679840"/>
            <a:ext cx="2916360" cy="1938240"/>
          </a:xfrm>
          <a:prstGeom prst="rect">
            <a:avLst/>
          </a:prstGeom>
          <a:ln w="0">
            <a:noFill/>
          </a:ln>
        </p:spPr>
      </p:pic>
      <p:sp>
        <p:nvSpPr>
          <p:cNvPr id="206" name="WordArt 14"/>
          <p:cNvSpPr txBox="1"/>
          <p:nvPr/>
        </p:nvSpPr>
        <p:spPr>
          <a:xfrm>
            <a:off x="5508720" y="5589720"/>
            <a:ext cx="14954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28440">
                  <a:solidFill>
                    <a:srgbClr val="990000"/>
                  </a:solidFill>
                  <a:miter/>
                </a:ln>
                <a:solidFill>
                  <a:srgbClr val="c4ce4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3200" spc="1" strike="noStrike">
              <a:ln w="28440">
                <a:solidFill>
                  <a:srgbClr val="990000"/>
                </a:solidFill>
                <a:miter/>
              </a:ln>
              <a:solidFill>
                <a:srgbClr val="c4ce4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7" name="Picture 15" descr="http://t2.ftcdn.net/jpg/00/08/65/15/400_F_8651591_Bkp7KN2pZtd8l8cDhOxOildSYabrpXMq.jpg"/>
          <p:cNvPicPr/>
          <p:nvPr/>
        </p:nvPicPr>
        <p:blipFill>
          <a:blip r:embed="rId4"/>
          <a:stretch/>
        </p:blipFill>
        <p:spPr>
          <a:xfrm rot="21111000">
            <a:off x="379080" y="175680"/>
            <a:ext cx="3097080" cy="203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http://www.mciturkiye.com/sresimler/129597824368281250_englishclass01.jpg"/>
          <p:cNvPicPr/>
          <p:nvPr/>
        </p:nvPicPr>
        <p:blipFill>
          <a:blip r:embed="rId5"/>
          <a:stretch/>
        </p:blipFill>
        <p:spPr>
          <a:xfrm rot="584400">
            <a:off x="6335280" y="189000"/>
            <a:ext cx="2808360" cy="2127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http://www.mediazavod.ru/system/pictures/images/000/052/159/1423966414/_.jpg?1281087598"/>
          <p:cNvPicPr/>
          <p:nvPr/>
        </p:nvPicPr>
        <p:blipFill>
          <a:blip r:embed="rId6"/>
          <a:stretch/>
        </p:blipFill>
        <p:spPr>
          <a:xfrm rot="654600">
            <a:off x="4525920" y="23824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C:\Users\1\Desktop\P1010406.JPG"/>
          <p:cNvPicPr/>
          <p:nvPr/>
        </p:nvPicPr>
        <p:blipFill>
          <a:blip r:embed="rId7"/>
          <a:stretch/>
        </p:blipFill>
        <p:spPr>
          <a:xfrm>
            <a:off x="-1644480" y="-15436800"/>
            <a:ext cx="1344600" cy="100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"/>
          <p:cNvPicPr/>
          <p:nvPr/>
        </p:nvPicPr>
        <p:blipFill>
          <a:blip r:embed="rId8"/>
          <a:stretch/>
        </p:blipFill>
        <p:spPr>
          <a:xfrm>
            <a:off x="3726000" y="160200"/>
            <a:ext cx="2449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 Narrow"/>
              </a:rPr>
              <a:t>Что осложняет отношения старших и младших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187280" y="1989000"/>
            <a:ext cx="7499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1) взаимное уваж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2) стремление предостеречь от ошиб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3) стремление передать свой жизненный опы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4) неумение понять друг друг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684360" y="4221000"/>
            <a:ext cx="502920" cy="432000"/>
          </a:xfrm>
          <a:custGeom>
            <a:avLst/>
            <a:gdLst/>
            <a:ahLst/>
            <a:rect l="l" t="t" r="r" b="b"/>
            <a:pathLst>
              <a:path w="503237" h="431800">
                <a:moveTo>
                  <a:pt x="1" y="164933"/>
                </a:moveTo>
                <a:lnTo>
                  <a:pt x="192220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6" y="164933"/>
                </a:lnTo>
                <a:lnTo>
                  <a:pt x="347726" y="266866"/>
                </a:lnTo>
                <a:lnTo>
                  <a:pt x="407127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53964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 Narrow"/>
              </a:rPr>
              <a:t>Какое качество особенно ценится в общ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71640" y="2421000"/>
            <a:ext cx="77976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Narrow"/>
              </a:rPr>
              <a:t>1) умение интересно рассказ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Narrow"/>
              </a:rPr>
              <a:t>2) умение слу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Narrow"/>
              </a:rPr>
              <a:t>3) умение рассмеш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Narrow"/>
              </a:rPr>
              <a:t>4) умение сопровождать рассказ мимикой и жес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6"/>
          <p:cNvSpPr/>
          <p:nvPr/>
        </p:nvSpPr>
        <p:spPr>
          <a:xfrm>
            <a:off x="468360" y="2924280"/>
            <a:ext cx="503280" cy="431640"/>
          </a:xfrm>
          <a:custGeom>
            <a:avLst/>
            <a:gdLst/>
            <a:ahLst/>
            <a:rect l="l" t="t" r="r" b="b"/>
            <a:pathLst>
              <a:path w="503237" h="431800">
                <a:moveTo>
                  <a:pt x="1" y="164933"/>
                </a:moveTo>
                <a:lnTo>
                  <a:pt x="192220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6" y="164933"/>
                </a:lnTo>
                <a:lnTo>
                  <a:pt x="347726" y="266866"/>
                </a:lnTo>
                <a:lnTo>
                  <a:pt x="407127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 Narrow"/>
              </a:rPr>
              <a:t>Найти примеры неречевого общен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4284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1) приглашение в г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2) рукопожатие с приятеле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3) беседа с учителе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4) скучающий ви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5) письмо бабушк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6) прощальный взмах рук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900000" y="2205000"/>
            <a:ext cx="503280" cy="432000"/>
          </a:xfrm>
          <a:custGeom>
            <a:avLst/>
            <a:gdLst/>
            <a:ahLst/>
            <a:rect l="l" t="t" r="r" b="b"/>
            <a:pathLst>
              <a:path w="503237" h="431800">
                <a:moveTo>
                  <a:pt x="1" y="164933"/>
                </a:moveTo>
                <a:lnTo>
                  <a:pt x="192220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6" y="164933"/>
                </a:lnTo>
                <a:lnTo>
                  <a:pt x="347726" y="266866"/>
                </a:lnTo>
                <a:lnTo>
                  <a:pt x="407127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971640" y="3429000"/>
            <a:ext cx="503280" cy="431640"/>
          </a:xfrm>
          <a:custGeom>
            <a:avLst/>
            <a:gdLst/>
            <a:ahLst/>
            <a:rect l="l" t="t" r="r" b="b"/>
            <a:pathLst>
              <a:path w="503238" h="431800">
                <a:moveTo>
                  <a:pt x="1" y="164933"/>
                </a:moveTo>
                <a:lnTo>
                  <a:pt x="192221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7" y="164933"/>
                </a:lnTo>
                <a:lnTo>
                  <a:pt x="347727" y="266866"/>
                </a:lnTo>
                <a:lnTo>
                  <a:pt x="407128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971640" y="4581360"/>
            <a:ext cx="503280" cy="432000"/>
          </a:xfrm>
          <a:custGeom>
            <a:avLst/>
            <a:gdLst/>
            <a:ahLst/>
            <a:rect l="l" t="t" r="r" b="b"/>
            <a:pathLst>
              <a:path w="503238" h="431800">
                <a:moveTo>
                  <a:pt x="1" y="164933"/>
                </a:moveTo>
                <a:lnTo>
                  <a:pt x="192221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7" y="164933"/>
                </a:lnTo>
                <a:lnTo>
                  <a:pt x="347727" y="266866"/>
                </a:lnTo>
                <a:lnTo>
                  <a:pt x="407128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 Narrow"/>
              </a:rPr>
              <a:t>Найти примеры особенностей общения младших со старшим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15640" y="1557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1) обязательное возникновение конфлик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2) уважение к возрасту старши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3) сложность с пониманием относиться к фантазиям младши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4) общение подразумевает полное равенст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5) для родителей их дети всегда выступают в роли ребён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611280" y="2133720"/>
            <a:ext cx="503280" cy="431640"/>
          </a:xfrm>
          <a:custGeom>
            <a:avLst/>
            <a:gdLst/>
            <a:ahLst/>
            <a:rect l="l" t="t" r="r" b="b"/>
            <a:pathLst>
              <a:path w="503237" h="431800">
                <a:moveTo>
                  <a:pt x="1" y="164933"/>
                </a:moveTo>
                <a:lnTo>
                  <a:pt x="192220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6" y="164933"/>
                </a:lnTo>
                <a:lnTo>
                  <a:pt x="347726" y="266866"/>
                </a:lnTo>
                <a:lnTo>
                  <a:pt x="407127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611280" y="2781360"/>
            <a:ext cx="503280" cy="431640"/>
          </a:xfrm>
          <a:custGeom>
            <a:avLst/>
            <a:gdLst/>
            <a:ahLst/>
            <a:rect l="l" t="t" r="r" b="b"/>
            <a:pathLst>
              <a:path w="503237" h="431800">
                <a:moveTo>
                  <a:pt x="1" y="164933"/>
                </a:moveTo>
                <a:lnTo>
                  <a:pt x="192220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6" y="164933"/>
                </a:lnTo>
                <a:lnTo>
                  <a:pt x="347726" y="266866"/>
                </a:lnTo>
                <a:lnTo>
                  <a:pt x="407127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611280" y="4437000"/>
            <a:ext cx="503280" cy="432000"/>
          </a:xfrm>
          <a:custGeom>
            <a:avLst/>
            <a:gdLst/>
            <a:ahLst/>
            <a:rect l="l" t="t" r="r" b="b"/>
            <a:pathLst>
              <a:path w="503237" h="431800">
                <a:moveTo>
                  <a:pt x="1" y="164933"/>
                </a:moveTo>
                <a:lnTo>
                  <a:pt x="192220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6" y="164933"/>
                </a:lnTo>
                <a:lnTo>
                  <a:pt x="347726" y="266866"/>
                </a:lnTo>
                <a:lnTo>
                  <a:pt x="407127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 Narrow"/>
              </a:rPr>
              <a:t>Верны ли суждения об общении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71280" y="1989000"/>
            <a:ext cx="7715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Arial Narrow"/>
              </a:rPr>
              <a:t>А.</a:t>
            </a: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  Существует как речевое, так и неречевое общ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Arial Narrow"/>
              </a:rPr>
              <a:t>Б.</a:t>
            </a: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  Даже общеизвестные вежливые слова могут оскорбить челове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395280" y="2060640"/>
            <a:ext cx="503280" cy="431640"/>
          </a:xfrm>
          <a:custGeom>
            <a:avLst/>
            <a:gdLst/>
            <a:ahLst/>
            <a:rect l="l" t="t" r="r" b="b"/>
            <a:pathLst>
              <a:path w="503237" h="431800">
                <a:moveTo>
                  <a:pt x="1" y="164933"/>
                </a:moveTo>
                <a:lnTo>
                  <a:pt x="192220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6" y="164933"/>
                </a:lnTo>
                <a:lnTo>
                  <a:pt x="347726" y="266866"/>
                </a:lnTo>
                <a:lnTo>
                  <a:pt x="407127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468360" y="3716280"/>
            <a:ext cx="503280" cy="432000"/>
          </a:xfrm>
          <a:custGeom>
            <a:avLst/>
            <a:gdLst/>
            <a:ahLst/>
            <a:rect l="l" t="t" r="r" b="b"/>
            <a:pathLst>
              <a:path w="503237" h="431800">
                <a:moveTo>
                  <a:pt x="1" y="164933"/>
                </a:moveTo>
                <a:lnTo>
                  <a:pt x="192220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6" y="164933"/>
                </a:lnTo>
                <a:lnTo>
                  <a:pt x="347726" y="266866"/>
                </a:lnTo>
                <a:lnTo>
                  <a:pt x="407127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 Narrow"/>
              </a:rPr>
              <a:t>Верны ли суждения о средствах общения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042560" y="1700280"/>
            <a:ext cx="7643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Arial Narrow"/>
              </a:rPr>
              <a:t>А.</a:t>
            </a: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  В общении человека большую роль играет мими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Arial Narrow"/>
              </a:rPr>
              <a:t>Б.</a:t>
            </a: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  Важное средство общения, передающее информацию, - жес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539640" y="1773360"/>
            <a:ext cx="503280" cy="431640"/>
          </a:xfrm>
          <a:custGeom>
            <a:avLst/>
            <a:gdLst/>
            <a:ahLst/>
            <a:rect l="l" t="t" r="r" b="b"/>
            <a:pathLst>
              <a:path w="503238" h="431800">
                <a:moveTo>
                  <a:pt x="1" y="164933"/>
                </a:moveTo>
                <a:lnTo>
                  <a:pt x="192221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7" y="164933"/>
                </a:lnTo>
                <a:lnTo>
                  <a:pt x="347727" y="266866"/>
                </a:lnTo>
                <a:lnTo>
                  <a:pt x="407128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539640" y="3429000"/>
            <a:ext cx="503280" cy="431640"/>
          </a:xfrm>
          <a:custGeom>
            <a:avLst/>
            <a:gdLst/>
            <a:ahLst/>
            <a:rect l="l" t="t" r="r" b="b"/>
            <a:pathLst>
              <a:path w="503238" h="431800">
                <a:moveTo>
                  <a:pt x="1" y="164933"/>
                </a:moveTo>
                <a:lnTo>
                  <a:pt x="192221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7" y="164933"/>
                </a:lnTo>
                <a:lnTo>
                  <a:pt x="347727" y="266866"/>
                </a:lnTo>
                <a:lnTo>
                  <a:pt x="407128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 Narrow"/>
              </a:rPr>
              <a:t>Верны ли суждения о целях общения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Arial Narrow"/>
              </a:rPr>
              <a:t>А.</a:t>
            </a: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  В ходе общения люди стремятся поделиться своими знаниями, опытом, чувств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Arial Narrow"/>
              </a:rPr>
              <a:t>Б.</a:t>
            </a: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  Целью общения часто является само общ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468360" y="1628640"/>
            <a:ext cx="503280" cy="432000"/>
          </a:xfrm>
          <a:custGeom>
            <a:avLst/>
            <a:gdLst/>
            <a:ahLst/>
            <a:rect l="l" t="t" r="r" b="b"/>
            <a:pathLst>
              <a:path w="503237" h="431800">
                <a:moveTo>
                  <a:pt x="1" y="164933"/>
                </a:moveTo>
                <a:lnTo>
                  <a:pt x="192220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6" y="164933"/>
                </a:lnTo>
                <a:lnTo>
                  <a:pt x="347726" y="266866"/>
                </a:lnTo>
                <a:lnTo>
                  <a:pt x="407127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468360" y="3789360"/>
            <a:ext cx="503280" cy="431640"/>
          </a:xfrm>
          <a:custGeom>
            <a:avLst/>
            <a:gdLst/>
            <a:ahLst/>
            <a:rect l="l" t="t" r="r" b="b"/>
            <a:pathLst>
              <a:path w="503237" h="431800">
                <a:moveTo>
                  <a:pt x="1" y="164933"/>
                </a:moveTo>
                <a:lnTo>
                  <a:pt x="192220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6" y="164933"/>
                </a:lnTo>
                <a:lnTo>
                  <a:pt x="347726" y="266866"/>
                </a:lnTo>
                <a:lnTo>
                  <a:pt x="407127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 Narrow"/>
              </a:rPr>
              <a:t>Верно ли, что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16000" y="1700280"/>
            <a:ext cx="7570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Arial Narrow"/>
              </a:rPr>
              <a:t>А.</a:t>
            </a: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  Часто в общении главным является умение слушать собеседни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Arial Narrow"/>
              </a:rPr>
              <a:t>Б.</a:t>
            </a: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  Общение не допускает конфликта между людь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539640" y="1700280"/>
            <a:ext cx="503280" cy="431640"/>
          </a:xfrm>
          <a:custGeom>
            <a:avLst/>
            <a:gdLst/>
            <a:ahLst/>
            <a:rect l="l" t="t" r="r" b="b"/>
            <a:pathLst>
              <a:path w="503238" h="431800">
                <a:moveTo>
                  <a:pt x="1" y="164933"/>
                </a:moveTo>
                <a:lnTo>
                  <a:pt x="192221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7" y="164933"/>
                </a:lnTo>
                <a:lnTo>
                  <a:pt x="347727" y="266866"/>
                </a:lnTo>
                <a:lnTo>
                  <a:pt x="407128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2987640" y="3213000"/>
            <a:ext cx="1224000" cy="10796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6"/>
          <p:cNvSpPr/>
          <p:nvPr/>
        </p:nvSpPr>
        <p:spPr>
          <a:xfrm flipH="1">
            <a:off x="3132000" y="3141720"/>
            <a:ext cx="1152720" cy="12952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солнышко2"/>
          <p:cNvPicPr/>
          <p:nvPr/>
        </p:nvPicPr>
        <p:blipFill>
          <a:blip r:embed="rId1"/>
          <a:stretch/>
        </p:blipFill>
        <p:spPr>
          <a:xfrm>
            <a:off x="539640" y="333360"/>
            <a:ext cx="4056120" cy="4056120"/>
          </a:xfrm>
          <a:prstGeom prst="rect">
            <a:avLst/>
          </a:prstGeom>
          <a:ln w="0">
            <a:noFill/>
          </a:ln>
        </p:spPr>
      </p:pic>
      <p:sp>
        <p:nvSpPr>
          <p:cNvPr id="297" name="WordArt 5"/>
          <p:cNvSpPr txBox="1"/>
          <p:nvPr/>
        </p:nvSpPr>
        <p:spPr>
          <a:xfrm>
            <a:off x="3708360" y="3141720"/>
            <a:ext cx="49672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Спасибо</a:t>
            </a:r>
            <a:endParaRPr b="1" lang="en-US" sz="1800" spc="1" strike="noStrike">
              <a:ln w="1260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за правильные</a:t>
            </a:r>
            <a:endParaRPr b="1" lang="en-US" sz="1800" spc="1" strike="noStrike">
              <a:ln w="1260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ответы !</a:t>
            </a:r>
            <a:endParaRPr b="1" lang="en-US" sz="1800" spc="1" strike="noStrike">
              <a:ln w="1260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62643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 u="sng">
                <a:solidFill>
                  <a:srgbClr val="cc0000"/>
                </a:solidFill>
                <a:uFillTx/>
                <a:latin typeface="Calibri"/>
              </a:rPr>
              <a:t>ПЛАН  УРОКА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55640" y="2060280"/>
            <a:ext cx="7632720" cy="3484440"/>
          </a:xfrm>
          <a:prstGeom prst="rect">
            <a:avLst/>
          </a:prstGeom>
          <a:solidFill>
            <a:srgbClr val="c3eb31"/>
          </a:solidFill>
          <a:ln w="381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2732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onstantia"/>
              </a:rPr>
              <a:t>1. Что  такое  общение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onstantia"/>
              </a:rPr>
              <a:t>2. Цели  общ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onstantia"/>
              </a:rPr>
              <a:t>3. Средства  общ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onstantia"/>
              </a:rPr>
              <a:t>4. Особенности  общ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68360" y="2492280"/>
            <a:ext cx="8207280" cy="1008000"/>
          </a:xfrm>
          <a:prstGeom prst="rect">
            <a:avLst/>
          </a:prstGeom>
          <a:solidFill>
            <a:srgbClr val="1907a1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Constantia"/>
              </a:rPr>
              <a:t>Взаимные  деловые  и  дружеские  отношения  люд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539640" y="476280"/>
            <a:ext cx="8064720" cy="1800360"/>
          </a:xfrm>
          <a:custGeom>
            <a:avLst/>
            <a:gdLst>
              <a:gd name="textAreaLeft" fmla="*/ 2016000 w 8064720"/>
              <a:gd name="textAreaRight" fmla="*/ 6048720 w 8064720"/>
              <a:gd name="textAreaTop" fmla="*/ 53280 h 1800360"/>
              <a:gd name="textAreaBottom" fmla="*/ 13503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6"/>
          <p:cNvSpPr txBox="1"/>
          <p:nvPr/>
        </p:nvSpPr>
        <p:spPr>
          <a:xfrm>
            <a:off x="2771640" y="620640"/>
            <a:ext cx="367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Picture 8" descr="общение 6"/>
          <p:cNvPicPr/>
          <p:nvPr/>
        </p:nvPicPr>
        <p:blipFill>
          <a:blip r:embed="rId2"/>
          <a:stretch/>
        </p:blipFill>
        <p:spPr>
          <a:xfrm>
            <a:off x="250920" y="3716280"/>
            <a:ext cx="4249800" cy="2805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общение 7"/>
          <p:cNvPicPr/>
          <p:nvPr/>
        </p:nvPicPr>
        <p:blipFill>
          <a:blip r:embed="rId3"/>
          <a:stretch/>
        </p:blipFill>
        <p:spPr>
          <a:xfrm>
            <a:off x="5364000" y="3695760"/>
            <a:ext cx="3495960" cy="2835360"/>
          </a:xfrm>
          <a:prstGeom prst="rect">
            <a:avLst/>
          </a:prstGeom>
          <a:ln w="0">
            <a:noFill/>
          </a:ln>
        </p:spPr>
      </p:pic>
      <p:sp>
        <p:nvSpPr>
          <p:cNvPr id="219" name="Oval 10"/>
          <p:cNvSpPr/>
          <p:nvPr/>
        </p:nvSpPr>
        <p:spPr>
          <a:xfrm>
            <a:off x="3780000" y="6021360"/>
            <a:ext cx="720720" cy="836640"/>
          </a:xfrm>
          <a:prstGeom prst="ellipse">
            <a:avLst/>
          </a:prstGeom>
          <a:solidFill>
            <a:srgbClr val="b7afef"/>
          </a:solidFill>
          <a:ln w="28440">
            <a:solidFill>
              <a:srgbClr val="1907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07a1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5076720" y="6021360"/>
            <a:ext cx="720720" cy="836640"/>
          </a:xfrm>
          <a:prstGeom prst="ellipse">
            <a:avLst/>
          </a:prstGeom>
          <a:solidFill>
            <a:srgbClr val="b7afe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ubBanner"/>
          <p:cNvSpPr/>
          <p:nvPr/>
        </p:nvSpPr>
        <p:spPr>
          <a:xfrm>
            <a:off x="324000" y="333360"/>
            <a:ext cx="8208720" cy="2158920"/>
          </a:xfrm>
          <a:custGeom>
            <a:avLst/>
            <a:gdLst>
              <a:gd name="textAreaLeft" fmla="*/ 1073880 w 8208720"/>
              <a:gd name="textAreaRight" fmla="*/ 7139160 w 8208720"/>
              <a:gd name="textAreaTop" fmla="*/ 452160 h 2158920"/>
              <a:gd name="textAreaBottom" fmla="*/ 1254240 h 2158920"/>
            </a:gdLst>
            <a:ahLst/>
            <a:rect l="textAreaLeft" t="textAreaTop" r="textAreaRight" b="textAreaBottom"/>
            <a:pathLst>
              <a:path w="21600" h="21600">
                <a:moveTo>
                  <a:pt x="18785" y="4525"/>
                </a:moveTo>
                <a:cubicBezTo>
                  <a:pt x="18684" y="3891"/>
                  <a:pt x="18494" y="3359"/>
                  <a:pt x="18152" y="2776"/>
                </a:cubicBezTo>
                <a:cubicBezTo>
                  <a:pt x="17708" y="2243"/>
                  <a:pt x="17125" y="1749"/>
                  <a:pt x="16453" y="1318"/>
                </a:cubicBezTo>
                <a:cubicBezTo>
                  <a:pt x="15667" y="925"/>
                  <a:pt x="14792" y="583"/>
                  <a:pt x="13816" y="342"/>
                </a:cubicBezTo>
                <a:cubicBezTo>
                  <a:pt x="12840" y="152"/>
                  <a:pt x="11826" y="0"/>
                  <a:pt x="10800" y="0"/>
                </a:cubicBezTo>
                <a:cubicBezTo>
                  <a:pt x="9735" y="0"/>
                  <a:pt x="8708" y="152"/>
                  <a:pt x="7732" y="342"/>
                </a:cubicBezTo>
                <a:cubicBezTo>
                  <a:pt x="6807" y="583"/>
                  <a:pt x="5932" y="925"/>
                  <a:pt x="5159" y="1318"/>
                </a:cubicBezTo>
                <a:cubicBezTo>
                  <a:pt x="4474" y="1749"/>
                  <a:pt x="3891" y="2243"/>
                  <a:pt x="3409" y="2776"/>
                </a:cubicBezTo>
                <a:cubicBezTo>
                  <a:pt x="3118" y="3359"/>
                  <a:pt x="2864" y="3891"/>
                  <a:pt x="2826" y="4525"/>
                </a:cubicBezTo>
                <a:lnTo>
                  <a:pt x="2826" y="6084"/>
                </a:lnTo>
                <a:lnTo>
                  <a:pt x="0" y="9152"/>
                </a:lnTo>
                <a:lnTo>
                  <a:pt x="684" y="13728"/>
                </a:lnTo>
                <a:lnTo>
                  <a:pt x="0" y="21600"/>
                </a:lnTo>
                <a:lnTo>
                  <a:pt x="2826" y="18684"/>
                </a:lnTo>
                <a:lnTo>
                  <a:pt x="2826" y="17074"/>
                </a:lnTo>
                <a:cubicBezTo>
                  <a:pt x="2864" y="16491"/>
                  <a:pt x="3118" y="15908"/>
                  <a:pt x="3409" y="15325"/>
                </a:cubicBezTo>
                <a:cubicBezTo>
                  <a:pt x="3891" y="14792"/>
                  <a:pt x="4474" y="14311"/>
                  <a:pt x="5159" y="13867"/>
                </a:cubicBezTo>
                <a:cubicBezTo>
                  <a:pt x="5932" y="13474"/>
                  <a:pt x="6807" y="13145"/>
                  <a:pt x="7732" y="12891"/>
                </a:cubicBezTo>
                <a:cubicBezTo>
                  <a:pt x="8708" y="12701"/>
                  <a:pt x="9735" y="12600"/>
                  <a:pt x="10800" y="12549"/>
                </a:cubicBezTo>
                <a:cubicBezTo>
                  <a:pt x="11826" y="12600"/>
                  <a:pt x="12840" y="12701"/>
                  <a:pt x="13816" y="12891"/>
                </a:cubicBezTo>
                <a:cubicBezTo>
                  <a:pt x="14792" y="13145"/>
                  <a:pt x="15667" y="13474"/>
                  <a:pt x="16453" y="13867"/>
                </a:cubicBezTo>
                <a:cubicBezTo>
                  <a:pt x="17125" y="14311"/>
                  <a:pt x="17708" y="14792"/>
                  <a:pt x="18152" y="15325"/>
                </a:cubicBezTo>
                <a:cubicBezTo>
                  <a:pt x="18494" y="15908"/>
                  <a:pt x="18684" y="16491"/>
                  <a:pt x="18785" y="17074"/>
                </a:cubicBezTo>
                <a:lnTo>
                  <a:pt x="18785" y="18684"/>
                </a:lnTo>
                <a:lnTo>
                  <a:pt x="21600" y="21600"/>
                </a:lnTo>
                <a:lnTo>
                  <a:pt x="20928" y="13728"/>
                </a:lnTo>
                <a:lnTo>
                  <a:pt x="21600" y="9152"/>
                </a:lnTo>
                <a:lnTo>
                  <a:pt x="18785" y="6084"/>
                </a:lnTo>
                <a:lnTo>
                  <a:pt x="18785" y="4525"/>
                </a:lnTo>
                <a:close/>
              </a:path>
            </a:pathLst>
          </a:custGeom>
          <a:solidFill>
            <a:srgbClr val="ccccff"/>
          </a:solidFill>
          <a:ln w="28440">
            <a:solidFill>
              <a:srgbClr val="00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2124000" y="47628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и  общения</a:t>
            </a:r>
            <a:endParaRPr b="0" lang="en-US" sz="40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1979640" y="2133720"/>
            <a:ext cx="4824360" cy="718920"/>
          </a:xfrm>
          <a:prstGeom prst="rect">
            <a:avLst/>
          </a:prstGeom>
          <a:solidFill>
            <a:srgbClr val="0f6fc6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Showcard Gothic"/>
              </a:rPr>
              <a:t>Общение  ради  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speak"/>
          <p:cNvPicPr/>
          <p:nvPr/>
        </p:nvPicPr>
        <p:blipFill>
          <a:blip r:embed="rId1"/>
          <a:stretch/>
        </p:blipFill>
        <p:spPr>
          <a:xfrm>
            <a:off x="3203640" y="4724280"/>
            <a:ext cx="2808360" cy="1986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tumblr_kw3ry2s3tv1qa0qdn"/>
          <p:cNvPicPr/>
          <p:nvPr/>
        </p:nvPicPr>
        <p:blipFill>
          <a:blip r:embed="rId2"/>
          <a:stretch/>
        </p:blipFill>
        <p:spPr>
          <a:xfrm>
            <a:off x="6443640" y="321300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общение 5"/>
          <p:cNvPicPr/>
          <p:nvPr/>
        </p:nvPicPr>
        <p:blipFill>
          <a:blip r:embed="rId3"/>
          <a:stretch/>
        </p:blipFill>
        <p:spPr>
          <a:xfrm>
            <a:off x="179280" y="3213000"/>
            <a:ext cx="2376720" cy="3095640"/>
          </a:xfrm>
          <a:prstGeom prst="rect">
            <a:avLst/>
          </a:prstGeom>
          <a:ln w="0">
            <a:noFill/>
          </a:ln>
        </p:spPr>
      </p:pic>
      <p:sp>
        <p:nvSpPr>
          <p:cNvPr id="227" name="Oval 14"/>
          <p:cNvSpPr/>
          <p:nvPr/>
        </p:nvSpPr>
        <p:spPr>
          <a:xfrm>
            <a:off x="2916360" y="3068640"/>
            <a:ext cx="3024000" cy="1224000"/>
          </a:xfrm>
          <a:prstGeom prst="ellipse">
            <a:avLst/>
          </a:prstGeom>
          <a:solidFill>
            <a:srgbClr val="8000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пол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4"/>
          <p:cNvSpPr/>
          <p:nvPr/>
        </p:nvSpPr>
        <p:spPr>
          <a:xfrm>
            <a:off x="1116000" y="189000"/>
            <a:ext cx="7128000" cy="143964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8440">
            <a:solidFill>
              <a:srgbClr val="1907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1763640" y="476280"/>
            <a:ext cx="583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ства  общени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Oval 6"/>
          <p:cNvSpPr/>
          <p:nvPr/>
        </p:nvSpPr>
        <p:spPr>
          <a:xfrm>
            <a:off x="684360" y="1916280"/>
            <a:ext cx="2374920" cy="1008000"/>
          </a:xfrm>
          <a:prstGeom prst="ellipse">
            <a:avLst/>
          </a:prstGeom>
          <a:solidFill>
            <a:srgbClr val="e8b6e4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omic"/>
              </a:rPr>
              <a:t>рече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5508720" y="1916280"/>
            <a:ext cx="2374920" cy="1008000"/>
          </a:xfrm>
          <a:prstGeom prst="ellipse">
            <a:avLst/>
          </a:prstGeom>
          <a:solidFill>
            <a:srgbClr val="b7afef"/>
          </a:solidFill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comic"/>
              </a:rPr>
              <a:t>нерече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31_17"/>
          <p:cNvPicPr/>
          <p:nvPr/>
        </p:nvPicPr>
        <p:blipFill>
          <a:blip r:embed="rId1"/>
          <a:stretch/>
        </p:blipFill>
        <p:spPr>
          <a:xfrm>
            <a:off x="5435640" y="3141720"/>
            <a:ext cx="2755800" cy="3384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общение"/>
          <p:cNvPicPr/>
          <p:nvPr/>
        </p:nvPicPr>
        <p:blipFill>
          <a:blip r:embed="rId2"/>
          <a:stretch/>
        </p:blipFill>
        <p:spPr>
          <a:xfrm>
            <a:off x="395280" y="3860640"/>
            <a:ext cx="3529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539640" y="5516640"/>
            <a:ext cx="3168720" cy="1008000"/>
          </a:xfrm>
          <a:prstGeom prst="rect">
            <a:avLst/>
          </a:prstGeom>
          <a:solidFill>
            <a:srgbClr val="b7afef"/>
          </a:solidFill>
          <a:ln w="38160">
            <a:solidFill>
              <a:srgbClr val="1907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07a1"/>
                </a:solidFill>
                <a:latin typeface="comic"/>
              </a:rPr>
              <a:t>рече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5292720" y="5516640"/>
            <a:ext cx="3168720" cy="1008000"/>
          </a:xfrm>
          <a:prstGeom prst="rect">
            <a:avLst/>
          </a:prstGeom>
          <a:solidFill>
            <a:srgbClr val="ebbcb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"/>
              </a:rPr>
              <a:t>нерече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6"/>
          <p:cNvSpPr/>
          <p:nvPr/>
        </p:nvSpPr>
        <p:spPr>
          <a:xfrm>
            <a:off x="611280" y="692280"/>
            <a:ext cx="1081080" cy="1441440"/>
          </a:xfrm>
          <a:prstGeom prst="ellipse">
            <a:avLst/>
          </a:prstGeom>
          <a:solidFill>
            <a:srgbClr val="ebbc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згл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2340000" y="476280"/>
            <a:ext cx="1081080" cy="1441440"/>
          </a:xfrm>
          <a:prstGeom prst="ellipse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1907a1"/>
                </a:solidFill>
                <a:latin typeface="Arial"/>
              </a:rPr>
              <a:t>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8"/>
          <p:cNvSpPr/>
          <p:nvPr/>
        </p:nvSpPr>
        <p:spPr>
          <a:xfrm>
            <a:off x="3780000" y="3716280"/>
            <a:ext cx="1081080" cy="144144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1907a1"/>
                </a:solidFill>
                <a:latin typeface="Arial"/>
              </a:rPr>
              <a:t>похо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9"/>
          <p:cNvSpPr/>
          <p:nvPr/>
        </p:nvSpPr>
        <p:spPr>
          <a:xfrm>
            <a:off x="6012000" y="3789360"/>
            <a:ext cx="1081080" cy="1441440"/>
          </a:xfrm>
          <a:prstGeom prst="ellipse">
            <a:avLst/>
          </a:prstGeom>
          <a:solidFill>
            <a:srgbClr val="4b2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c4ce46"/>
                </a:solidFill>
                <a:latin typeface="Arial"/>
              </a:rPr>
              <a:t>пода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7451640" y="3429000"/>
            <a:ext cx="1297080" cy="1441440"/>
          </a:xfrm>
          <a:prstGeom prst="ellipse">
            <a:avLst/>
          </a:prstGeom>
          <a:solidFill>
            <a:srgbClr val="e15b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кос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6948360" y="189000"/>
            <a:ext cx="1441440" cy="1655640"/>
          </a:xfrm>
          <a:prstGeom prst="ellipse">
            <a:avLst/>
          </a:prstGeom>
          <a:solidFill>
            <a:srgbClr val="e7eb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компли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2"/>
          <p:cNvSpPr/>
          <p:nvPr/>
        </p:nvSpPr>
        <p:spPr>
          <a:xfrm>
            <a:off x="6300720" y="1916280"/>
            <a:ext cx="1081080" cy="1441440"/>
          </a:xfrm>
          <a:prstGeom prst="ellipse">
            <a:avLst/>
          </a:prstGeom>
          <a:solidFill>
            <a:srgbClr val="e2d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e8b6e4"/>
                </a:solidFill>
                <a:latin typeface="Arial"/>
              </a:rPr>
              <a:t>ц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3"/>
          <p:cNvSpPr/>
          <p:nvPr/>
        </p:nvSpPr>
        <p:spPr>
          <a:xfrm>
            <a:off x="3492360" y="1557360"/>
            <a:ext cx="1081080" cy="1441440"/>
          </a:xfrm>
          <a:prstGeom prst="ellipse">
            <a:avLst/>
          </a:prstGeom>
          <a:solidFill>
            <a:srgbClr val="1907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пес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4"/>
          <p:cNvSpPr/>
          <p:nvPr/>
        </p:nvSpPr>
        <p:spPr>
          <a:xfrm>
            <a:off x="4932360" y="2708280"/>
            <a:ext cx="1081080" cy="1441440"/>
          </a:xfrm>
          <a:prstGeom prst="ellipse">
            <a:avLst/>
          </a:prstGeom>
          <a:solidFill>
            <a:srgbClr val="c53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у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5"/>
          <p:cNvSpPr/>
          <p:nvPr/>
        </p:nvSpPr>
        <p:spPr>
          <a:xfrm>
            <a:off x="5148360" y="692280"/>
            <a:ext cx="1081080" cy="1441440"/>
          </a:xfrm>
          <a:prstGeom prst="ellipse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6"/>
          <p:cNvSpPr/>
          <p:nvPr/>
        </p:nvSpPr>
        <p:spPr>
          <a:xfrm>
            <a:off x="324000" y="3789360"/>
            <a:ext cx="1081080" cy="1441440"/>
          </a:xfrm>
          <a:prstGeom prst="ellipse">
            <a:avLst/>
          </a:prstGeom>
          <a:solidFill>
            <a:srgbClr val="b7a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же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7"/>
          <p:cNvSpPr/>
          <p:nvPr/>
        </p:nvSpPr>
        <p:spPr>
          <a:xfrm>
            <a:off x="2627280" y="2852640"/>
            <a:ext cx="1081080" cy="1441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8"/>
          <p:cNvSpPr/>
          <p:nvPr/>
        </p:nvSpPr>
        <p:spPr>
          <a:xfrm>
            <a:off x="1258920" y="2565360"/>
            <a:ext cx="1081080" cy="14414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1907a1"/>
                </a:solidFill>
                <a:latin typeface="Arial"/>
              </a:rPr>
              <a:t>ми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48148E-006 L 0.60243 1.48148E-006 E">
                                      <p:cBhvr>
                                        <p:cTn id="2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6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33333E-006 L 0.67344 -0.11574 E">
                                      <p:cBhvr>
                                        <p:cTn id="30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43 -0.02083 L -0.40174 -0.02083 E">
                                      <p:cBhvr>
                                        <p:cTn id="34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85185E-006 L -0.69306 0.50926 E">
                                      <p:cBhvr>
                                        <p:cTn id="38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11111E-006 L 0.7757 -0.45162 E">
                                      <p:cBhvr>
                                        <p:cTn id="4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-0.01042 L 0.27951 -0.0419 E">
                                      <p:cBhvr>
                                        <p:cTn id="46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12204 -7.40741E-007 E">
                                      <p:cBhvr>
                                        <p:cTn id="50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4"/>
          <p:cNvSpPr/>
          <p:nvPr/>
        </p:nvSpPr>
        <p:spPr>
          <a:xfrm>
            <a:off x="395280" y="260280"/>
            <a:ext cx="8497800" cy="2160720"/>
          </a:xfrm>
          <a:custGeom>
            <a:avLst/>
            <a:gdLst>
              <a:gd name="textAreaLeft" fmla="*/ 2124360 w 8497800"/>
              <a:gd name="textAreaRight" fmla="*/ 6373440 w 8497800"/>
              <a:gd name="textAreaTop" fmla="*/ 540000 h 2160720"/>
              <a:gd name="textAreaBottom" fmla="*/ 209700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7afe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5"/>
          <p:cNvSpPr txBox="1"/>
          <p:nvPr/>
        </p:nvSpPr>
        <p:spPr>
          <a:xfrm>
            <a:off x="2771640" y="836640"/>
            <a:ext cx="3743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собен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общ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51" name="Picture 6" descr="общение 4"/>
          <p:cNvPicPr/>
          <p:nvPr/>
        </p:nvPicPr>
        <p:blipFill>
          <a:blip r:embed="rId5"/>
          <a:stretch/>
        </p:blipFill>
        <p:spPr>
          <a:xfrm>
            <a:off x="2411280" y="3429000"/>
            <a:ext cx="3564000" cy="2651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252" name="Picture 7" descr="общение 3"/>
          <p:cNvPicPr/>
          <p:nvPr/>
        </p:nvPicPr>
        <p:blipFill>
          <a:blip r:embed="rId6"/>
          <a:stretch/>
        </p:blipFill>
        <p:spPr>
          <a:xfrm>
            <a:off x="5796000" y="4751280"/>
            <a:ext cx="3168720" cy="2106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253" name="Picture 8" descr="общение 2"/>
          <p:cNvPicPr/>
          <p:nvPr/>
        </p:nvPicPr>
        <p:blipFill>
          <a:blip r:embed="rId7"/>
          <a:stretch/>
        </p:blipFill>
        <p:spPr>
          <a:xfrm>
            <a:off x="179280" y="2205000"/>
            <a:ext cx="2187720" cy="3311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254" name="Picture 9" descr="общение 8"/>
          <p:cNvPicPr/>
          <p:nvPr/>
        </p:nvPicPr>
        <p:blipFill>
          <a:blip r:embed="rId8"/>
          <a:stretch/>
        </p:blipFill>
        <p:spPr>
          <a:xfrm>
            <a:off x="6156360" y="2492280"/>
            <a:ext cx="2766960" cy="18399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0000"/>
                </a:solidFill>
                <a:latin typeface="Calibri"/>
              </a:rPr>
              <a:t>Особенности  общ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600200"/>
          <a:ext cx="8229600" cy="4781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Со сверстник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о  взрослы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малыш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 Narrow"/>
              </a:rPr>
              <a:t>Как называются деловые или дружеские отношения людей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16000" y="1628640"/>
            <a:ext cx="7786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1) общение              3) деятель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 Narrow"/>
              </a:rPr>
              <a:t>2) ритуал                 4) норм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468360" y="3213000"/>
            <a:ext cx="8229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 Narrow"/>
              </a:rPr>
              <a:t>Выработанный обычаем или установленный порядок совершения чего-либо -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332000" y="5013360"/>
            <a:ext cx="7427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Narrow"/>
              </a:rPr>
              <a:t>1) общение              3) тради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 Narrow"/>
              </a:rPr>
              <a:t>2) ритуал                 4) та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611280" y="1700280"/>
            <a:ext cx="503280" cy="431640"/>
          </a:xfrm>
          <a:custGeom>
            <a:avLst/>
            <a:gdLst/>
            <a:ahLst/>
            <a:rect l="l" t="t" r="r" b="b"/>
            <a:pathLst>
              <a:path w="503237" h="431800">
                <a:moveTo>
                  <a:pt x="1" y="164933"/>
                </a:moveTo>
                <a:lnTo>
                  <a:pt x="192220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6" y="164933"/>
                </a:lnTo>
                <a:lnTo>
                  <a:pt x="347726" y="266866"/>
                </a:lnTo>
                <a:lnTo>
                  <a:pt x="407127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>
            <a:off x="826920" y="5661000"/>
            <a:ext cx="503280" cy="432000"/>
          </a:xfrm>
          <a:custGeom>
            <a:avLst/>
            <a:gdLst/>
            <a:ahLst/>
            <a:rect l="l" t="t" r="r" b="b"/>
            <a:pathLst>
              <a:path w="503237" h="431800">
                <a:moveTo>
                  <a:pt x="1" y="164933"/>
                </a:moveTo>
                <a:lnTo>
                  <a:pt x="192220" y="164934"/>
                </a:lnTo>
                <a:lnTo>
                  <a:pt x="251619" y="0"/>
                </a:lnTo>
                <a:lnTo>
                  <a:pt x="311017" y="164934"/>
                </a:lnTo>
                <a:lnTo>
                  <a:pt x="503236" y="164933"/>
                </a:lnTo>
                <a:lnTo>
                  <a:pt x="347726" y="266866"/>
                </a:lnTo>
                <a:lnTo>
                  <a:pt x="407127" y="431799"/>
                </a:lnTo>
                <a:lnTo>
                  <a:pt x="251619" y="329864"/>
                </a:lnTo>
                <a:lnTo>
                  <a:pt x="96110" y="431799"/>
                </a:lnTo>
                <a:lnTo>
                  <a:pt x="15551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e9e927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6:22:37Z</dcterms:created>
  <dc:creator/>
  <dc:description/>
  <dc:language>en-US</dc:language>
  <cp:lastModifiedBy>1</cp:lastModifiedBy>
  <dcterms:modified xsi:type="dcterms:W3CDTF">2021-03-15T20:09:55Z</dcterms:modified>
  <cp:revision>16</cp:revision>
  <dc:subject/>
  <dc:title>ОБЩЕНИЕ</dc:title>
</cp:coreProperties>
</file>