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6.jpeg" ContentType="image/jpeg"/>
  <Override PartName="/ppt/media/image18.png" ContentType="image/pn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919A2-B174-4CDA-8A35-9ED26D43D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B6671-9303-4330-8F2D-B6EF5589D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07C71-24A0-45B6-A36D-DC2D0E096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9AB4A-28A9-4007-AAEA-E2BF770F7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83B43-F916-4A12-96E1-93498BAE0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1C0D4-D77F-4616-97F8-932433EC8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2AE3D-A45C-49FA-A20E-1B62E6AA5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89776-0276-4E2F-9241-146AB8900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98697-9899-41CB-8901-D979190D0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6F95C-B127-456E-A5EC-7A4593A25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5E730-42B8-4321-A3FC-7DCBF2D1B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AE6B1-D73D-4B07-8985-F86EA190E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F37BC-8F2B-4D38-A2E4-D034DA1EC26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5050"/>
            </a:gs>
            <a:gs pos="100000">
              <a:srgbClr val="ff9966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3068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3300"/>
                </a:solidFill>
                <a:latin typeface="Arial"/>
              </a:rPr>
              <a:t>«Национальная кухня Англии и России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987640" y="5514480"/>
            <a:ext cx="6369120" cy="134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43" name="Picture 5" descr="бабули"/>
          <p:cNvPicPr/>
          <p:nvPr/>
        </p:nvPicPr>
        <p:blipFill>
          <a:blip r:embed="rId1"/>
          <a:stretch/>
        </p:blipFill>
        <p:spPr>
          <a:xfrm>
            <a:off x="0" y="0"/>
            <a:ext cx="4427640" cy="29242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бриты"/>
          <p:cNvPicPr/>
          <p:nvPr/>
        </p:nvPicPr>
        <p:blipFill>
          <a:blip r:embed="rId2"/>
          <a:stretch/>
        </p:blipFill>
        <p:spPr>
          <a:xfrm>
            <a:off x="4427640" y="0"/>
            <a:ext cx="4716360" cy="29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100000">
              <a:srgbClr val="ff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Заключение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  основе  найденного  и  структурированного 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териала  мной  был  сделан  вывод,  что 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циональная  кухня  Англии  и  России  имеют 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яд  сходств  и  различ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  двух  кухнях  есть  сходства,  такие  как  на 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втрак  принято  есть  плотно  и  любовь  к 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ясным  блюдам.  На  обе  кухни  влияли 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роды,  населяющие  эти  страны.  Но  есть  также  и  различия,  такие  как  в  России  принято  на 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ждом  приеме  пищи  есть  плотно,  ну  а  в 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ликобритании  принято  часто  пить  ча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не  было  очень  интересно  работать  над 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ектом,  так  как  узнала   много  нужной  и 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лезной  информации,  а  полученные  знания  можно  в  дальнейшем  применить  при  изучении 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нглийского  язы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0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7524720" cy="187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c1c1c"/>
                </a:solidFill>
                <a:latin typeface="Arial"/>
              </a:rPr>
              <a:t>Почему я выбрала тему проекта: «Национальная кухня Англии и России»?</a:t>
            </a:r>
            <a:br>
              <a:rPr sz="1600"/>
            </a:br>
            <a:r>
              <a:rPr b="1" lang="ru-RU" sz="1600" spc="-1" strike="noStrike">
                <a:solidFill>
                  <a:srgbClr val="1c1c1c"/>
                </a:solidFill>
                <a:latin typeface="Arial"/>
              </a:rPr>
              <a:t>Английский язык один из моих любимых предметов в школе. Мне интересны различные темы на уроках английского языка. Но больше всего меня заинтересовала английская кухня, продукты, которые они используют, а так, же режим питания Англичан. Мне захотелось сравнить национальную кухню Англии и России и выявить сходства и различия между ними.</a:t>
            </a:r>
            <a:br>
              <a:rPr sz="1600"/>
            </a:br>
            <a:r>
              <a:rPr b="1" lang="ru-RU" sz="1600" spc="-1" strike="noStrike">
                <a:solidFill>
                  <a:srgbClr val="1c1c1c"/>
                </a:solidFill>
                <a:latin typeface="Arial"/>
              </a:rPr>
              <a:t>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50560" y="2205000"/>
            <a:ext cx="7116840" cy="420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c1c1c"/>
                </a:solidFill>
                <a:latin typeface="Arial"/>
              </a:rPr>
              <a:t>Цель моего проекта: </a:t>
            </a:r>
            <a:r>
              <a:rPr b="0" lang="ru-RU" sz="2000" spc="-1" strike="noStrike">
                <a:solidFill>
                  <a:srgbClr val="1c1c1c"/>
                </a:solidFill>
                <a:latin typeface="Arial"/>
              </a:rPr>
              <a:t>познакомиться  с  русской  и  английской  кухней и найти различия и сходства между ни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c1c1c"/>
                </a:solidFill>
                <a:latin typeface="Arial"/>
              </a:rPr>
              <a:t>Задачами моего проекта являлось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c1c1c"/>
                </a:solidFill>
                <a:latin typeface="Arial"/>
              </a:rPr>
              <a:t>1.  Собрать и изучить  литературу  о  национальных  кухнях  Англии и Росс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c1c1c"/>
                </a:solidFill>
                <a:latin typeface="Arial"/>
              </a:rPr>
              <a:t>2.  Выяснить  сходства  и  различ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c1c1c"/>
                </a:solidFill>
                <a:latin typeface="Arial"/>
              </a:rPr>
              <a:t>3. Зафиксировать полученные выводы в таблиц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c1c1c"/>
                </a:solidFill>
                <a:latin typeface="Arial"/>
              </a:rPr>
              <a:t>4. Создать презентацию с иллюстрация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BigBen"/>
          <p:cNvPicPr/>
          <p:nvPr/>
        </p:nvPicPr>
        <p:blipFill>
          <a:blip r:embed="rId1"/>
          <a:stretch/>
        </p:blipFill>
        <p:spPr>
          <a:xfrm>
            <a:off x="7164360" y="2565360"/>
            <a:ext cx="1979640" cy="42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0066"/>
                </a:solidFill>
                <a:latin typeface="Arial"/>
              </a:rPr>
              <a:t>Национальная кухня англичан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0_42511_89b1f9d8_XL"/>
          <p:cNvPicPr/>
          <p:nvPr/>
        </p:nvPicPr>
        <p:blipFill>
          <a:blip r:embed="rId1"/>
          <a:stretch/>
        </p:blipFill>
        <p:spPr>
          <a:xfrm>
            <a:off x="0" y="1268280"/>
            <a:ext cx="3311640" cy="29307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симнель"/>
          <p:cNvPicPr/>
          <p:nvPr/>
        </p:nvPicPr>
        <p:blipFill>
          <a:blip r:embed="rId2"/>
          <a:stretch/>
        </p:blipFill>
        <p:spPr>
          <a:xfrm>
            <a:off x="0" y="4221000"/>
            <a:ext cx="3276720" cy="2637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завтрак англии"/>
          <p:cNvPicPr/>
          <p:nvPr/>
        </p:nvPicPr>
        <p:blipFill>
          <a:blip r:embed="rId3"/>
          <a:stretch/>
        </p:blipFill>
        <p:spPr>
          <a:xfrm>
            <a:off x="5398920" y="1197000"/>
            <a:ext cx="3745080" cy="27367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" descr="image6146"/>
          <p:cNvPicPr/>
          <p:nvPr/>
        </p:nvPicPr>
        <p:blipFill>
          <a:blip r:embed="rId4"/>
          <a:stretch/>
        </p:blipFill>
        <p:spPr>
          <a:xfrm>
            <a:off x="5334120" y="3933720"/>
            <a:ext cx="3809880" cy="29242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8" descr="ирл чай"/>
          <p:cNvPicPr/>
          <p:nvPr/>
        </p:nvPicPr>
        <p:blipFill>
          <a:blip r:embed="rId5"/>
          <a:stretch/>
        </p:blipFill>
        <p:spPr>
          <a:xfrm>
            <a:off x="3203640" y="1268280"/>
            <a:ext cx="2571840" cy="20955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9" descr="угорь"/>
          <p:cNvPicPr/>
          <p:nvPr/>
        </p:nvPicPr>
        <p:blipFill>
          <a:blip r:embed="rId6"/>
          <a:stretch/>
        </p:blipFill>
        <p:spPr>
          <a:xfrm>
            <a:off x="3059280" y="3691080"/>
            <a:ext cx="2879640" cy="31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0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100000">
              <a:srgbClr val="ff50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ациональная кухня русских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shag-645"/>
          <p:cNvPicPr/>
          <p:nvPr/>
        </p:nvPicPr>
        <p:blipFill>
          <a:blip r:embed="rId1"/>
          <a:stretch/>
        </p:blipFill>
        <p:spPr>
          <a:xfrm>
            <a:off x="0" y="1197000"/>
            <a:ext cx="3552840" cy="28083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" descr="борщ"/>
          <p:cNvPicPr/>
          <p:nvPr/>
        </p:nvPicPr>
        <p:blipFill>
          <a:blip r:embed="rId2"/>
          <a:stretch/>
        </p:blipFill>
        <p:spPr>
          <a:xfrm>
            <a:off x="0" y="4030560"/>
            <a:ext cx="3564000" cy="28274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6" descr="ватруши"/>
          <p:cNvPicPr/>
          <p:nvPr/>
        </p:nvPicPr>
        <p:blipFill>
          <a:blip r:embed="rId3"/>
          <a:stretch/>
        </p:blipFill>
        <p:spPr>
          <a:xfrm>
            <a:off x="5292720" y="1125360"/>
            <a:ext cx="3851280" cy="30956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7" descr="квас"/>
          <p:cNvPicPr/>
          <p:nvPr/>
        </p:nvPicPr>
        <p:blipFill>
          <a:blip r:embed="rId4"/>
          <a:stretch/>
        </p:blipFill>
        <p:spPr>
          <a:xfrm>
            <a:off x="5364000" y="4221000"/>
            <a:ext cx="3780000" cy="26370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8" descr="gulyash_ovoschi_1"/>
          <p:cNvPicPr/>
          <p:nvPr/>
        </p:nvPicPr>
        <p:blipFill>
          <a:blip r:embed="rId5"/>
          <a:stretch/>
        </p:blipFill>
        <p:spPr>
          <a:xfrm>
            <a:off x="2916360" y="1197000"/>
            <a:ext cx="3024000" cy="3024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9" descr="говядина"/>
          <p:cNvPicPr/>
          <p:nvPr/>
        </p:nvPicPr>
        <p:blipFill>
          <a:blip r:embed="rId6"/>
          <a:stretch/>
        </p:blipFill>
        <p:spPr>
          <a:xfrm>
            <a:off x="2843280" y="4149720"/>
            <a:ext cx="2881080" cy="27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cc"/>
            </a:gs>
            <a:gs pos="100000">
              <a:srgbClr val="ff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ходства Английской и Русской кухн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автрак: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ша, яйца всмятку, омлет, масло сливочное, кофе, ча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бед: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к, кофе, ча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лдник: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ай, варенье (джем), булки, пирожны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жин: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уп, рыба, мясо, птица, дичь, рис, картофель, греч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0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ff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Различия Английской и Русской кухн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457200" y="1600200"/>
          <a:ext cx="8229600" cy="4857840"/>
        </p:xfrm>
        <a:graphic>
          <a:graphicData uri="http://schemas.openxmlformats.org/drawingml/2006/table">
            <a:tbl>
              <a:tblPr/>
              <a:tblGrid>
                <a:gridCol w="1019160"/>
                <a:gridCol w="3311640"/>
                <a:gridCol w="3898800"/>
              </a:tblGrid>
              <a:tr h="11318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втра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аштет, бекон, помидоры, ветчина, молоко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ичница, колбаса, сосиски, хлеб, гренки, бутерброды с сыром, колбасой, копчёной  рыбой, сок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3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е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эндвич с паштетом, бужениной, ветчиной, рыбой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п щи, щавелевый, борщ, салат, соления и маринады огурцы, помидоры, консервированные перцы, котлеты, картофель пюре, гречка, тушёная капуста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дни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ай с молоком, печенье, кексы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ай с лимоном, плюшки, ватрушки, пирожки, торты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жи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ульон с гренками, овощи свежи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п, овощи маринованные, салат, хлеб.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0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ff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544680" y="274680"/>
            <a:ext cx="784368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ff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539640" y="333360"/>
            <a:ext cx="8112240" cy="60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ff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536400" y="228600"/>
            <a:ext cx="8067960" cy="605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17T10:06:16Z</dcterms:created>
  <dc:creator>1</dc:creator>
  <dc:description/>
  <dc:language>en-US</dc:language>
  <cp:lastModifiedBy>МАКС</cp:lastModifiedBy>
  <dcterms:modified xsi:type="dcterms:W3CDTF">2022-03-20T14:56:19Z</dcterms:modified>
  <cp:revision>4</cp:revision>
  <dc:subject/>
  <dc:title>«Национальная кухня Англии и России»</dc:title>
</cp:coreProperties>
</file>