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BBCC-1240-47CE-8C46-D69926751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34A9-6839-48FA-95D1-0F34A340C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08BDD8-806F-42F9-BA02-49F08B313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5BA49D-F137-4EF6-A46A-5F191AA83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BF4A9B-E662-4C74-839F-05FC8CF39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A49C34-F1FD-4E07-A2DD-EE3D1598C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BBB440-0EB4-43CA-A784-4B52E545E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886661-E5E8-4F81-AB62-B4447963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64EAD0-32F0-4803-B79A-85E4C23F8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C57D8A-6DFC-4668-BBC0-BF3DBADF9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00C245-86E0-46FB-833B-11794F94C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AA4D60-5A59-404F-A909-196C23C4F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B159-FB5B-45F5-B80D-435B626D4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D1F6DF-3CA0-41C0-A194-4A156B37D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C7D54B-EB0A-49CA-AB4A-BBABD0849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E6D866-8B3C-45F8-B363-3D27CE198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77FBAD-B682-4FE2-AE91-A85C8E1C9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387FB0-0AEA-48D8-80A5-69A93D35F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3BF7F2-852C-4787-8EAF-68A30D27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A6288C-C320-4364-A635-BC161B30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C9B68F-4E09-435B-BE9B-32ECBA2A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E31413-8E0E-419C-B2C0-3E9BB133B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DDDB4C-2FA4-447D-B418-F4DDAC674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7788-D30C-4D73-9211-F1A4A163C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36010D-E0CC-43C0-B9FD-05B67653A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686C97-AA7F-4CE3-932D-7897C7E41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DA815E-04AB-4D87-9F6E-C3A4F4D26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8BE752-BA78-4FF6-A5F1-FBB0D5215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E84BEE-E0DE-46AC-B6E9-FFA0D264C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A1CB0B-1055-495D-A0AA-4261D60EE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6226CE-DB12-4BF7-8851-BA225DA26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C8946F-8114-4D0C-A39B-9BE64B6FA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BA6668-4F61-48D1-B449-9642E77BC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AB9902-D2D9-4FAF-A332-EAD5A8818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E9B59-EBFA-48F6-BBF5-93C8367B5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7B593E-38BE-40C2-BF3C-6E06EA8AF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9A9CEF-34AC-499C-9C2A-436505566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B968DB-DB89-4DC2-8CFE-31989507F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1595A0-2A7C-4DAE-A8D7-333559422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9F4302-5CD6-4188-B4CA-A060E3892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82EA30-70FB-4AE9-8569-BD9B80901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904DDC-B98A-4C33-A94D-22C759E3E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F32D3D-02C7-4C96-8887-5D05A543A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DE3356-6321-48FE-BE19-7548F2250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529EF9-CBE7-4C9B-A4FE-1A9528043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75C7B-C0F4-4B50-8506-049315F3E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03F8CD-D166-419E-8E43-95E8C1627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5E6E7C-4972-48AB-A366-4D60ED4A4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13E417-D314-469B-84B4-7B58BB763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0D1531-360D-4560-AB30-D09140CEF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481769-90DD-4CFE-B7D1-A754F0BA9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D3D7BD-F337-4BEF-9232-F332587BE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E1DC3D-F358-4A0B-8A34-00BEAEDBC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BBE8B2-C3B8-42BD-87BE-D33B13AC4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2EE805-99AD-447E-B76F-C25547BE2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1C5ECC-364F-4F19-AEF0-391FC9861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15281-C081-45AA-AFA7-59A5226BF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D928BE-51DB-45F2-AC6C-042D51733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499F72-CBC1-4EB7-A4ED-3183CBACC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49C874-E47C-4D04-B693-8B7DD88CA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3DFC86-A74C-4D2F-851D-B9E2424E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6C40D1-E6E0-4ACE-A694-1E19C7D40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5480A8-F3C2-43CC-9D88-D2FA8F148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8BEE6A-E97B-417B-B849-178475FA7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63040-A597-4605-A218-5C5C6DBBC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57F5F-E904-409F-A157-20CE41DA0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1C3EB-E920-44D0-A77B-CA1FA5323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8BE0F-FF48-4BF6-A1FE-C9CC98AD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7A6E-D2EE-4BF8-9EB3-25D6CCA9B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8D880-B862-4E6D-B12E-129D891CC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9D789-A1CC-41AE-BC32-B9E9F80B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745E5-37BB-4AEE-919F-062F10931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E2C31-9E06-4B68-8D12-D6F2D642C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C42B7-1A82-4440-A24E-6394546C0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95F90-76CD-4C42-870E-4186BB99D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31C72-352C-442E-8D9A-9D51AAB9C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E540C-1896-4D08-B313-34F30C1CF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21E0D-3ACF-4246-81AA-483B51AEC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E5D0D-283F-4B9E-92B1-77D52D042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8E13-9114-4A17-8F72-23DF36DC3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3145D-AA2F-43A6-A9C1-56702E7A2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F8D0A-57D3-45D9-8075-43DD009C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D793A-E871-420A-B534-6336AABBF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0F63D-7509-414E-9BF5-4D0BE3171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59171-1C7D-474D-B29F-48001B6AE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F724E-1908-445B-8A69-69C78F6A2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9C105-BBC0-417E-BB8D-042537349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E4E3B-62EE-4507-94A8-321E5DEC4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4425C-913F-48C4-989A-99708A544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EF6A0-C9AD-420C-B89D-8B2CD2820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929E-189A-410C-A61C-B92E4109D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356FC-169E-4E27-A207-BDBB1AEBB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1B6D0-5535-4DA5-BAB5-B426186BC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5341D-7756-491E-8E21-AAFB01CF2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F3A06-83BA-4D2D-9B7B-9D74DB3F8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35241-E9CE-4CF8-99A6-B0773221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5A2F9-0920-498D-A56F-E2F0AAFB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C0F1D-9B51-4D8C-BF98-E1750F525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DD4AA-B2F3-4983-BEB2-7E666CC83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05D45-8622-4939-AD67-F78D58C04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DA1FBD-8E9F-4080-8458-BBE8DF241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819D-02A0-4489-9CF6-0417C14C4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D341E-F7B7-4FFB-838D-B013BACD0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23322-338E-4CAF-8A17-52D1604B9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4AB55E-ED0F-4282-BD13-DE5EA055F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F6D70A-5252-4917-B1F5-D1F94EDEF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B952A1-6323-4218-BCB6-19FF71C3E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DB78A-C7E0-4D34-9FD6-665B9BA9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347E87-6626-4288-9C70-673F4863F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F98F56-6BF4-4F10-8D69-BA5F58AF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3CC8AF-A680-4F3C-87E4-A21013AC2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51575-F6CF-4EF4-8592-DA36FC910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E0B6-101B-46B0-B762-C4D7D9126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8E8FB-8AE4-4D34-B9AA-6EB2E67C1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A36174-EF50-4CF1-A07D-28AF4A088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8B9C7A-8213-40CA-A69A-ECF296404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C302BA-9EDB-425F-9D01-8F751AEC9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32D145-08C8-4089-AD0C-324BE2907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39D810-5D08-4344-BDDA-884231E30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DB8136-8DFD-48A8-B1F4-5986BECD3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807620-340B-4CED-B442-B9A74ADC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E23E26-07F0-472A-88D5-0A7227F1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26BDC9-0E65-46E5-A0FB-35BA62FB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DCE6-F1D3-43F6-93B0-3103FA8D9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15AA17-52E3-4F88-B3A3-978D96CBE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3B1510-282E-4E9D-8084-76DFDE2C1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FF3592-0CA5-4879-B56D-16CAF8FCB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290F59-899E-49F0-9DB1-8599123DC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2858CB-C531-4832-811B-3E2446291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CAC6C6-4BFF-4C57-A867-F38047E5C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5900BF-9D9D-4FD6-BE6B-6C78CDE32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5A1862-A895-4308-B1B9-A7D1F8983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AB907A-B742-4388-AFFF-D475F434D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A54A9A-8A04-4017-AD58-2F30E02C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48E9-26E3-48A0-B96E-6A9FBAE1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C2D1C3-5D98-4F8B-8B4C-3573A954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4D2F1F-714D-45B4-9F9B-6EBB94F05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ED3191-2217-4F6C-A5D5-6927A1447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E8459A-F2B0-4F47-B121-62CD24509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C3F67A-8046-4F48-A38A-5AB2F66C7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4835FD-5977-4444-A3C8-C4DB6ED88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94E95F-C583-42F0-BF90-9C05E482D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B64D87-6BDD-46F1-8ABA-40EBDAE31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F0D08D-6399-4074-A214-2C4102602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D6C595-0FB3-424E-BCDA-0DEEECABA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E49C-F116-4498-82CA-7EC53D221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705B4F-2908-4C10-B741-761FAD8B9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0CEDAD-DC63-4A9E-9CC4-0A714D407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909481-8B16-4027-A449-6A5D8912E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58F15A-F31D-40F4-BA31-FC6A77E12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B983E4-0940-4701-808A-DDEDC1AA5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A86EE7-2C52-47B7-83CF-D49BAC4E8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06C63A-B741-4F8F-870A-4E708D644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7CF8E6-A311-4BBD-91C0-FBE1FDC9D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D964C5-5840-4015-A098-7516AB461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5338D9-8791-44D3-AA21-9E5E5FB42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4CDE5-4E04-43AB-8D48-69CC473AB51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DCF73-6745-4DFC-910A-E0ABDCCE140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D2C5F-64FB-49C2-A5CB-1287784A8A5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D825C-D77D-48DD-9599-4CCE611D144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98E55-EC58-4797-A422-556FDA7D4E2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8E0E9-2CBB-4AA4-98A8-29F55BEB786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F5856-9EC3-453F-BD4D-8784AC2728D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ABBAE-6C82-48E3-AE61-8D67B053A8B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E26E4-88AE-4D76-B8E6-DC98247044A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E74CE-412F-454B-A452-73082B71861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E052C-6A2D-436B-A6CF-FAC1673DC26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C3923-FA06-4497-A7DB-21457512B4E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83226-161D-450A-A329-3069988362D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  <a:ea typeface="Arial"/>
            </a:endParaRPr>
          </a:p>
        </p:txBody>
      </p:sp>
      <p:pic>
        <p:nvPicPr>
          <p:cNvPr id="535" name="Объект 3" descr=""/>
          <p:cNvPicPr/>
          <p:nvPr/>
        </p:nvPicPr>
        <p:blipFill>
          <a:blip r:embed="rId1"/>
          <a:stretch/>
        </p:blipFill>
        <p:spPr>
          <a:xfrm>
            <a:off x="-44280" y="-19080"/>
            <a:ext cx="9232560" cy="7018200"/>
          </a:xfrm>
          <a:prstGeom prst="rect">
            <a:avLst/>
          </a:prstGeom>
          <a:ln w="0">
            <a:noFill/>
          </a:ln>
        </p:spPr>
      </p:pic>
      <p:sp>
        <p:nvSpPr>
          <p:cNvPr id="536" name="Прямоугольник 5"/>
          <p:cNvSpPr/>
          <p:nvPr/>
        </p:nvSpPr>
        <p:spPr>
          <a:xfrm>
            <a:off x="324000" y="36360"/>
            <a:ext cx="8496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300"/>
                </a:solidFill>
                <a:latin typeface="Verdana"/>
              </a:rPr>
              <a:t>Формы взаимодействия с педагогами по формированию эмоционального благополучия и социализации детей дошкольного возраста в соответствии с        ФГОС ДО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Прямоугольник 7"/>
          <p:cNvSpPr/>
          <p:nvPr/>
        </p:nvSpPr>
        <p:spPr>
          <a:xfrm>
            <a:off x="4381560" y="49417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300"/>
                </a:solidFill>
                <a:latin typeface="Verdana"/>
              </a:rPr>
              <a:t>Тимошина Оксана Юрьевна– педагог – психолог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300"/>
                </a:solidFill>
                <a:latin typeface="Verdana"/>
              </a:rPr>
              <a:t>МБДОУ ЦРР -детского сада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300"/>
                </a:solidFill>
                <a:latin typeface="Verdana"/>
              </a:rPr>
              <a:t>№ </a:t>
            </a:r>
            <a:r>
              <a:rPr b="1" lang="ru-RU" sz="1800" spc="-1" strike="noStrike">
                <a:solidFill>
                  <a:srgbClr val="006300"/>
                </a:solidFill>
                <a:latin typeface="Verdana"/>
              </a:rPr>
              <a:t>179 «Алиса»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8" name="Объект 2" descr=""/>
          <p:cNvPicPr/>
          <p:nvPr/>
        </p:nvPicPr>
        <p:blipFill>
          <a:blip r:embed="rId2"/>
          <a:stretch/>
        </p:blipFill>
        <p:spPr>
          <a:xfrm>
            <a:off x="457200" y="3138480"/>
            <a:ext cx="3638520" cy="2427120"/>
          </a:xfrm>
          <a:prstGeom prst="rect">
            <a:avLst/>
          </a:prstGeom>
          <a:ln w="9360">
            <a:solidFill>
              <a:srgbClr val="ffffff"/>
            </a:solidFill>
            <a:round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Verdana"/>
                <a:ea typeface="Arial"/>
              </a:rPr>
              <a:t>Консультаци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22960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ahoma"/>
                <a:ea typeface="Arial"/>
              </a:rPr>
              <a:t>С педагогами: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Arial"/>
              </a:rPr>
              <a:t> групповые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Arial"/>
              </a:rPr>
              <a:t>подгрупповые тренинг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Arial"/>
              </a:rPr>
              <a:t>индивидуальные консультац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ahoma"/>
                <a:ea typeface="Arial"/>
              </a:rPr>
              <a:t>С родителя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Arial"/>
              </a:rPr>
              <a:t>Индивидуальные беседы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Arial"/>
              </a:rPr>
              <a:t>Групповые консультации (на общих и групповых родительских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Arial"/>
              </a:rPr>
              <a:t>собраниях, на занятиях в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Arial"/>
              </a:rPr>
              <a:t>родительских клубах и др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Arial"/>
              </a:rPr>
              <a:t>Тренинг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Arial"/>
              </a:rPr>
              <a:t>Консультирова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Arial"/>
              </a:rPr>
              <a:t>Информационные стенды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0" name="Рисунок 1" descr=""/>
          <p:cNvPicPr/>
          <p:nvPr/>
        </p:nvPicPr>
        <p:blipFill>
          <a:blip r:embed="rId1"/>
          <a:stretch/>
        </p:blipFill>
        <p:spPr>
          <a:xfrm>
            <a:off x="5600880" y="981000"/>
            <a:ext cx="3422520" cy="280836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4" descr="F:\Фото с мероприятий\DSCF9395.jpg"/>
          <p:cNvPicPr/>
          <p:nvPr/>
        </p:nvPicPr>
        <p:blipFill>
          <a:blip r:embed="rId2"/>
          <a:stretch/>
        </p:blipFill>
        <p:spPr>
          <a:xfrm>
            <a:off x="5702400" y="4005360"/>
            <a:ext cx="3219480" cy="21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 txBox="1"/>
          <p:nvPr/>
        </p:nvSpPr>
        <p:spPr>
          <a:xfrm>
            <a:off x="457200" y="25992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  <a:ea typeface="Arial"/>
              </a:rPr>
              <a:t>Не забывайте: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  <a:ea typeface="Arial"/>
              </a:rPr>
              <a:t>работа - всего лишь часть жизни,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  <a:ea typeface="Arial"/>
              </a:rPr>
              <a:t>которую нужно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  <a:ea typeface="Arial"/>
              </a:rPr>
              <a:t>провести в радости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  <a:ea typeface="Arial"/>
              </a:rPr>
              <a:t>и гармонии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  <a:ea typeface="Arial"/>
              </a:rPr>
              <a:t>с самим собой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  <a:ea typeface="Arial"/>
              </a:rPr>
              <a:t>Направления работы педагога - психолог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Rectangle 54"/>
          <p:cNvSpPr/>
          <p:nvPr/>
        </p:nvSpPr>
        <p:spPr>
          <a:xfrm>
            <a:off x="0" y="1676520"/>
            <a:ext cx="3995640" cy="117612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  <a:ea typeface="Arial"/>
              </a:rPr>
              <a:t>Психологическое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  <a:ea typeface="Arial"/>
              </a:rPr>
              <a:t>сопровождение внедрения и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  <a:ea typeface="Arial"/>
              </a:rPr>
              <a:t>реализации  ФГОС в ДОУ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Rectangle 55"/>
          <p:cNvSpPr/>
          <p:nvPr/>
        </p:nvSpPr>
        <p:spPr>
          <a:xfrm>
            <a:off x="0" y="3429000"/>
            <a:ext cx="3995640" cy="172872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Развитие психологической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компетентности педагогов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и родителей.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Развитие социальной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компетентности детей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Rectangle 56"/>
          <p:cNvSpPr/>
          <p:nvPr/>
        </p:nvSpPr>
        <p:spPr>
          <a:xfrm>
            <a:off x="2484360" y="5300640"/>
            <a:ext cx="4464000" cy="115272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Обеспечение эмоционального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благополучия и адаптация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в ДОУ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Rectangle 57"/>
          <p:cNvSpPr/>
          <p:nvPr/>
        </p:nvSpPr>
        <p:spPr>
          <a:xfrm>
            <a:off x="5219640" y="3573360"/>
            <a:ext cx="3924360" cy="122400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  <a:ea typeface="Arial"/>
              </a:rPr>
              <a:t>Психологическое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  <a:ea typeface="Arial"/>
              </a:rPr>
              <a:t>сопровождение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  <a:ea typeface="Arial"/>
              </a:rPr>
              <a:t>готовности детей к школьному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  <a:ea typeface="Arial"/>
              </a:rPr>
              <a:t>обучению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Rectangle 58"/>
          <p:cNvSpPr/>
          <p:nvPr/>
        </p:nvSpPr>
        <p:spPr>
          <a:xfrm>
            <a:off x="5364000" y="1916280"/>
            <a:ext cx="3780000" cy="98712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Психологическое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обеспечение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доступности образования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Line 64"/>
          <p:cNvSpPr/>
          <p:nvPr/>
        </p:nvSpPr>
        <p:spPr>
          <a:xfrm>
            <a:off x="971640" y="558972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AutoShape 81"/>
          <p:cNvSpPr/>
          <p:nvPr/>
        </p:nvSpPr>
        <p:spPr>
          <a:xfrm>
            <a:off x="4788000" y="184464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AutoShape 82"/>
          <p:cNvSpPr/>
          <p:nvPr/>
        </p:nvSpPr>
        <p:spPr>
          <a:xfrm>
            <a:off x="4572000" y="167652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AutoShape 86"/>
          <p:cNvSpPr/>
          <p:nvPr/>
        </p:nvSpPr>
        <p:spPr>
          <a:xfrm rot="10800000">
            <a:off x="4066920" y="1989000"/>
            <a:ext cx="1214280" cy="852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lnTo>
                  <a:pt x="10800" y="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AutoShape 87"/>
          <p:cNvSpPr/>
          <p:nvPr/>
        </p:nvSpPr>
        <p:spPr>
          <a:xfrm rot="10800000">
            <a:off x="3957480" y="3968640"/>
            <a:ext cx="1214640" cy="852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lnTo>
                  <a:pt x="10800" y="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  <a:ea typeface="Arial"/>
              </a:rPr>
              <a:t>ДИАГНОСТИК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Verdana"/>
                <a:ea typeface="Arial"/>
              </a:rPr>
              <a:t>С детьм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Обследование при поступлении в детский сад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Диагностика уровня психического развития детей, определение уровня развития интегративных качеств ребенка на начало и конец год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Углубленная диагностика детей, имеющих проблемы в личностной сфере. Выявление детей «группы риска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Диагностика психологической готовности детей к школ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Диагностика детей с проблемами в развитии по запросам педагогов и родителе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  <a:ea typeface="Arial"/>
              </a:rPr>
              <a:t>Используемые диагностические методик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Arial"/>
              </a:rPr>
              <a:t>Диагностическая программа «Изучение адаптивных возможностей младших дошкольников к условиям детского сада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Arial"/>
              </a:rPr>
              <a:t>Диагностическая программа «Изучение эмоционального благополучия дошкольника в ДОУ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Arial"/>
              </a:rPr>
              <a:t>Диагностическая программа «Готовность детей к обучению в школе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Arial"/>
              </a:rPr>
              <a:t>«Краткий тест творческого мышления» П.Торрен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Arial"/>
              </a:rPr>
              <a:t>Диагностика психического развития детей (методика Е.М.Борисовой, Т.Д.Абдрасуловой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Verdana"/>
                <a:ea typeface="Arial"/>
              </a:rPr>
              <a:t>С родителям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07552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Анкетирование родителей с целью определения уровня адаптации ребенка к ДО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Диагностика родителей детей с проблемами в развитии (тест «Рисунок семьи», «Мой цветок»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Анкетирование родителей «Удовлетворенность населения качеством услуг дошкольного образования в МБДОУ ЦРР детский сад № 179 «Алиса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Verdana"/>
                <a:ea typeface="Arial"/>
              </a:rPr>
              <a:t>С педагогам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Анкетирование «Карта наблюдений за ребенком»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Анкетирование по запросу администрац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  <a:ea typeface="Arial"/>
              </a:rPr>
              <a:t>Коррекционно - развивающая рабо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826560"/>
            <a:ext cx="4619520" cy="54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  <a:ea typeface="Arial"/>
              </a:rPr>
              <a:t>Занятия с детьми старших групп по развитию психических процессов, познавательной активно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  <a:ea typeface="Arial"/>
              </a:rPr>
              <a:t>Психологические занятия с детьми подготовительных групп (подготовка к обучению в школе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  <a:ea typeface="Arial"/>
              </a:rPr>
              <a:t>Подгрупповые занятия с детьми среднего возраста по формированию эмоциональной устойчивости и положительной самооценки, развитию коммуникативных навыко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  <a:ea typeface="Arial"/>
              </a:rPr>
              <a:t>Развивающие занятия в старших группах по развитию мелкой моторик руки и графических умений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  <a:ea typeface="Arial"/>
              </a:rPr>
              <a:t>Коррекционно-развивающие занятия по коррекции эмоционально-волевой сферы (старшие, средние группы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8" name="Рисунок 2" descr=""/>
          <p:cNvPicPr/>
          <p:nvPr/>
        </p:nvPicPr>
        <p:blipFill>
          <a:blip r:embed="rId1"/>
          <a:stretch/>
        </p:blipFill>
        <p:spPr>
          <a:xfrm>
            <a:off x="6227640" y="826920"/>
            <a:ext cx="2772000" cy="1846440"/>
          </a:xfrm>
          <a:prstGeom prst="rect">
            <a:avLst/>
          </a:prstGeom>
          <a:ln w="0">
            <a:noFill/>
          </a:ln>
        </p:spPr>
      </p:pic>
      <p:pic>
        <p:nvPicPr>
          <p:cNvPr id="559" name="Рисунок 4" descr=""/>
          <p:cNvPicPr/>
          <p:nvPr/>
        </p:nvPicPr>
        <p:blipFill>
          <a:blip r:embed="rId2"/>
          <a:stretch/>
        </p:blipFill>
        <p:spPr>
          <a:xfrm>
            <a:off x="6804000" y="4300560"/>
            <a:ext cx="2340000" cy="2535120"/>
          </a:xfrm>
          <a:prstGeom prst="rect">
            <a:avLst/>
          </a:prstGeom>
          <a:ln w="0">
            <a:noFill/>
          </a:ln>
        </p:spPr>
      </p:pic>
      <p:pic>
        <p:nvPicPr>
          <p:cNvPr id="560" name="Объект 1" descr=""/>
          <p:cNvPicPr/>
          <p:nvPr/>
        </p:nvPicPr>
        <p:blipFill>
          <a:blip r:embed="rId3"/>
          <a:stretch/>
        </p:blipFill>
        <p:spPr>
          <a:xfrm>
            <a:off x="4788000" y="2708280"/>
            <a:ext cx="2795400" cy="19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Box 5"/>
          <p:cNvSpPr/>
          <p:nvPr/>
        </p:nvSpPr>
        <p:spPr>
          <a:xfrm>
            <a:off x="179280" y="407880"/>
            <a:ext cx="4105440" cy="27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770541"/>
                </a:solidFill>
                <a:uFillTx/>
                <a:latin typeface="Arial"/>
                <a:ea typeface="Arial"/>
              </a:rPr>
              <a:t>Основные задачи работы с детьми: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Создание положительного микроклимата в группе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Профилактика и коррекция психоэмоциональной напряженности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TextBox 7"/>
          <p:cNvSpPr/>
          <p:nvPr/>
        </p:nvSpPr>
        <p:spPr>
          <a:xfrm>
            <a:off x="4427640" y="3213000"/>
            <a:ext cx="46321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Содействие полноценному личностному и интеллектуальному развитию детей, формирование у них способности к самовоспитанию и саморазвитию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Психологическая подготовка детей к обучению в школе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63" name="Рисунок 3" descr=""/>
          <p:cNvPicPr/>
          <p:nvPr/>
        </p:nvPicPr>
        <p:blipFill>
          <a:blip r:embed="rId1"/>
          <a:stretch/>
        </p:blipFill>
        <p:spPr>
          <a:xfrm>
            <a:off x="4378320" y="407880"/>
            <a:ext cx="4375080" cy="2589480"/>
          </a:xfrm>
          <a:prstGeom prst="rect">
            <a:avLst/>
          </a:prstGeom>
          <a:ln w="0">
            <a:noFill/>
          </a:ln>
        </p:spPr>
      </p:pic>
      <p:pic>
        <p:nvPicPr>
          <p:cNvPr id="564" name="Рисунок 4" descr=""/>
          <p:cNvPicPr/>
          <p:nvPr/>
        </p:nvPicPr>
        <p:blipFill>
          <a:blip r:embed="rId2"/>
          <a:stretch/>
        </p:blipFill>
        <p:spPr>
          <a:xfrm>
            <a:off x="353880" y="3191040"/>
            <a:ext cx="3996000" cy="299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  <a:ea typeface="Arial"/>
              </a:rPr>
              <a:t>Формы работы с детьм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Rectangle 3"/>
          <p:cNvSpPr/>
          <p:nvPr/>
        </p:nvSpPr>
        <p:spPr>
          <a:xfrm>
            <a:off x="12600" y="1274760"/>
            <a:ext cx="2448000" cy="1203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  <a:ea typeface="Arial"/>
              </a:rPr>
              <a:t>Групповые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  <a:ea typeface="Arial"/>
              </a:rPr>
              <a:t>занятия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Rectangle 4"/>
          <p:cNvSpPr/>
          <p:nvPr/>
        </p:nvSpPr>
        <p:spPr>
          <a:xfrm>
            <a:off x="3132000" y="5538960"/>
            <a:ext cx="2735280" cy="115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  <a:ea typeface="Arial"/>
              </a:rPr>
              <a:t>Индивидуальные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  <a:ea typeface="Arial"/>
              </a:rPr>
              <a:t>занятия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Rectangle 6"/>
          <p:cNvSpPr/>
          <p:nvPr/>
        </p:nvSpPr>
        <p:spPr>
          <a:xfrm>
            <a:off x="6300720" y="1938240"/>
            <a:ext cx="2160720" cy="10796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  <a:ea typeface="Arial"/>
              </a:rPr>
              <a:t>Подгрупповые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  <a:ea typeface="Arial"/>
              </a:rPr>
              <a:t>занятия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Text Box 8"/>
          <p:cNvSpPr/>
          <p:nvPr/>
        </p:nvSpPr>
        <p:spPr>
          <a:xfrm>
            <a:off x="2247840" y="35164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0" name="Рисунок 1" descr=""/>
          <p:cNvPicPr/>
          <p:nvPr/>
        </p:nvPicPr>
        <p:blipFill>
          <a:blip r:embed="rId1"/>
          <a:stretch/>
        </p:blipFill>
        <p:spPr>
          <a:xfrm>
            <a:off x="6156360" y="3102120"/>
            <a:ext cx="2881440" cy="2160360"/>
          </a:xfrm>
          <a:prstGeom prst="rect">
            <a:avLst/>
          </a:prstGeom>
          <a:ln w="0">
            <a:noFill/>
          </a:ln>
        </p:spPr>
      </p:pic>
      <p:pic>
        <p:nvPicPr>
          <p:cNvPr id="571" name="Рисунок 2" descr=""/>
          <p:cNvPicPr/>
          <p:nvPr/>
        </p:nvPicPr>
        <p:blipFill>
          <a:blip r:embed="rId2"/>
          <a:stretch/>
        </p:blipFill>
        <p:spPr>
          <a:xfrm>
            <a:off x="2492280" y="1560600"/>
            <a:ext cx="2870280" cy="2152440"/>
          </a:xfrm>
          <a:prstGeom prst="rect">
            <a:avLst/>
          </a:prstGeom>
          <a:ln w="0">
            <a:noFill/>
          </a:ln>
        </p:spPr>
      </p:pic>
      <p:pic>
        <p:nvPicPr>
          <p:cNvPr id="572" name="Рисунок 3" descr=""/>
          <p:cNvPicPr/>
          <p:nvPr/>
        </p:nvPicPr>
        <p:blipFill>
          <a:blip r:embed="rId3"/>
          <a:stretch/>
        </p:blipFill>
        <p:spPr>
          <a:xfrm>
            <a:off x="826920" y="3859200"/>
            <a:ext cx="2213280" cy="294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TextBox 6"/>
          <p:cNvSpPr/>
          <p:nvPr/>
        </p:nvSpPr>
        <p:spPr>
          <a:xfrm>
            <a:off x="179280" y="3002040"/>
            <a:ext cx="856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Элементы психогимнастики,  театрализованные игры и др. способствуют снятию психоэмоциональной напряженности и способствуют сохранению психического здоровья детей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Rectangle 9"/>
          <p:cNvSpPr/>
          <p:nvPr/>
        </p:nvSpPr>
        <p:spPr>
          <a:xfrm>
            <a:off x="4716360" y="4160880"/>
            <a:ext cx="381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рофилактике и коррекции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сихоэмоциональной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напряженности способствует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спользование таких методов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как игротерапия и элементы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релаксации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5" name="Picture 4" descr=""/>
          <p:cNvPicPr/>
          <p:nvPr/>
        </p:nvPicPr>
        <p:blipFill>
          <a:blip r:embed="rId1"/>
          <a:stretch/>
        </p:blipFill>
        <p:spPr>
          <a:xfrm>
            <a:off x="755640" y="4057560"/>
            <a:ext cx="3530520" cy="2646360"/>
          </a:xfrm>
          <a:prstGeom prst="rect">
            <a:avLst/>
          </a:prstGeom>
          <a:ln w="0">
            <a:noFill/>
          </a:ln>
        </p:spPr>
      </p:pic>
      <p:pic>
        <p:nvPicPr>
          <p:cNvPr id="576" name="Рисунок 1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3139920" cy="2860920"/>
          </a:xfrm>
          <a:prstGeom prst="rect">
            <a:avLst/>
          </a:prstGeom>
          <a:ln w="0">
            <a:noFill/>
          </a:ln>
        </p:spPr>
      </p:pic>
      <p:pic>
        <p:nvPicPr>
          <p:cNvPr id="577" name="Рисунок 2" descr=""/>
          <p:cNvPicPr/>
          <p:nvPr/>
        </p:nvPicPr>
        <p:blipFill>
          <a:blip r:embed="rId3"/>
          <a:stretch/>
        </p:blipFill>
        <p:spPr>
          <a:xfrm>
            <a:off x="4521240" y="260280"/>
            <a:ext cx="4233960" cy="283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6T09:52:52Z</dcterms:created>
  <dc:creator>Mark</dc:creator>
  <dc:description/>
  <cp:keywords/>
  <dc:language>en-US</dc:language>
  <cp:lastModifiedBy>Оксана</cp:lastModifiedBy>
  <dcterms:modified xsi:type="dcterms:W3CDTF">2022-04-03T15:52:25Z</dcterms:modified>
  <cp:revision>50</cp:revision>
  <dc:subject/>
  <dc:title>Содержание  работы  педагога – психолога  МБДОУ детского сада  № 430</dc:title>
</cp:coreProperties>
</file>