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1274-920F-45F7-B07C-18C2D6C1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A43F-516E-4A67-93FD-A3810A25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7A86F-1030-45F9-B118-D407B669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54A8-0B37-4E9D-A434-A124837E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A7FC-4B78-4A8A-B430-760F246B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CEE2-3A0A-4DDB-A530-4B42759C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2AE0-242A-4634-92F0-1D56E26A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C9DB-8D45-4DB4-AD3B-934763F7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3E7F-67EC-4DED-8700-A4F37A86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CC70-3931-48C3-82A5-2BAE5E48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6FB3-3482-4BD7-8ADF-57488DEF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46AB3-DE1D-4461-9F8A-F6B012EE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B4E1-AB4E-4270-AB7A-4AF024EE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7084-794D-4DAA-AD8F-B2A5A944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48A2-F31C-4768-ADB8-F9EA76A6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2520-43B8-4ACD-B899-C46593CA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65C8-E03F-4FC6-A09B-CE831A92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608E0-4EC3-4CF2-8378-D07230F7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9D33-532C-40CB-A80E-6C8D657C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B36FE-9B16-4969-8CF0-F40162EC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BE5B-CE7C-451D-8B6F-8EF5475F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D3F7-DA84-4CD6-84EC-FF37CC9C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720F-87B0-4A9B-8FA3-334C9248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79E2-EB25-4348-873E-DB902349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D26E-2D70-4BDE-B82A-909DC7CB365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AF18-1F8E-4CD1-80A1-3D993B2B51D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obrazovanie.guru/kultura/chto-takoe-opera-v-muzyke-vozniknovenie-zhanra.html" TargetMode="External"/><Relationship Id="rId2" Type="http://schemas.openxmlformats.org/officeDocument/2006/relationships/hyperlink" Target="http://273music.ru/index.php/o-kompozitorakh/88-rimskij-korsakov-kompozitor-skazochnik" TargetMode="External"/><Relationship Id="rId3" Type="http://schemas.openxmlformats.org/officeDocument/2006/relationships/hyperlink" Target="https://mp3ix.net/song/" TargetMode="External"/><Relationship Id="rId4" Type="http://schemas.openxmlformats.org/officeDocument/2006/relationships/hyperlink" Target="https://mp3ix.net/song/" TargetMode="External"/><Relationship Id="rId5" Type="http://schemas.openxmlformats.org/officeDocument/2006/relationships/hyperlink" Target="https://www.belcanto.ru/sadko.html?sa=X&amp;ved=0ahUKEwjZlqXAyOTQAhUFhywKHYFOBccQ_B0IETAA" TargetMode="External"/><Relationship Id="rId6" Type="http://schemas.openxmlformats.org/officeDocument/2006/relationships/hyperlink" Target="http://tihvin-news.ru/index.php/4367-kak-na-koliny-imeniny" TargetMode="External"/><Relationship Id="rId7" Type="http://schemas.openxmlformats.org/officeDocument/2006/relationships/hyperlink" Target="https://m.ephttps//ria.ru/20150102/1039196860" TargetMode="External"/><Relationship Id="rId8" Type="http://schemas.openxmlformats.org/officeDocument/2006/relationships/hyperlink" Target="https://ria.ru/20150102/1039196860.html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ssian-retro.com/video/5236-aleksandr-vedernikov-serenada-mefistofelja-iz-opery-faust.html?playlist=491" TargetMode="External"/><Relationship Id="rId2" Type="http://schemas.openxmlformats.org/officeDocument/2006/relationships/hyperlink" Target="https://nashizvyozdy.ru/blog/43181003993/Sinyavskaya-Tamara-Ilinichna---70-let" TargetMode="External"/><Relationship Id="rId3" Type="http://schemas.openxmlformats.org/officeDocument/2006/relationships/hyperlink" Target="https://forum.vgd.ru/post/609/37630/p2492358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7440" cy="151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утешествие в музыкальный театр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484000" y="4941720"/>
            <a:ext cx="77043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: Горячева Татьяна Викторовна, учитель музык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БОУ СОШ 473 Калининского района Санкт-Петербур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2305080" y="2355840"/>
            <a:ext cx="424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ПЕР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сточники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imes New Roman"/>
                <a:ea typeface="Times New Roman"/>
                <a:hlinkClick r:id="rId1"/>
              </a:rPr>
              <a:t>https://obrazovanie.guru/kultura/chto-takoe-opera-v-muzyke-vozniknovenie-zhanra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imes New Roman"/>
                <a:ea typeface="Times New Roman"/>
                <a:hlinkClick r:id="rId2"/>
              </a:rPr>
              <a:t>http://273music.ru/index.php/o-kompozitorakh/88-rimskij-korsakov-kompozitor-skazochn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imes New Roman"/>
                <a:ea typeface="Times New Roman"/>
                <a:hlinkClick r:id="rId3"/>
              </a:rPr>
              <a:t>https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imes New Roman"/>
                <a:ea typeface="Times New Roman"/>
                <a:hlinkClick r:id="rId4"/>
              </a:rPr>
              <a:t>://mp3ix.net/song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imes New Roman"/>
                <a:ea typeface="Times New Roman"/>
                <a:hlinkClick r:id="rId5"/>
              </a:rPr>
              <a:t>https://www.belcanto.ru/sadko.html?sa=X&amp;ved=0ahUKEwjZlqXAyOTQAhUFhywKHYFOBccQ_B0IETA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imes New Roman"/>
                <a:ea typeface="Times New Roman"/>
                <a:hlinkClick r:id="rId6"/>
              </a:rPr>
              <a:t>http://tihvin-news.ru/index.php/4367-kak-na-koliny-imen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imes New Roman"/>
                <a:ea typeface="Times New Roman"/>
                <a:hlinkClick r:id="rId7"/>
              </a:rPr>
              <a:t>https://m.ephttps://ria.ru/20150102/103919686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imes New Roman"/>
                <a:ea typeface="Times New Roman"/>
                <a:hlinkClick r:id="rId8"/>
              </a:rPr>
              <a:t>https://ria.ru/20150102/1039196860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611280" y="189000"/>
            <a:ext cx="806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imes New Roman"/>
                <a:ea typeface="Times New Roman"/>
                <a:hlinkClick r:id="rId1"/>
              </a:rPr>
              <a:t>http://russian-retro.com/video/5236-aleksandr-vedernikov-serenada-mefistofelja-iz-opery-faust.html?playlist=4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imes New Roman"/>
                <a:ea typeface="Times New Roman"/>
                <a:hlinkClick r:id="rId2"/>
              </a:rPr>
              <a:t>https://nashizvyozdy.ru/blog/43181003993/Sinyavskaya-Tamara-Ilinichna---70-l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imes New Roman"/>
                <a:ea typeface="Times New Roman"/>
                <a:hlinkClick r:id="rId3"/>
              </a:rPr>
              <a:t>https://forum.vgd.ru/post/609/37630/p2492358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shkola-televideniya.ru/news/svetskie-novosti/?curPos=10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novotroitsk.info/tags/%E1%EE%EB%FC%F8%EE%EC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s://www.classicalmusicnews.ru/signdates/bolshoj-teatr-pozdravlyaet-narodnogo-artista-sssr-vladimira-atlantova-s-80-letiem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visualrian.ru/hier_rubric/photo_historic/564447.html?period=19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93336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 — это один из важнейших музыкальных и театральных жанров. Она представляет собой смесь музыки, вокала, живописи и актёрского мастер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0" y="6480"/>
            <a:ext cx="4643280" cy="29048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29113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179280" y="2911320"/>
            <a:ext cx="878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.И. Глинка                                      М.П. Мусоргск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лан и Людмил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                       “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рис Годуно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404280"/>
            <a:ext cx="82915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ной оперы является Италия. Однако предшественником оперы стала древнегреческая трагедия. Считается, что первая оперная постановка увидела свет в 1598 году. Это опера “Дафн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озитора Якопо Пери и поэта Оттавио Ринуччини, в наше время она не сохранилась. Зато их же перу принадлежит “Эвридика”, которая является самой ранней из сохранившихся опе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XVIII веке особую популярность приобрели жанры опера-сериа и опера-буфф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-сериа – серьезная опера. Опера-буффа – комическая опе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выделить несколько видов опер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ера-балет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мическая опер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ера спас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омантическа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большая опер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ерет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8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Рисунок 1" descr="http://www.tihvin-news.ru/images/kompozitor.jpg"/>
          <p:cNvPicPr/>
          <p:nvPr/>
        </p:nvPicPr>
        <p:blipFill>
          <a:blip r:embed="rId1"/>
          <a:stretch/>
        </p:blipFill>
        <p:spPr>
          <a:xfrm>
            <a:off x="4680" y="4680"/>
            <a:ext cx="3152880" cy="46958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3419640" y="260280"/>
            <a:ext cx="518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лай Андрееви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мский-Корса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44 - 1908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мский-Корсаков -композитор-сказочник, большая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ь его наследия написана на сказочный  сюжет: оперы “Сказка  о  царе  Салтане”, “Снегурочка”, “Садко”,  “Кащей Бессмертный”, “Золотой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тушок”, “Майская ночь”, “Ночь перед Рождеством”, “Царская невеста”, “Сказание о невидимом граде Китеже и деве Февронии” и друг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800" y="33652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469800"/>
            <a:ext cx="82184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 Н.А. Римского Корсаков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дк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казывает о волшебном путешествии новгородского купца и гусляра в подводное царство к Морскому цар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Рисунок 2" descr="https://www.belcanto.ru/media/images/uploaded/14021739.jpg"/>
          <p:cNvPicPr/>
          <p:nvPr/>
        </p:nvPicPr>
        <p:blipFill>
          <a:blip r:embed="rId1"/>
          <a:stretch/>
        </p:blipFill>
        <p:spPr>
          <a:xfrm>
            <a:off x="1619280" y="469800"/>
            <a:ext cx="5715000" cy="4091040"/>
          </a:xfrm>
          <a:prstGeom prst="rect">
            <a:avLst/>
          </a:prstGeom>
          <a:ln w="0">
            <a:noFill/>
          </a:ln>
        </p:spPr>
      </p:pic>
      <p:pic>
        <p:nvPicPr>
          <p:cNvPr id="142" name="Заиграйте мои гусельки.mp3" descr=""/>
          <p:cNvPicPr/>
          <p:nvPr/>
        </p:nvPicPr>
        <p:blipFill>
          <a:blip r:embed="rId2"/>
          <a:stretch/>
        </p:blipFill>
        <p:spPr>
          <a:xfrm>
            <a:off x="1639800" y="3951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124320" cy="4086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"/>
          <p:cNvSpPr/>
          <p:nvPr/>
        </p:nvSpPr>
        <p:spPr>
          <a:xfrm>
            <a:off x="792720" y="189000"/>
            <a:ext cx="782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нейшие представители оперного искус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1067400" y="5445000"/>
            <a:ext cx="66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митрий Хворостовский и Анна Нетреб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1" descr=""/>
          <p:cNvPicPr/>
          <p:nvPr/>
        </p:nvPicPr>
        <p:blipFill>
          <a:blip r:embed="rId1"/>
          <a:stretch/>
        </p:blipFill>
        <p:spPr>
          <a:xfrm>
            <a:off x="4680" y="46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" descr=""/>
          <p:cNvPicPr/>
          <p:nvPr/>
        </p:nvPicPr>
        <p:blipFill>
          <a:blip r:embed="rId2"/>
          <a:srcRect l="6299" t="0" r="7079" b="1680"/>
          <a:stretch/>
        </p:blipFill>
        <p:spPr>
          <a:xfrm>
            <a:off x="4859280" y="-14400"/>
            <a:ext cx="3960720" cy="33721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" descr=""/>
          <p:cNvPicPr/>
          <p:nvPr/>
        </p:nvPicPr>
        <p:blipFill>
          <a:blip r:embed="rId3"/>
          <a:srcRect l="5676" t="1739" r="7792" b="-1728"/>
          <a:stretch/>
        </p:blipFill>
        <p:spPr>
          <a:xfrm>
            <a:off x="4680" y="3638520"/>
            <a:ext cx="4392720" cy="32288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"/>
          <p:cNvSpPr/>
          <p:nvPr/>
        </p:nvSpPr>
        <p:spPr>
          <a:xfrm>
            <a:off x="-30600" y="2409840"/>
            <a:ext cx="429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ександр Ведерн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пере М.П. Мусоргск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ванщин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4412880" y="4735440"/>
            <a:ext cx="416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ина Архипова в образ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ины Мнишек опе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.П. Мусоргск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рис Годуно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1" descr=""/>
          <p:cNvPicPr/>
          <p:nvPr/>
        </p:nvPicPr>
        <p:blipFill>
          <a:blip r:embed="rId1"/>
          <a:stretch/>
        </p:blipFill>
        <p:spPr>
          <a:xfrm>
            <a:off x="4680" y="4680"/>
            <a:ext cx="4562640" cy="60962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4859280" y="333360"/>
            <a:ext cx="323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на Образцо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оли Кармен в опере Жоржа Биз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6T10:13:56Z</dcterms:created>
  <dc:creator>zaswert</dc:creator>
  <dc:description/>
  <dc:language>en-US</dc:language>
  <cp:lastModifiedBy>admin</cp:lastModifiedBy>
  <dcterms:modified xsi:type="dcterms:W3CDTF">2022-04-03T17:54:28Z</dcterms:modified>
  <cp:revision>33</cp:revision>
  <dc:subject/>
  <dc:title>Тема: Современная ситуация в развитии детской авторской песни.</dc:title>
</cp:coreProperties>
</file>