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6FB-0A82-482E-BCF1-708330DB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99C-7463-4FB0-9434-A8F7B59A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487-5951-4C57-9A19-EB77E154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6D0-4F59-431E-81D2-B06C987B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9D0-9662-4E14-B8A4-B9AC3D52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714-18E8-4FDE-9BC2-0BB2C682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AB2-3A70-48DE-80AF-8C5DB123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562-79A0-4D4C-89A4-61613FDD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EA5-8CDF-459F-9441-69446F5F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10C-4EF4-45AC-AA03-0B7EB7F5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4F4-7F32-4941-A16F-155F855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BC4-A396-45BF-9013-665F353D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F63-7E50-4CE9-8788-BFE0E7B0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1T14:23:25Z</dcterms:created>
  <dc:creator>emachines</dc:creator>
  <dc:description/>
  <dc:language>en-US</dc:language>
  <cp:lastModifiedBy>emachines</cp:lastModifiedBy>
  <dcterms:modified xsi:type="dcterms:W3CDTF">2022-03-21T14:23:44Z</dcterms:modified>
  <cp:revision>1</cp:revision>
  <dc:subject/>
  <dc:title>Слайд 1</dc:title>
</cp:coreProperties>
</file>