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C58-FD51-4F4B-9FE7-9FB6535D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B48-7147-4A2A-A84A-7A3D712B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8F4-AE62-4DF7-AF03-43FCC58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71-EF00-40ED-A6C6-67B014F1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F7B-C727-4317-9FB3-A8C68902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340-2AAF-4BE7-9AB2-16744F5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8E6-257D-4267-8262-354295DD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15C-A9B4-4DB1-A8EB-26E7DEB6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732-6D19-48F3-8F25-40EA31C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439-C2B1-4C1D-938C-DFBE4C5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DDE-F44D-4E2B-B9F9-DCEA8DA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CC5-2671-467C-B763-D98EAD5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326-D681-4DDC-A872-E2BFE567F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равильное питание - залог здоровья до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175"/>
          <p:cNvPicPr/>
          <p:nvPr/>
        </p:nvPicPr>
        <p:blipFill>
          <a:blip r:embed="rId1"/>
          <a:stretch/>
        </p:blipFill>
        <p:spPr>
          <a:xfrm>
            <a:off x="1547640" y="1625760"/>
            <a:ext cx="5761080" cy="392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19280" y="5877000"/>
            <a:ext cx="39243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Презентацию составила воспитатель: Юрьева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Витамины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- в суточном рационе должно быть достаточное количество всех ви­таминов. Витамины необходимы для нормального течения биохимических реакций в организме, усвоения пищевых веществ, роста и восстановления клеток и тканей. Ово­щи, фрукты, ягоды являются богатым источником минеральных солей и витаминов. Однако в процессе кулинарной обработки эти вещества в значительной мере утрачи­ваются. Поэтому детям следует давать больше овощей, фруктов и ягод в сыром виде и обогащать витаминами готовые блюда, добавляя в них сырые соки и зе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Организация питания, рацион, режим и примерное мен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В соответствии с принципами организации питания детей дошкольного возраста, рацион должен включать все основные группы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Из мяса предпочтительнее использовать нежирную говядину или телятину, ку­рицу или индейку. Менее полезны колбасы, сосиски и сардельки. Субпродукты служат источником белка, желе­за, ряда витаминов и могут использоваться в питан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Рекомендуемые сорта рыбы: треска, минтай, хек, судак и другие нежирные сорта. Соленые рыбные дели­катесы и консервы рекомендуется включать в рацион лишь изре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5483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Молоко и молочные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продукты занимают особое место в детском питании. Это богатый источник легкоусвояемого белка, кальция, фосфора и витамина В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Фрукты, овощи, плодоовощные соки содержат углеводы (сахара), некоторые витамины, микроэлементы, а также такие полезные вещества, как пектин, клетчатка, пищевые волокна и другие. Эти продукты улучшают работу органов пищева­рения, предотвращают возникновение зап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59"/>
          <p:cNvPicPr/>
          <p:nvPr/>
        </p:nvPicPr>
        <p:blipFill>
          <a:blip r:embed="rId1"/>
          <a:stretch/>
        </p:blipFill>
        <p:spPr>
          <a:xfrm>
            <a:off x="6012000" y="3645000"/>
            <a:ext cx="2644560" cy="197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52"/>
          <p:cNvPicPr/>
          <p:nvPr/>
        </p:nvPicPr>
        <p:blipFill>
          <a:blip r:embed="rId2"/>
          <a:stretch/>
        </p:blipFill>
        <p:spPr>
          <a:xfrm>
            <a:off x="6156360" y="907920"/>
            <a:ext cx="20811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Необходимы хлеб, макароны, крупы, растительные и жи­вотные жиры, особенно гречневая и овсяная крупы. Растительное масло как приправа к салатам позволяет усваиваться многим полезным веществам, содержащимся в ово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Всего в день ребенок 4-6 лет должен получать: белков и жиров около 70 г, углеводов около 280 г, кальция 900 мг, фос­фора 1350 мг, магния 200 мг, железа 12 мг, цинка 10 мг, йода 0,08 мг, витамина «С» 50 мг. Интервалы между приемами пищи должны быть не более 3,5-4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Важным условием является строгий режим питания, который предусматривает не менее 4 приемов пищи. Причем 3 из них должны обязательно включать горячее блюдо.Наш детский сад с 10 часовым прибыванием детей в нем рассчитан на 3 приема пищи- завтрак, обед,полдник. При этом на долю завтрака приходится приблизительно 25% суточной калорийности, на долю обеда 40%, полдника - 15%, ужина - 2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Домашний рацион питания «организованного» ребенка должен дополнять, а не заменять рацион детского сада. С этой целью в каждой группе воспитатели вывешивают ежедневное меню, чтобы родители могли с ним ознаком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Поэтому, забирая ребенка домой, не забудьте его прочитать и постарайтесь дать малышу дома именно те продукты и блюда, которые он недополучил днем. Утром перед отправлением ребенка в детский сад не кормите его, так как он потом будет плохо завтракать в группе. Ну а если вам приходится отводить его очень рано, напоите кефиром или дайте яблоко. В выходные и праздничные дни старайтесь придерживаться меню детского сада, используя наши рекомендац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Завтрак.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Ребенку необходимо давать каши, яичные или творожные блюда, мясо, рыбу, чай или кофейный напиток с молоком, хлеб с маслом, сы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Обед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должен содержать овощной салат, мясной, куриный или рыбный бульон с ово­щами, крупами, второе блюдо из мяса, птицы или рыбы с гарниром и десерт в виде киселя, компота, напитка, свежих фруктов или ягод, фруктового пю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лдник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ребенок должен выпивать стакан молока, кефира или простокваши, съедать печенье, ватрушку или булочку, фр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Ужин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лучше давать овощные или крупяные блюда в зависимости от завтрака; мяс­ные и рыбные блюда, особенно в жареном виде, давать не след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Из напитков предпочтительнее употреблять чай некрепкий с молоком, кофей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напиток с молоком, с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отвар шипов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Необходимо исклю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любые газированные напитки из рациона дошкольников. В качестве сладостей рекомендуется пастила, зефир, мармелад, мед, джем, вар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54"/>
          <p:cNvPicPr/>
          <p:nvPr/>
        </p:nvPicPr>
        <p:blipFill>
          <a:blip r:embed="rId1"/>
          <a:stretch/>
        </p:blipFill>
        <p:spPr>
          <a:xfrm>
            <a:off x="5940360" y="1700280"/>
            <a:ext cx="2592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6"/>
          <p:cNvPicPr/>
          <p:nvPr/>
        </p:nvPicPr>
        <p:blipFill>
          <a:blip r:embed="rId1"/>
          <a:stretch/>
        </p:blipFill>
        <p:spPr>
          <a:xfrm>
            <a:off x="684360" y="1087560"/>
            <a:ext cx="77752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равильное питание - залог здоровья до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реди множества разнообразных факторов, постоянно действующих на развитие детского организма и его здоровье, важнейшая роль принадлежит питанию. Характер питания в раннем детстве накладывает отпечаток и влияет на дальнейшее развитие ребенка и его состояние здоровья не только в детско-подростковом возрасте, но и во взросл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411280" y="177336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Правильное, или                        рациональное питание - это такое    питание, которое обеспечивает укрепление и улучшение здоровья, физических и духовных сил человека, предупреждение и лечение заболеваний. Одним словом, правильное питание - это здоров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Что понимается под правильным питанием и каким оно должно быть для ребенка дошкольного возра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im121"/>
          <p:cNvPicPr/>
          <p:nvPr/>
        </p:nvPicPr>
        <p:blipFill>
          <a:blip r:embed="rId1"/>
          <a:stretch/>
        </p:blipFill>
        <p:spPr>
          <a:xfrm>
            <a:off x="539640" y="2637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итание  ребенка   дошкольного   возраста должно бы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Во-первых, полноценным, содержащим в необходимых количествах белки, жиры, углеводы, минеральные веще­ства, витамины,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Во-вторых, разнообразным, состоять из продуктов растительного и животного происхождения</a:t>
            </a:r>
            <a:r>
              <a:rPr b="0" i="1" lang="ru-RU" sz="2000" spc="-1" strike="noStrike">
                <a:solidFill>
                  <a:srgbClr val="cc00cc"/>
                </a:solidFill>
                <a:latin typeface="Arial"/>
              </a:rPr>
              <a:t>. Чем разно -образнее набор продуктов, входящих в меню, тем полно­ценнее удовлетворяется потребность в пи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В-третьих, доброкачественным - не содержать вредных примесей и болезнетворных микробов.</a:t>
            </a:r>
            <a:r>
              <a:rPr b="0" i="1" lang="ru-RU" sz="2000" spc="-1" strike="noStrike">
                <a:solidFill>
                  <a:srgbClr val="cc00cc"/>
                </a:solidFill>
                <a:latin typeface="Arial"/>
              </a:rPr>
              <a:t> Пища должна быть не только вкусной, но и безопасной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В-четвертых, достаточным по объему и калорийности, вызывать чувство сытости.</a:t>
            </a:r>
            <a:r>
              <a:rPr b="0" i="1" lang="ru-RU" sz="2000" spc="-1" strike="noStrike">
                <a:solidFill>
                  <a:srgbClr val="cc00cc"/>
                </a:solidFill>
                <a:latin typeface="Arial"/>
              </a:rPr>
              <a:t> Получаемое дошкольником питание должно не только покрывать расходуемую им энергию, но и обеспечивать ма­териал, необходимый для роста и развития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Характеристика основных компонентов пи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</a:t>
            </a: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Белки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 - занимают особое значение, так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     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как без них не может осуществляться             построение основных элементов органов и тканей. Они не могут быть заменены другими пищевыми веще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Источниками белка являются мясо, рыба, молоко и молочные продукты, яйца (жи­вотные белки), а также хлеб, крупы, бобовые и овощи (растительные белки). Недоста­ток в рационе ребенка белков не только замедляет нормальный рост и развитие, но и влияет на функцию головного мозга и работу иммунной системы организма. Поэто­му белки должны постоянно включаться в рацион дошкольников и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69"/>
          <p:cNvPicPr/>
          <p:nvPr/>
        </p:nvPicPr>
        <p:blipFill>
          <a:blip r:embed="rId1"/>
          <a:stretch/>
        </p:blipFill>
        <p:spPr>
          <a:xfrm>
            <a:off x="324000" y="907920"/>
            <a:ext cx="21589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5410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Жиры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- это источник энергии, принимают участие в обмене веществ, способ­ствуют выработке иммунитета. Источники жиров - масло сливочное и растительное, сливки, молоко, молочные продукты (сметана, творог, сыр), а также мясо, рыб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70"/>
          <p:cNvPicPr/>
          <p:nvPr/>
        </p:nvPicPr>
        <p:blipFill>
          <a:blip r:embed="rId1"/>
          <a:stretch/>
        </p:blipFill>
        <p:spPr>
          <a:xfrm>
            <a:off x="5724360" y="1341360"/>
            <a:ext cx="3178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8000" y="475920"/>
            <a:ext cx="66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Углеводы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основной источник энергии,          способствует усвоению в организме белков и жиров.            Содержатся в свекловичном,   тростниковом сахаре, меде, ягодах, фрук­тах. Они быстро усваиваются в    организме и обеспечивают поддержание сахара в крови. Сложные углеводы    содержатся в муке,    картофеле, овощах в виде крахмал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Избыточное же количество углеводов ведет к нарушению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Большое значение в рационе питания имеет</a:t>
            </a:r>
            <a:r>
              <a:rPr b="1" i="1" lang="ru-RU" sz="2400" spc="-1" strike="noStrike">
                <a:solidFill>
                  <a:srgbClr val="cc00cc"/>
                </a:solidFill>
                <a:latin typeface="Arial"/>
              </a:rPr>
              <a:t> вода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, так как без нее не могут происходить жизненные процессы. В сутки для ребенка необходимо около по­лутора литров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71"/>
          <p:cNvPicPr/>
          <p:nvPr/>
        </p:nvPicPr>
        <p:blipFill>
          <a:blip r:embed="rId1"/>
          <a:stretch/>
        </p:blipFill>
        <p:spPr>
          <a:xfrm>
            <a:off x="179280" y="1413000"/>
            <a:ext cx="1989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Минеральные соли и микроэлемент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являются строительным материалом для органов, тканей, клеток и их компонентов. Обеспечить их поступление в организм особенно важно в период активного роста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Минеральные вещества делят на две группы в зависимости от содержания в организме: макроэлементы, или минеральные соли (натрий, калий, кальций, фосфор, маг­ний, хлориды, сульфаты и др.) и микроэлементы (железо, медь, цинк, хром, марганец, йод, фтор, селен и др.). Содержание макроэлементов в организме может составлять до 1 кг. Микроэлементы не превышают десятков или сотен миллиграм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Наибольшее количество микроэлементов и минеральных веществ содержится в следующих продуктах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-  </a:t>
            </a: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кальций и фосфор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- в молоке и кисломолочных продуктах, рыбе, яйцах, бобов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-  магний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- в различных злаковых (хлеб, крупы, бобов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-  железо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- в печени (свиная и говяжья), овсяной крупе, персиках, яичном желтке, рыбе, яблоках, зелени, изю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7:00:29Z</dcterms:created>
  <dc:creator>User</dc:creator>
  <dc:description/>
  <dc:language>en-US</dc:language>
  <cp:lastModifiedBy>Admin</cp:lastModifiedBy>
  <dcterms:modified xsi:type="dcterms:W3CDTF">2022-04-03T18:55:03Z</dcterms:modified>
  <cp:revision>5</cp:revision>
  <dc:subject/>
  <dc:title>Правильное питание - залог здоровья дошкольников</dc:title>
</cp:coreProperties>
</file>