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583-F7C0-40CC-9701-C2A9937D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4B-1DD1-4BE2-916B-C9B9E08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5C2-0307-4E61-B7B7-3E8F2D85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757-019E-4BA8-AE71-A3D1084E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68C-230F-43BD-8358-ECBAAD8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300-39AF-463A-9FB0-ED9EFE3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6B9-34DF-4528-9E18-591B5C3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78C-420E-4FC3-BE4A-F5F53D3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773-FCE9-4740-8BB7-2EEFD22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5B8-1072-4219-AB0F-6068DF6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820-B7C7-4D6D-9E4F-927A2D5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FC7-4EDE-4B68-B992-0EC9654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3713-B3A5-4147-8EDA-B21F50B096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2314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0" y="3359160"/>
            <a:ext cx="4359240" cy="3505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0"/>
          <p:cNvSpPr/>
          <p:nvPr/>
        </p:nvSpPr>
        <p:spPr>
          <a:xfrm>
            <a:off x="4551480" y="573264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полнила: педагог-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.Ю.Тимошина, МБДОУ №179 г.Ульн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285840" y="500040"/>
            <a:ext cx="85723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ыт работы педагога-психолога по формированию толерантного отношения старших дошкольников к детям с ограниченн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55440" y="-2844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9280" y="115920"/>
            <a:ext cx="8821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туальность:</a:t>
            </a:r>
            <a:br>
              <a:rPr sz="2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ирование основ толерантной культуры через экологизацию человеческих отношений у старших дошкольников базируется на обучении их навыкам бесконфликтного взаим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визна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ключается в формировании толерантности как условия экологизации человеческих отношений у детей дошкольного через организацию различных мероприятий в группе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348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476360" y="3249720"/>
            <a:ext cx="728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-66600" y="3932280"/>
            <a:ext cx="3309840" cy="2901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85680" y="87480"/>
            <a:ext cx="8675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ъект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спитательный и образовательный процесс, обеспечивающий оптимальные условия для формирования толерантности как условия экологизации человеческих отнош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едмет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ирование толерантности как условия экологизации человеческих отнош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230720" y="2513160"/>
            <a:ext cx="4572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Цель :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ка системы формирования толерантности как условия экологизации человеческих отношений детей 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фон для презентации\1 (1)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Диаграмма 3" descr=""/>
          <p:cNvPicPr/>
          <p:nvPr/>
        </p:nvPicPr>
        <p:blipFill>
          <a:blip r:embed="rId2"/>
          <a:stretch/>
        </p:blipFill>
        <p:spPr>
          <a:xfrm>
            <a:off x="214200" y="274680"/>
            <a:ext cx="4786560" cy="5654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292720" y="2203560"/>
            <a:ext cx="3706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эффективности используется авторская методика А.С.Сиротюк «Диагностика толерантности детей дошкольного возраста по отношению к сверстникам с ограниченными возможностями здоров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492360" y="5446800"/>
            <a:ext cx="545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результатов итогового мониторинга завершено в апреле 2017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760" y="1643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4859280" y="987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эффекти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9613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382680" y="1844640"/>
            <a:ext cx="5630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гровая деятельность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– система применение литературы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сихогимнастик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рт-терапия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82680" y="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ы работы педагога-психолога с участниками психолого-педагогического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046520" y="1085760"/>
            <a:ext cx="41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. Работа с воспитанниками ДО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2"/>
          <a:stretch/>
        </p:blipFill>
        <p:spPr>
          <a:xfrm>
            <a:off x="5870520" y="133200"/>
            <a:ext cx="3389400" cy="2702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3"/>
          <a:stretch/>
        </p:blipFill>
        <p:spPr>
          <a:xfrm>
            <a:off x="5815080" y="2359080"/>
            <a:ext cx="350028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5772240" y="4535640"/>
            <a:ext cx="3579840" cy="26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5"/>
          <a:stretch/>
        </p:blipFill>
        <p:spPr>
          <a:xfrm>
            <a:off x="-109440" y="3943440"/>
            <a:ext cx="357804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570560" y="907920"/>
            <a:ext cx="4362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дение родительского собрания с участием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Круглый стол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55520" y="34862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ка тематических  памяток-рекомендаций, буклетов по формированию толерантного отношения к детям с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382680" y="244440"/>
            <a:ext cx="75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.Формы работы с родителями воспитанников ДО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55440" y="639720"/>
            <a:ext cx="4675320" cy="3243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4211640" y="3389400"/>
            <a:ext cx="470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5076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4522680" y="1155600"/>
            <a:ext cx="4448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зучение психолого-педагогической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ведение семинаров-тренингов с воспита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05092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3.Формы работы с педаго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0" y="416736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углые ст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4054320" y="2871720"/>
            <a:ext cx="4735800" cy="3986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3"/>
          <a:stretch/>
        </p:blipFill>
        <p:spPr>
          <a:xfrm>
            <a:off x="158760" y="785880"/>
            <a:ext cx="447984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382680" y="1844640"/>
            <a:ext cx="56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522680" y="1155600"/>
            <a:ext cx="44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50920" y="260280"/>
            <a:ext cx="6913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0" y="4167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60480" y="474840"/>
            <a:ext cx="871200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сле реализации психолого-педагогического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Формирование толерантности как условие развития экологических представлений детей старшего 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образовательных организациях были получены следующие </a:t>
            </a:r>
            <a:r>
              <a:rPr b="0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детей старшего дошкольного возраста были сформированы такие качества, как отзывчивость, справедливость, скромно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илилась взаимосвязь в вопросах воспитания толерантных отношений между семьей и детским с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зменилась пассивная позиция на активную у родителей старших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Детские фото - Прикольные картинки - Скачать картинки - Приколы онлайн.ком"/>
          <p:cNvPicPr/>
          <p:nvPr/>
        </p:nvPicPr>
        <p:blipFill>
          <a:blip r:embed="rId1"/>
          <a:stretch/>
        </p:blipFill>
        <p:spPr>
          <a:xfrm>
            <a:off x="7920" y="-205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"/>
          <p:cNvSpPr/>
          <p:nvPr/>
        </p:nvSpPr>
        <p:spPr>
          <a:xfrm>
            <a:off x="4788000" y="142920"/>
            <a:ext cx="3960720" cy="2422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Данный опыт работы может быть интересен педагогам дошкольных образовательных организаций и родителям, заинтересованным в формировании толерантности у  детей к детям с ОВ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143680" y="2857680"/>
            <a:ext cx="35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ЛАГОДАР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56320" y="63216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фото были взяты в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04-03T13:22:13Z</dcterms:modified>
  <cp:revision>831</cp:revision>
  <dc:subject/>
  <dc:title>Diapositiva 1</dc:title>
</cp:coreProperties>
</file>