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5C22-F136-48BB-A2F2-1AB95CFCCC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31B6-7B98-4886-9429-F079302C43E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30C-D37E-4955-8E2E-DE99BBBA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68B-144B-4587-8336-C9A5005F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A8F-1E7F-4386-BD9F-B63BA9E7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E38F-41A1-4939-9C17-F7597D82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F4A9-249F-489B-8BB6-6AD2D557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8E56-2970-4375-B188-82EA225C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C8A9-6222-464B-B2BE-49D18346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EBC3-F11B-4EAC-AB20-BEB11036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FAF1-7097-43CB-BD57-0954F308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AB51-EE76-4B51-A120-20F0A7BE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2470-A222-4EBE-B1A9-3072D1BC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381-5DC2-4742-8A19-C221795A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FA64-D126-46F8-A992-C21A9468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7C1F-904D-45B4-B341-7AF94D1D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ADD0-FE66-49AF-862D-739F410D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3B3A-2645-48C0-8494-E2D20C75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C923-282F-46A5-A92A-99199A16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85E-C7FE-4847-A968-E03AB472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EFC0-1E2E-4B42-B7AA-0C4BD96F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C49-9855-4C07-9384-287F5350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8987-98E6-4DF1-A840-AF5F0527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FE3-D97E-4E8E-BBFE-EA91E052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44D-1477-4CCD-8F61-AE90BA05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431-1F34-4D60-954B-8B9B5641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7D5D-A6BD-43AD-87F5-FB78F4FC2D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CF37-56D6-4A09-82EB-5E71CB9893A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at17.privet.ru/lr/0a0e3acbdc60ff4555feff8a23353c3f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Viktor_Gartman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npo.iro-rt.ru/files/images/photo3.jpg" TargetMode="External"/><Relationship Id="rId2" Type="http://schemas.openxmlformats.org/officeDocument/2006/relationships/hyperlink" Target="http://pnpo.iro-rt.ru/files/images/photo3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-trans.spb.ru/progulka-musorgskij-kartinki-s-vystavki.html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-2004-07.photosight.ru/25/562206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cor.edu.27.ru/dlrstore/9fe02615-03a1-3b63-5398-570e5e5dabbb/gnom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3280" y="404640"/>
            <a:ext cx="5976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усоргский -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iscover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63640" y="2491920"/>
            <a:ext cx="78962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    </a:t>
            </a:r>
            <a:r>
              <a:rPr b="1" i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«Картинки с выставки»</a:t>
            </a:r>
            <a:r>
              <a:rPr b="1" i="1" lang="ru-RU" sz="36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Модест Петрович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Мусоргский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Picture 17" descr="http://www.bgshop.ru/image.axd?id=9542685&amp;type=big&amp;goods=Audio&amp;theme=standart"/>
          <p:cNvPicPr/>
          <p:nvPr/>
        </p:nvPicPr>
        <p:blipFill>
          <a:blip r:embed="rId1"/>
          <a:stretch/>
        </p:blipFill>
        <p:spPr>
          <a:xfrm>
            <a:off x="5940360" y="3860640"/>
            <a:ext cx="2895840" cy="2811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1835280" y="4724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4669"/>
                </a:solidFill>
                <a:latin typeface="Times New Roman"/>
              </a:rPr>
              <a:t>Учитель музыки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4669"/>
                </a:solidFill>
                <a:latin typeface="Times New Roman"/>
              </a:rPr>
              <a:t>Горячева Т.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4669"/>
                </a:solidFill>
                <a:latin typeface="Times New Roman"/>
              </a:rPr>
              <a:t>ГБОУ СОШ № 47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4669"/>
                </a:solidFill>
                <a:latin typeface="Times New Roman"/>
              </a:rPr>
              <a:t>Калининский райо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4669"/>
                </a:solidFill>
                <a:latin typeface="Times New Roman"/>
              </a:rPr>
              <a:t>Санкт- Петербург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2" descr="dsc01373.jpg"/>
          <p:cNvPicPr/>
          <p:nvPr/>
        </p:nvPicPr>
        <p:blipFill>
          <a:blip r:embed="rId1"/>
          <a:stretch/>
        </p:blipFill>
        <p:spPr>
          <a:xfrm>
            <a:off x="1908000" y="476280"/>
            <a:ext cx="6048720" cy="49370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1979640" y="5732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ae0d"/>
                </a:solidFill>
                <a:latin typeface="Times New Roman"/>
              </a:rPr>
              <a:t>ЭКСПОЗИЦИЯ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Модест Петрович Мусоргский –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русский композитор 19 века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5" name="Picture 4" descr="Картинка 8 из 5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1840" y="1676520"/>
            <a:ext cx="4743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http://upload.wikimedia.org/wikipedia/commons/thumb/e/ea/Viktor_Gartman.jpg/150px-Viktor_Gartm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000160"/>
            <a:ext cx="3313080" cy="48578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1258920" y="404640"/>
            <a:ext cx="756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ae0d"/>
                </a:solidFill>
                <a:latin typeface="Times New Roman"/>
              </a:rPr>
              <a:t>Русский художник и архитектор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ae0d"/>
                </a:solidFill>
                <a:latin typeface="Times New Roman"/>
              </a:rPr>
              <a:t>Виктор  Гартма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cc66"/>
                </a:solidFill>
                <a:uFillTx/>
                <a:latin typeface="Times New Roman"/>
              </a:rPr>
              <a:t>Фортепианная сюита «Картинки с выставки»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Сюита – от французского    «последовательность, ряд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Это цикл пьес разных по характеру, но объединённых одним художественным замыслом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Средства музыкальной выразительности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71600" y="1413000"/>
            <a:ext cx="777240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Мелод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Рит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Темп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Динами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Темб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Ла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Увертюр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рограммная музы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cc66"/>
                </a:solidFill>
                <a:uFillTx/>
                <a:latin typeface="Times New Roman"/>
              </a:rPr>
              <a:t>Фортепианная сюита «Картинки с выставки»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Сюита  М Мусоргского  состоит из 10 пьес, каждая из них – это небольшая сценка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Скрепляет цикл 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пьеса-связка-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Прогулка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7082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Picture 6" descr="E:\case\Disk\13 Kartinki s vistavki\Image\Titulnii list I izdania.jpg"/>
          <p:cNvPicPr/>
          <p:nvPr/>
        </p:nvPicPr>
        <p:blipFill>
          <a:blip r:embed="rId1"/>
          <a:stretch/>
        </p:blipFill>
        <p:spPr>
          <a:xfrm>
            <a:off x="6084720" y="3068640"/>
            <a:ext cx="2703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ьеса-связка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Содержимое 3" descr="slide-8.jpg"/>
          <p:cNvPicPr/>
          <p:nvPr/>
        </p:nvPicPr>
        <p:blipFill>
          <a:blip r:embed="rId1"/>
          <a:stretch/>
        </p:blipFill>
        <p:spPr>
          <a:xfrm>
            <a:off x="1187280" y="765000"/>
            <a:ext cx="7616880" cy="5688360"/>
          </a:xfrm>
          <a:prstGeom prst="rect">
            <a:avLst/>
          </a:prstGeom>
          <a:ln w="0">
            <a:noFill/>
          </a:ln>
        </p:spPr>
      </p:pic>
      <p:pic>
        <p:nvPicPr>
          <p:cNvPr id="138" name="Прогулка.mp3" descr=""/>
          <p:cNvPicPr/>
          <p:nvPr/>
        </p:nvPicPr>
        <p:blipFill>
          <a:blip r:embed="rId2"/>
          <a:stretch/>
        </p:blipFill>
        <p:spPr>
          <a:xfrm>
            <a:off x="2124000" y="836640"/>
            <a:ext cx="8812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80896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Рисунок 3" descr="images.jpg"/>
          <p:cNvPicPr/>
          <p:nvPr/>
        </p:nvPicPr>
        <p:blipFill>
          <a:blip r:embed="rId1"/>
          <a:stretch/>
        </p:blipFill>
        <p:spPr>
          <a:xfrm>
            <a:off x="66600" y="0"/>
            <a:ext cx="907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хема 4" descr=""/>
          <p:cNvPicPr/>
          <p:nvPr/>
        </p:nvPicPr>
        <p:blipFill>
          <a:blip r:embed="rId1"/>
          <a:stretch/>
        </p:blipFill>
        <p:spPr>
          <a:xfrm>
            <a:off x="2481120" y="476280"/>
            <a:ext cx="5235840" cy="3241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1332000" y="414972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КОЛЮЧАЯ, ПЕСЕННАЯ, СТРЕМИТЕЛЬНАЯ, НАСТОРОЖЕННАЯ, ПОДВИЖНАЯ, БЕЗЗАБОТНАЯ, ЗЛАЯ, СКОРОГОВОРКА, СДЕРЖАННАЯ, ВЕЛИЧЕСТВЕННАЯ, НЕТОРОПЛИВАЯ, УМЕРЕНН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Гном.mp3" descr=""/>
          <p:cNvPicPr/>
          <p:nvPr/>
        </p:nvPicPr>
        <p:blipFill>
          <a:blip r:embed="rId2"/>
          <a:stretch/>
        </p:blipFill>
        <p:spPr>
          <a:xfrm>
            <a:off x="152280" y="386064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11697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1908000" y="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ae0d"/>
                </a:solidFill>
                <a:latin typeface="Times New Roman"/>
              </a:rPr>
              <a:t>ХАРАКТЕР МУЗЫКИ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Рисунок 3" descr="modiest-pietrovich-musorghskii-kartinki-s-vystavki_2.jpeg"/>
          <p:cNvPicPr/>
          <p:nvPr/>
        </p:nvPicPr>
        <p:blipFill>
          <a:blip r:embed="rId1"/>
          <a:stretch/>
        </p:blipFill>
        <p:spPr>
          <a:xfrm>
            <a:off x="971640" y="907920"/>
            <a:ext cx="82342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1932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Рисунок 3" descr="53030.jpg"/>
          <p:cNvPicPr/>
          <p:nvPr/>
        </p:nvPicPr>
        <p:blipFill>
          <a:blip r:embed="rId1"/>
          <a:stretch/>
        </p:blipFill>
        <p:spPr>
          <a:xfrm>
            <a:off x="1619280" y="765000"/>
            <a:ext cx="7099200" cy="5405760"/>
          </a:xfrm>
          <a:prstGeom prst="rect">
            <a:avLst/>
          </a:prstGeom>
          <a:ln w="0">
            <a:noFill/>
          </a:ln>
        </p:spPr>
      </p:pic>
      <p:pic>
        <p:nvPicPr>
          <p:cNvPr id="103" name="Три белых коня.mp3" descr=""/>
          <p:cNvPicPr/>
          <p:nvPr/>
        </p:nvPicPr>
        <p:blipFill>
          <a:blip r:embed="rId2"/>
          <a:stretch/>
        </p:blipFill>
        <p:spPr>
          <a:xfrm>
            <a:off x="250920" y="4292640"/>
            <a:ext cx="988920" cy="98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2675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0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Пьеса из  сюиты -</a:t>
            </a:r>
            <a:r>
              <a:rPr b="0" i="1" lang="ru-RU" sz="4000" spc="-1" strike="noStrike">
                <a:solidFill>
                  <a:srgbClr val="ffcc66"/>
                </a:solidFill>
                <a:latin typeface="Times New Roman"/>
              </a:rPr>
              <a:t>                   «ГНОМ»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Рисунок 4" descr="lesson-musorgsky-kartinki-s-vystavki-gnom.jpg"/>
          <p:cNvPicPr/>
          <p:nvPr/>
        </p:nvPicPr>
        <p:blipFill>
          <a:blip r:embed="rId1"/>
          <a:stretch/>
        </p:blipFill>
        <p:spPr>
          <a:xfrm>
            <a:off x="1332000" y="1125360"/>
            <a:ext cx="74167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2"/>
          <p:cNvSpPr/>
          <p:nvPr/>
        </p:nvSpPr>
        <p:spPr>
          <a:xfrm>
            <a:off x="1835280" y="1916280"/>
            <a:ext cx="66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ae0d"/>
                </a:solidFill>
                <a:latin typeface="Times New Roman"/>
              </a:rPr>
              <a:t>ЖЕРЕБЬЁВКА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Пьеса из  сюиты -                   «Избушка на курьих ножках»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Рисунок 4" descr="1379653582_04.jpg"/>
          <p:cNvPicPr/>
          <p:nvPr/>
        </p:nvPicPr>
        <p:blipFill>
          <a:blip r:embed="rId1"/>
          <a:stretch/>
        </p:blipFill>
        <p:spPr>
          <a:xfrm>
            <a:off x="1908000" y="1409760"/>
            <a:ext cx="6193080" cy="4898880"/>
          </a:xfrm>
          <a:prstGeom prst="rect">
            <a:avLst/>
          </a:prstGeom>
          <a:ln w="0">
            <a:noFill/>
          </a:ln>
        </p:spPr>
      </p:pic>
      <p:pic>
        <p:nvPicPr>
          <p:cNvPr id="151" name="Баба Яга.mp3" descr=""/>
          <p:cNvPicPr/>
          <p:nvPr/>
        </p:nvPicPr>
        <p:blipFill>
          <a:blip r:embed="rId2"/>
          <a:stretch/>
        </p:blipFill>
        <p:spPr>
          <a:xfrm>
            <a:off x="0" y="4365720"/>
            <a:ext cx="10256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8635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Пьеса из  сюиты -                   «СТАРЫЙ ЗАМОК»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Рисунок 4" descr="i_003.jpg"/>
          <p:cNvPicPr/>
          <p:nvPr/>
        </p:nvPicPr>
        <p:blipFill>
          <a:blip r:embed="rId1"/>
          <a:stretch/>
        </p:blipFill>
        <p:spPr>
          <a:xfrm>
            <a:off x="1795320" y="1700280"/>
            <a:ext cx="7348680" cy="4751280"/>
          </a:xfrm>
          <a:prstGeom prst="rect">
            <a:avLst/>
          </a:prstGeom>
          <a:ln w="0">
            <a:noFill/>
          </a:ln>
        </p:spPr>
      </p:pic>
      <p:pic>
        <p:nvPicPr>
          <p:cNvPr id="154" name="Старый замок.mp3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8809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83317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1835280" y="765000"/>
            <a:ext cx="662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aeaea"/>
                </a:solidFill>
                <a:latin typeface="Times New Roman"/>
              </a:rPr>
              <a:t>Представление  проекта 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7200" spc="-1" strike="noStrike">
                <a:solidFill>
                  <a:srgbClr val="eaeaea"/>
                </a:solidFill>
                <a:latin typeface="Times New Roman"/>
              </a:rPr>
              <a:t>«Мусоргский –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iscovery</a:t>
            </a:r>
            <a:r>
              <a:rPr b="1" lang="ru-RU" sz="7200" spc="-1" strike="noStrike">
                <a:solidFill>
                  <a:srgbClr val="eaeaea"/>
                </a:solidFill>
                <a:latin typeface="Times New Roman"/>
              </a:rPr>
              <a:t>»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7200" spc="-1" strike="noStrike">
                <a:solidFill>
                  <a:srgbClr val="eaeaea"/>
                </a:solidFill>
                <a:latin typeface="Times New Roman"/>
              </a:rPr>
              <a:t>командами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73136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         </a:t>
            </a: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РЕФЛЕКСИ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18960" y="9140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ак называется сюита по эскизам и картинкам В.А.Гартмана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«Картинки с выставки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акой композитор сочинил эту сюиту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М.П. Мусоргск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спомните название прослушанных пьес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Прогулка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«Гном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«Избушка на курьих ножках»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«Старый замок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Ваше настроение </a:t>
            </a:r>
            <a:br>
              <a:rPr sz="5400"/>
            </a:b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от урока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Rectangle 4">
            <a:hlinkClick r:id="rId1"/>
          </p:cNvPr>
          <p:cNvSpPr/>
          <p:nvPr/>
        </p:nvSpPr>
        <p:spPr>
          <a:xfrm>
            <a:off x="245268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i-main-pic" descr="Картинка 14 из 82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1905120"/>
            <a:ext cx="6629400" cy="4557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сылки на источники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1692360" y="2052000"/>
            <a:ext cx="6730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cc"/>
                </a:solidFill>
                <a:uFillTx/>
                <a:latin typeface="Calibri"/>
                <a:ea typeface="Calibri"/>
                <a:hlinkClick r:id="rId1"/>
              </a:rPr>
              <a:t>http://en-trans.spb.ru/progulka-musorgskij-kartinki-s-vystavki.htm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Calibri"/>
                <a:ea typeface="Calibri"/>
              </a:rPr>
              <a:t>https://www.google.ru/search?newwindow=1&amp;hl=ru&amp;tbm=isch&amp;source=hp&amp;biw=1600&amp;bih=1088&amp;ei=KFB0W8-4DYadkwWosJyQBw&amp;q=+картинки+с+выставки&amp;oq=+картинки+с+выставки&amp;gs_l=img.12..0l2j0i30k1l8.3713.8285.0.17883.19.13.0.6.6.0.156.1584.0j13.13.0....0...1ac.1.64.img..0.19.1620....0.1kNJiGl_U3Y#imgrc=jlLinnZZgIGbFM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Calibri"/>
                <a:ea typeface="Calibri"/>
              </a:rPr>
              <a:t>https://ipleer.fm/artist/1469528-M_Musorgskij_Kartinki_S_Vystavki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Calibri"/>
                <a:ea typeface="Calibri"/>
              </a:rPr>
              <a:t>https://ipleer.fm/q/красивые+песни+про+дружбу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Calibri"/>
                <a:ea typeface="Calibri"/>
              </a:rPr>
              <a:t>https://ipleer.fm/q/кф+чародеи+три+белых+коня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Calibri"/>
                <a:ea typeface="Calibri"/>
              </a:rPr>
              <a:t>https://ipleer.fm/q/песни+из+фильма+волк+и+семеро+козлят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Calibri"/>
                <a:ea typeface="Calibri"/>
              </a:rPr>
              <a:t>https://ipleer.fm/q/раз+морозною+зимой+вдоль+опушки+лесной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solidFill>
            <a:srgbClr val="b8466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1908000" y="2060640"/>
            <a:ext cx="64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b37700"/>
                </a:solidFill>
                <a:latin typeface="Times New Roman"/>
              </a:rPr>
              <a:t>СПАСИБО   ВСЕМ  КОМАНДАМ !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21932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Picture 4" descr="http://stat17.privet.ru/lr/09235eff511efafdaa8556555ef77647"/>
          <p:cNvPicPr/>
          <p:nvPr/>
        </p:nvPicPr>
        <p:blipFill>
          <a:blip r:embed="rId1"/>
          <a:stretch/>
        </p:blipFill>
        <p:spPr>
          <a:xfrm>
            <a:off x="1447920" y="762120"/>
            <a:ext cx="7315200" cy="5257800"/>
          </a:xfrm>
          <a:prstGeom prst="rect">
            <a:avLst/>
          </a:prstGeom>
          <a:ln w="0">
            <a:noFill/>
          </a:ln>
        </p:spPr>
      </p:pic>
      <p:pic>
        <p:nvPicPr>
          <p:cNvPr id="106" name="Песня о дружбе.mp3" descr=""/>
          <p:cNvPicPr/>
          <p:nvPr/>
        </p:nvPicPr>
        <p:blipFill>
          <a:blip r:embed="rId2"/>
          <a:stretch/>
        </p:blipFill>
        <p:spPr>
          <a:xfrm>
            <a:off x="0" y="4292640"/>
            <a:ext cx="1521000" cy="1520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543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1932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Рисунок 3" descr="maxresdefault.jpg"/>
          <p:cNvPicPr/>
          <p:nvPr/>
        </p:nvPicPr>
        <p:blipFill>
          <a:blip r:embed="rId2"/>
          <a:stretch/>
        </p:blipFill>
        <p:spPr>
          <a:xfrm>
            <a:off x="1476360" y="404640"/>
            <a:ext cx="7272360" cy="5761080"/>
          </a:xfrm>
          <a:prstGeom prst="rect">
            <a:avLst/>
          </a:prstGeom>
          <a:ln w="0">
            <a:noFill/>
          </a:ln>
        </p:spPr>
      </p:pic>
      <p:pic>
        <p:nvPicPr>
          <p:cNvPr id="109" name="Раз морозною зимой.mp3" descr=""/>
          <p:cNvPicPr/>
          <p:nvPr/>
        </p:nvPicPr>
        <p:blipFill>
          <a:blip r:embed="rId3"/>
          <a:stretch/>
        </p:blipFill>
        <p:spPr>
          <a:xfrm>
            <a:off x="108000" y="4292640"/>
            <a:ext cx="1023840" cy="102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768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1932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Рисунок 3" descr="2__upload_iblock_061_0619ba6ce19dc56abd4e51410b75f9a1.jpg"/>
          <p:cNvPicPr/>
          <p:nvPr/>
        </p:nvPicPr>
        <p:blipFill>
          <a:blip r:embed="rId1"/>
          <a:stretch/>
        </p:blipFill>
        <p:spPr>
          <a:xfrm>
            <a:off x="1979640" y="519120"/>
            <a:ext cx="6629400" cy="5303880"/>
          </a:xfrm>
          <a:prstGeom prst="rect">
            <a:avLst/>
          </a:prstGeom>
          <a:ln w="0">
            <a:noFill/>
          </a:ln>
        </p:spPr>
      </p:pic>
      <p:pic>
        <p:nvPicPr>
          <p:cNvPr id="112" name="Мама!!!.mp3" descr=""/>
          <p:cNvPicPr/>
          <p:nvPr/>
        </p:nvPicPr>
        <p:blipFill>
          <a:blip r:embed="rId2"/>
          <a:stretch/>
        </p:blipFill>
        <p:spPr>
          <a:xfrm>
            <a:off x="0" y="4437000"/>
            <a:ext cx="1168560" cy="1168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9688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4"/>
          <p:cNvSpPr/>
          <p:nvPr/>
        </p:nvSpPr>
        <p:spPr>
          <a:xfrm>
            <a:off x="1332000" y="270828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00bf"/>
                </a:solidFill>
                <a:latin typeface="Times New Roman"/>
              </a:rPr>
              <a:t>РЕЗЕРВ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00bf"/>
                </a:solidFill>
                <a:latin typeface="Times New Roman"/>
              </a:rPr>
              <a:t>ЗАДА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268360" y="1916280"/>
            <a:ext cx="62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6600" spc="-1" strike="noStrike">
                <a:solidFill>
                  <a:srgbClr val="ffae0d"/>
                </a:solidFill>
                <a:latin typeface="Times New Roman"/>
              </a:rPr>
              <a:t>КРОССВОРД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2" descr="snimok_ekrana_2014-06-08_v_11.11.55_1402211543.png"/>
          <p:cNvPicPr/>
          <p:nvPr/>
        </p:nvPicPr>
        <p:blipFill>
          <a:blip r:embed="rId1"/>
          <a:stretch/>
        </p:blipFill>
        <p:spPr>
          <a:xfrm>
            <a:off x="-109440" y="0"/>
            <a:ext cx="950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66"/>
                </a:solidFill>
                <a:latin typeface="Times New Roman"/>
              </a:rPr>
              <a:t>Выставка картин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Picture 3" descr="http://upload.wikimedia.org/wikipedia/commons/thumb/9/9b/Hartmann_--_Plan_for_a_City_Gate.jpg/220px-Hartmann_--_Plan_for_a_City_Gate.jpg"/>
          <p:cNvPicPr/>
          <p:nvPr/>
        </p:nvPicPr>
        <p:blipFill>
          <a:blip r:embed="rId1"/>
          <a:stretch/>
        </p:blipFill>
        <p:spPr>
          <a:xfrm>
            <a:off x="1295280" y="762120"/>
            <a:ext cx="2208240" cy="266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www.purdue.edu/bands/news/images/070222Pictures.jpg"/>
          <p:cNvPicPr/>
          <p:nvPr/>
        </p:nvPicPr>
        <p:blipFill>
          <a:blip r:embed="rId2"/>
          <a:stretch/>
        </p:blipFill>
        <p:spPr>
          <a:xfrm>
            <a:off x="5029200" y="838080"/>
            <a:ext cx="2367000" cy="2971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E:\case\Disk\13 Kartinki s vistavki\Image\Izbushka.jpg"/>
          <p:cNvPicPr/>
          <p:nvPr/>
        </p:nvPicPr>
        <p:blipFill>
          <a:blip r:embed="rId3"/>
          <a:stretch/>
        </p:blipFill>
        <p:spPr>
          <a:xfrm>
            <a:off x="2362320" y="3505320"/>
            <a:ext cx="2593800" cy="3124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Картинка 1 из 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3886200"/>
            <a:ext cx="210996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2" descr="caption.jpg"/>
          <p:cNvPicPr/>
          <p:nvPr/>
        </p:nvPicPr>
        <p:blipFill>
          <a:blip r:embed="rId1"/>
          <a:stretch/>
        </p:blipFill>
        <p:spPr>
          <a:xfrm>
            <a:off x="1403280" y="260280"/>
            <a:ext cx="7380360" cy="635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ранюк</dc:creator>
  <dc:description/>
  <dc:language>en-US</dc:language>
  <cp:lastModifiedBy>admin</cp:lastModifiedBy>
  <dcterms:modified xsi:type="dcterms:W3CDTF">2022-04-03T18:01:00Z</dcterms:modified>
  <cp:revision>51</cp:revision>
  <dc:subject/>
  <dc:title>PowerPoint Presentation</dc:title>
</cp:coreProperties>
</file>