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16D-482E-4C24-9E3C-B96CE58C05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7B6-E940-4AC0-844F-A8D582EDC03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FB3-ACCE-491E-A525-7B3322A6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82E-75E5-47EF-B0E7-09B2485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7C3-B3CE-4604-BB98-E05BACF1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416-0327-4867-9AA1-9116BD49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D94F-8360-4413-8C46-D6EBA265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6D9-E0F5-48E2-9957-5F866F9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ED57-E289-4AC2-80E0-C3F37EA8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C7BE-4178-4034-87F8-7735544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51A0-7439-48E1-8485-5A34B98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3EC-F757-4ECB-AC68-728124C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9C9-6D01-4B04-B440-8F3CCD0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505-37E8-4725-9EC8-46C090B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E34E-73AB-496D-BFEF-01F317F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498-9314-4433-B3B5-F43C513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DC84-2171-463F-B403-572953C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4C25-C97C-46CB-858E-740AEA08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D70-AED7-4D58-91F3-7572F895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336-4D40-4125-9F50-71A0F64C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D87-67D9-476C-A263-243F4D50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ACD-8D69-428C-9375-E89BDF7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8D4-F5A3-4727-8FFE-B2A0F35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7D1-C378-4D1B-99D7-0BC3D93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BF7-3C26-4BCB-B232-F9F9C22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F7F-294F-444C-88FA-4A9AADE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59B-EEB1-419F-AF99-A4B183200F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E90-54D4-41EA-88CA-61554DF506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17.privet.ru/lr/0a0e3acbdc60ff4555feff8a23353c3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iktor_Gartma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npo.iro-rt.ru/files/images/photo3.jpg" TargetMode="External"/><Relationship Id="rId2" Type="http://schemas.openxmlformats.org/officeDocument/2006/relationships/hyperlink" Target="http://pnpo.iro-rt.ru/files/images/photo3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-trans.spb.ru/progulka-musorgskij-kartinki-s-vystavki.html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2004-07.photosight.ru/25/562206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cor.edu.27.ru/dlrstore/9fe02615-03a1-3b63-5398-570e5e5dabbb/gnom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3280" y="404640"/>
            <a:ext cx="59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усоргский -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iscover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640" y="2491920"/>
            <a:ext cx="78962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    </a:t>
            </a:r>
            <a:r>
              <a:rPr b="1" i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«Картинки с выставки»</a:t>
            </a:r>
            <a:r>
              <a:rPr b="1" i="1" lang="ru-RU" sz="36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Модест Петрович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Мусоргски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17" descr="http://www.bgshop.ru/image.axd?id=9542685&amp;type=big&amp;goods=Audio&amp;theme=standart"/>
          <p:cNvPicPr/>
          <p:nvPr/>
        </p:nvPicPr>
        <p:blipFill>
          <a:blip r:embed="rId1"/>
          <a:stretch/>
        </p:blipFill>
        <p:spPr>
          <a:xfrm>
            <a:off x="5940360" y="3860640"/>
            <a:ext cx="2895840" cy="2811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835280" y="4724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Учитель музы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Горячева Т.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ГБОУ СОШ № 4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Калининский райо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4669"/>
                </a:solidFill>
                <a:latin typeface="Times New Roman"/>
              </a:rPr>
              <a:t>Санкт- Петербур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dsc01373.jpg"/>
          <p:cNvPicPr/>
          <p:nvPr/>
        </p:nvPicPr>
        <p:blipFill>
          <a:blip r:embed="rId1"/>
          <a:stretch/>
        </p:blipFill>
        <p:spPr>
          <a:xfrm>
            <a:off x="1908000" y="476280"/>
            <a:ext cx="6048720" cy="4937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1979640" y="5732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ae0d"/>
                </a:solidFill>
                <a:latin typeface="Times New Roman"/>
              </a:rPr>
              <a:t>ЭКСПОЗИЦИЯ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Модест Петрович Мусоргский –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русский композитор 19 век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Picture 4" descr="Картинка 8 из 5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1676520"/>
            <a:ext cx="4743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http://upload.wikimedia.org/wikipedia/commons/thumb/e/ea/Viktor_Gartman.jpg/150px-Viktor_Gart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000160"/>
            <a:ext cx="3313080" cy="4857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1258920" y="40464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ae0d"/>
                </a:solidFill>
                <a:latin typeface="Times New Roman"/>
              </a:rPr>
              <a:t>Русский художник и архитектор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ae0d"/>
                </a:solidFill>
                <a:latin typeface="Times New Roman"/>
              </a:rPr>
              <a:t>Виктор  Гартма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Фортепианная сюита «Картинки с выставки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юита – от французского    «последовательность, ряд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Это цикл пьес разных по характеру, но объединённых одним художественным замысло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Средства музыкальной выразительност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141300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Мелод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Рит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Темп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инам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Темб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Ла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вертюр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рограммная музы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Фортепианная сюита «Картинки с выставки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юита  М Мусоргского  состоит из 10 пьес, каждая из них – это небольшая сценка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крепляет цикл 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ьеса-связка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Прогулка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708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6" descr="E:\case\Disk\13 Kartinki s vistavki\Image\Titulnii list I izdania.jpg"/>
          <p:cNvPicPr/>
          <p:nvPr/>
        </p:nvPicPr>
        <p:blipFill>
          <a:blip r:embed="rId1"/>
          <a:stretch/>
        </p:blipFill>
        <p:spPr>
          <a:xfrm>
            <a:off x="6084720" y="3068640"/>
            <a:ext cx="270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ьеса-связка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Содержимое 3" descr="slide-8.jpg"/>
          <p:cNvPicPr/>
          <p:nvPr/>
        </p:nvPicPr>
        <p:blipFill>
          <a:blip r:embed="rId1"/>
          <a:stretch/>
        </p:blipFill>
        <p:spPr>
          <a:xfrm>
            <a:off x="1187280" y="765000"/>
            <a:ext cx="7616880" cy="5688360"/>
          </a:xfrm>
          <a:prstGeom prst="rect">
            <a:avLst/>
          </a:prstGeom>
          <a:ln w="0">
            <a:noFill/>
          </a:ln>
        </p:spPr>
      </p:pic>
      <p:pic>
        <p:nvPicPr>
          <p:cNvPr id="138" name="Прогулка.mp3" descr=""/>
          <p:cNvPicPr/>
          <p:nvPr/>
        </p:nvPicPr>
        <p:blipFill>
          <a:blip r:embed="rId2"/>
          <a:stretch/>
        </p:blipFill>
        <p:spPr>
          <a:xfrm>
            <a:off x="2124000" y="836640"/>
            <a:ext cx="881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089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Рисунок 3" descr="images.jpg"/>
          <p:cNvPicPr/>
          <p:nvPr/>
        </p:nvPicPr>
        <p:blipFill>
          <a:blip r:embed="rId1"/>
          <a:stretch/>
        </p:blipFill>
        <p:spPr>
          <a:xfrm>
            <a:off x="6660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4" descr=""/>
          <p:cNvPicPr/>
          <p:nvPr/>
        </p:nvPicPr>
        <p:blipFill>
          <a:blip r:embed="rId1"/>
          <a:stretch/>
        </p:blipFill>
        <p:spPr>
          <a:xfrm>
            <a:off x="2481120" y="476280"/>
            <a:ext cx="5235840" cy="32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332000" y="41497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КОЛЮЧАЯ, ПЕСЕННАЯ, СТРЕМИТЕЛЬНАЯ, НАСТОРОЖЕННАЯ, ПОДВИЖНАЯ, БЕЗЗАБОТНАЯ, ЗЛАЯ, СКОРОГОВОРКА, СДЕРЖАННАЯ, ВЕЛИЧЕСТВЕННАЯ, НЕТОРОПЛИВАЯ, УМЕРЕНН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Гном.mp3" descr=""/>
          <p:cNvPicPr/>
          <p:nvPr/>
        </p:nvPicPr>
        <p:blipFill>
          <a:blip r:embed="rId2"/>
          <a:stretch/>
        </p:blipFill>
        <p:spPr>
          <a:xfrm>
            <a:off x="152280" y="386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1169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908000" y="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ae0d"/>
                </a:solidFill>
                <a:latin typeface="Times New Roman"/>
              </a:rPr>
              <a:t>ХАРАКТЕР МУЗЫКИ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Рисунок 3" descr="modiest-pietrovich-musorghskii-kartinki-s-vystavki_2.jpeg"/>
          <p:cNvPicPr/>
          <p:nvPr/>
        </p:nvPicPr>
        <p:blipFill>
          <a:blip r:embed="rId1"/>
          <a:stretch/>
        </p:blipFill>
        <p:spPr>
          <a:xfrm>
            <a:off x="971640" y="907920"/>
            <a:ext cx="8234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Рисунок 3" descr="53030.jpg"/>
          <p:cNvPicPr/>
          <p:nvPr/>
        </p:nvPicPr>
        <p:blipFill>
          <a:blip r:embed="rId1"/>
          <a:stretch/>
        </p:blipFill>
        <p:spPr>
          <a:xfrm>
            <a:off x="1619280" y="765000"/>
            <a:ext cx="7099200" cy="5405760"/>
          </a:xfrm>
          <a:prstGeom prst="rect">
            <a:avLst/>
          </a:prstGeom>
          <a:ln w="0">
            <a:noFill/>
          </a:ln>
        </p:spPr>
      </p:pic>
      <p:pic>
        <p:nvPicPr>
          <p:cNvPr id="103" name="Три белых коня.mp3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988920" cy="98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67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0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</a:t>
            </a:r>
            <a:r>
              <a:rPr b="0" i="1" lang="ru-RU" sz="4000" spc="-1" strike="noStrike">
                <a:solidFill>
                  <a:srgbClr val="ffcc66"/>
                </a:solidFill>
                <a:latin typeface="Times New Roman"/>
              </a:rPr>
              <a:t>                   «ГНОМ»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Рисунок 4" descr="lesson-musorgsky-kartinki-s-vystavki-gnom.jpg"/>
          <p:cNvPicPr/>
          <p:nvPr/>
        </p:nvPicPr>
        <p:blipFill>
          <a:blip r:embed="rId1"/>
          <a:stretch/>
        </p:blipFill>
        <p:spPr>
          <a:xfrm>
            <a:off x="1332000" y="1125360"/>
            <a:ext cx="7416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835280" y="1916280"/>
            <a:ext cx="66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ae0d"/>
                </a:solidFill>
                <a:latin typeface="Times New Roman"/>
              </a:rPr>
              <a:t>ЖЕРЕБЬЁВКА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                   «Избушка на курьих ножках»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Рисунок 4" descr="1379653582_04.jpg"/>
          <p:cNvPicPr/>
          <p:nvPr/>
        </p:nvPicPr>
        <p:blipFill>
          <a:blip r:embed="rId1"/>
          <a:stretch/>
        </p:blipFill>
        <p:spPr>
          <a:xfrm>
            <a:off x="1908000" y="1409760"/>
            <a:ext cx="6193080" cy="4898880"/>
          </a:xfrm>
          <a:prstGeom prst="rect">
            <a:avLst/>
          </a:prstGeom>
          <a:ln w="0">
            <a:noFill/>
          </a:ln>
        </p:spPr>
      </p:pic>
      <p:pic>
        <p:nvPicPr>
          <p:cNvPr id="151" name="Баба Яга.mp3" descr=""/>
          <p:cNvPicPr/>
          <p:nvPr/>
        </p:nvPicPr>
        <p:blipFill>
          <a:blip r:embed="rId2"/>
          <a:stretch/>
        </p:blipFill>
        <p:spPr>
          <a:xfrm>
            <a:off x="0" y="4365720"/>
            <a:ext cx="10256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8635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ьеса из  сюиты -                   «СТАРЫЙ ЗАМОК»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Рисунок 4" descr="i_003.jpg"/>
          <p:cNvPicPr/>
          <p:nvPr/>
        </p:nvPicPr>
        <p:blipFill>
          <a:blip r:embed="rId1"/>
          <a:stretch/>
        </p:blipFill>
        <p:spPr>
          <a:xfrm>
            <a:off x="1795320" y="1700280"/>
            <a:ext cx="7348680" cy="4751280"/>
          </a:xfrm>
          <a:prstGeom prst="rect">
            <a:avLst/>
          </a:prstGeom>
          <a:ln w="0">
            <a:noFill/>
          </a:ln>
        </p:spPr>
      </p:pic>
      <p:pic>
        <p:nvPicPr>
          <p:cNvPr id="154" name="Старый замок.mp3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8331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835280" y="765000"/>
            <a:ext cx="66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Представление  проекта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«Мусоргский –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iscovery</a:t>
            </a: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»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командами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73136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896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называется сюита по эскизам и картинкам В.А.Гартман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Картинки с выставк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ой композитор сочинил эту сюиту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.П. Мусоргск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спомните название прослушанных пьес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Прогулка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Гном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Избушка на курьих ножках»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«Старый замок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Ваше настроение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от урок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Rectangle 4">
            <a:hlinkClick r:id="rId1"/>
          </p:cNvPr>
          <p:cNvSpPr/>
          <p:nvPr/>
        </p:nvSpPr>
        <p:spPr>
          <a:xfrm>
            <a:off x="24526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i-main-pic" descr="Картинка 14 из 8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1905120"/>
            <a:ext cx="662940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сылки на источники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692360" y="2052000"/>
            <a:ext cx="6730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cc"/>
                </a:solidFill>
                <a:uFillTx/>
                <a:latin typeface="Calibri"/>
                <a:ea typeface="Calibri"/>
                <a:hlinkClick r:id="rId1"/>
              </a:rPr>
              <a:t>http://en-trans.spb.ru/progulka-musorgskij-kartinki-s-vystavki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www.google.ru/search?newwindow=1&amp;hl=ru&amp;tbm=isch&amp;source=hp&amp;biw=1600&amp;bih=1088&amp;ei=KFB0W8-4DYadkwWosJyQBw&amp;q=+картинки+с+выставки&amp;oq=+картинки+с+выставки&amp;gs_l=img.12..0l2j0i30k1l8.3713.8285.0.17883.19.13.0.6.6.0.156.1584.0j13.13.0....0...1ac.1.64.img..0.19.1620....0.1kNJiGl_U3Y#imgrc=jlLinnZZgIGbFM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artist/1469528-M_Musorgskij_Kartinki_S_Vystavki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красивые+песни+про+дружбу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кф+чародеи+три+белых+коня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песни+из+фильма+волк+и+семеро+козлят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Calibri"/>
                <a:ea typeface="Calibri"/>
              </a:rPr>
              <a:t>https://ipleer.fm/q/раз+морозною+зимой+вдоль+опушки+лесной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solidFill>
            <a:srgbClr val="b846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908000" y="206064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37700"/>
                </a:solidFill>
                <a:latin typeface="Times New Roman"/>
              </a:rPr>
              <a:t>СПАСИБО   ВСЕМ  КОМАНДАМ !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4" descr="http://stat17.privet.ru/lr/09235eff511efafdaa8556555ef77647"/>
          <p:cNvPicPr/>
          <p:nvPr/>
        </p:nvPicPr>
        <p:blipFill>
          <a:blip r:embed="rId1"/>
          <a:stretch/>
        </p:blipFill>
        <p:spPr>
          <a:xfrm>
            <a:off x="1447920" y="762120"/>
            <a:ext cx="73152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Песня о дружбе.mp3" descr=""/>
          <p:cNvPicPr/>
          <p:nvPr/>
        </p:nvPicPr>
        <p:blipFill>
          <a:blip r:embed="rId2"/>
          <a:stretch/>
        </p:blipFill>
        <p:spPr>
          <a:xfrm>
            <a:off x="0" y="4292640"/>
            <a:ext cx="1521000" cy="152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4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Рисунок 3" descr="maxresdefault.jpg"/>
          <p:cNvPicPr/>
          <p:nvPr/>
        </p:nvPicPr>
        <p:blipFill>
          <a:blip r:embed="rId2"/>
          <a:stretch/>
        </p:blipFill>
        <p:spPr>
          <a:xfrm>
            <a:off x="1476360" y="404640"/>
            <a:ext cx="7272360" cy="5761080"/>
          </a:xfrm>
          <a:prstGeom prst="rect">
            <a:avLst/>
          </a:prstGeom>
          <a:ln w="0">
            <a:noFill/>
          </a:ln>
        </p:spPr>
      </p:pic>
      <p:pic>
        <p:nvPicPr>
          <p:cNvPr id="109" name="Раз морозною зимой.mp3" descr=""/>
          <p:cNvPicPr/>
          <p:nvPr/>
        </p:nvPicPr>
        <p:blipFill>
          <a:blip r:embed="rId3"/>
          <a:stretch/>
        </p:blipFill>
        <p:spPr>
          <a:xfrm>
            <a:off x="108000" y="4292640"/>
            <a:ext cx="1023840" cy="102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68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Рисунок 3" descr="2__upload_iblock_061_0619ba6ce19dc56abd4e51410b75f9a1.jpg"/>
          <p:cNvPicPr/>
          <p:nvPr/>
        </p:nvPicPr>
        <p:blipFill>
          <a:blip r:embed="rId1"/>
          <a:stretch/>
        </p:blipFill>
        <p:spPr>
          <a:xfrm>
            <a:off x="1979640" y="519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112" name="Мама!!!.mp3" descr=""/>
          <p:cNvPicPr/>
          <p:nvPr/>
        </p:nvPicPr>
        <p:blipFill>
          <a:blip r:embed="rId2"/>
          <a:stretch/>
        </p:blipFill>
        <p:spPr>
          <a:xfrm>
            <a:off x="0" y="4437000"/>
            <a:ext cx="1168560" cy="1168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688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1332000" y="270828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bf"/>
                </a:solidFill>
                <a:latin typeface="Times New Roman"/>
              </a:rPr>
              <a:t>РЕЗЕР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bf"/>
                </a:solidFill>
                <a:latin typeface="Times New Roman"/>
              </a:rPr>
              <a:t>ЗАДА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268360" y="1916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ffae0d"/>
                </a:solidFill>
                <a:latin typeface="Times New Roman"/>
              </a:rPr>
              <a:t>КРОССВОРД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" descr="snimok_ekrana_2014-06-08_v_11.11.55_1402211543.png"/>
          <p:cNvPicPr/>
          <p:nvPr/>
        </p:nvPicPr>
        <p:blipFill>
          <a:blip r:embed="rId1"/>
          <a:stretch/>
        </p:blipFill>
        <p:spPr>
          <a:xfrm>
            <a:off x="-10944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Times New Roman"/>
              </a:rPr>
              <a:t>Выставка картин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3" descr="http://upload.wikimedia.org/wikipedia/commons/thumb/9/9b/Hartmann_--_Plan_for_a_City_Gate.jpg/220px-Hartmann_--_Plan_for_a_City_Gate.jpg"/>
          <p:cNvPicPr/>
          <p:nvPr/>
        </p:nvPicPr>
        <p:blipFill>
          <a:blip r:embed="rId1"/>
          <a:stretch/>
        </p:blipFill>
        <p:spPr>
          <a:xfrm>
            <a:off x="1295280" y="762120"/>
            <a:ext cx="22082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purdue.edu/bands/news/images/070222Pictures.jpg"/>
          <p:cNvPicPr/>
          <p:nvPr/>
        </p:nvPicPr>
        <p:blipFill>
          <a:blip r:embed="rId2"/>
          <a:stretch/>
        </p:blipFill>
        <p:spPr>
          <a:xfrm>
            <a:off x="5029200" y="838080"/>
            <a:ext cx="2367000" cy="297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E:\case\Disk\13 Kartinki s vistavki\Image\Izbushka.jpg"/>
          <p:cNvPicPr/>
          <p:nvPr/>
        </p:nvPicPr>
        <p:blipFill>
          <a:blip r:embed="rId3"/>
          <a:stretch/>
        </p:blipFill>
        <p:spPr>
          <a:xfrm>
            <a:off x="2362320" y="3505320"/>
            <a:ext cx="259380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Картинка 1 из 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3886200"/>
            <a:ext cx="210996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caption.jpg"/>
          <p:cNvPicPr/>
          <p:nvPr/>
        </p:nvPicPr>
        <p:blipFill>
          <a:blip r:embed="rId1"/>
          <a:stretch/>
        </p:blipFill>
        <p:spPr>
          <a:xfrm>
            <a:off x="1403280" y="260280"/>
            <a:ext cx="73803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ранюк</dc:creator>
  <dc:description/>
  <dc:language>en-US</dc:language>
  <cp:lastModifiedBy>admin</cp:lastModifiedBy>
  <dcterms:modified xsi:type="dcterms:W3CDTF">2022-04-03T18:01:00Z</dcterms:modified>
  <cp:revision>51</cp:revision>
  <dc:subject/>
  <dc:title>PowerPoint Presentation</dc:title>
</cp:coreProperties>
</file>