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wind.wav" ContentType="audio/x-wav"/>
  <Override PartName="/ppt/media/chimes.wav" ContentType="audio/x-wav"/>
  <Override PartName="/ppt/media/image12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image1.wmf" ContentType="image/x-wmf"/>
  <Override PartName="/ppt/media/image2.png" ContentType="image/png"/>
  <Override PartName="/ppt/media/image8.png" ContentType="image/png"/>
  <Override PartName="/ppt/media/image3.png" ContentType="image/png"/>
  <Override PartName="/ppt/media/image4.png" ContentType="image/png"/>
  <Override PartName="/ppt/media/type.wav" ContentType="audio/x-wav"/>
  <Override PartName="/ppt/media/image5.png" ContentType="image/png"/>
  <Override PartName="/ppt/media/image10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5B5C-F4D7-4A2E-8DD4-DF53E93D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2319-B8CE-4243-8B00-6ADDEB27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2395-E320-47B2-90B8-FACB07F4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5A16-529C-470F-AECB-1A64064C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C4C5-046E-413C-9BCA-3D4ADA15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3A2A-EAF8-4EED-8DFB-A05C3CB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A40-0F5E-4708-B282-309A1EE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A664-F9C5-4742-BBB6-5912185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ECAE-FB5B-47C7-83C3-30F73F3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5FCE-54D4-4782-B185-C2DA296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0F1F-89C1-4FE9-AAB1-78D88FD1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3622-5BF0-45DE-A215-FC44EF2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5BD-F929-4D7B-AC4D-BD8DC4CF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C7E7-5EB3-47C7-ACA2-5398E69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625-9436-4772-AE73-7C4741B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CCE9-515F-4107-AB22-465703E7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675-C948-469A-886A-DAB0D89B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26CB-8E30-4CA4-8502-420E8889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814A-0C79-4A4C-8CF6-4CADC7E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C333-903B-466A-B31B-BA7B81DF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DA22-DC86-40A0-BD8B-F0394000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1A4C-A06E-40AC-BA1B-5F0E855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3B76-9D3C-4D24-BA18-B13CFE8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E050-D04E-404A-BB3C-5E249A9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6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F55-1B2B-467A-88F4-1BB1338BBA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6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81C-FE3F-432B-BD50-95C309EFE1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9480" y="1341360"/>
            <a:ext cx="594648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Урок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733840" y="2997360"/>
            <a:ext cx="505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0" y="422100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Что ты знаешь о словах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764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А я придумал сло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ростое слово «плим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Вот прыгает и скач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лим, плим, пл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И ничего не знач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– 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плим, плим, пл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395000" y="5300640"/>
            <a:ext cx="60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Bookman Old Style"/>
              </a:rPr>
              <a:t>«Плим» </a:t>
            </a:r>
            <a:r>
              <a:rPr b="0" lang="ru-RU" sz="4800" spc="-1" strike="noStrike">
                <a:solidFill>
                  <a:srgbClr val="2e1500"/>
                </a:solidFill>
                <a:latin typeface="Bookman Old Style"/>
              </a:rPr>
              <a:t>- это слово</a:t>
            </a:r>
            <a:r>
              <a:rPr b="0" lang="en-US" sz="4800" spc="-1" strike="noStrike">
                <a:solidFill>
                  <a:srgbClr val="2e1500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539640" y="1125360"/>
            <a:ext cx="79930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Picture 6" descr="school_clipart_student_blackboard"/>
          <p:cNvPicPr/>
          <p:nvPr/>
        </p:nvPicPr>
        <p:blipFill>
          <a:blip r:embed="rId1"/>
          <a:stretch/>
        </p:blipFill>
        <p:spPr>
          <a:xfrm>
            <a:off x="6551640" y="324972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3300"/>
            </a:outerShdw>
          </a:effectLst>
        </p:spPr>
      </p:pic>
      <p:sp>
        <p:nvSpPr>
          <p:cNvPr id="155" name="Text Box 7"/>
          <p:cNvSpPr/>
          <p:nvPr/>
        </p:nvSpPr>
        <p:spPr>
          <a:xfrm>
            <a:off x="611280" y="2708280"/>
            <a:ext cx="532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Решите орфографические зада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3860640"/>
            <a:ext cx="547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Если выполните верно, то сможете прочесть сло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9640" y="5084640"/>
            <a:ext cx="48243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Из данных слов составим мудрое изр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-655560" y="552600"/>
            <a:ext cx="99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00"/>
                </a:solidFill>
                <a:latin typeface="Monotype Corsiva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C:\Users\1\AppData\Local\Microsoft\Windows\Temporary Internet Files\Content.IE5\DQOX0W1W\MCj04338560000[1].png"/>
          <p:cNvPicPr/>
          <p:nvPr/>
        </p:nvPicPr>
        <p:blipFill>
          <a:blip r:embed="rId1"/>
          <a:stretch/>
        </p:blipFill>
        <p:spPr>
          <a:xfrm>
            <a:off x="565200" y="1876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1214280" y="3214800"/>
            <a:ext cx="75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66"/>
                </a:solidFill>
                <a:latin typeface="Monotype Corsiva"/>
                <a:ea typeface="Arial"/>
              </a:rPr>
              <a:t>Упр.55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1" descr=""/>
          <p:cNvPicPr/>
          <p:nvPr/>
        </p:nvPicPr>
        <p:blipFill>
          <a:blip r:embed="rId2"/>
          <a:stretch/>
        </p:blipFill>
        <p:spPr>
          <a:xfrm>
            <a:off x="2987640" y="457200"/>
            <a:ext cx="65278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9933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Давайте  подума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292428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SCHOOL2"/>
          <p:cNvPicPr/>
          <p:nvPr/>
        </p:nvPicPr>
        <p:blipFill>
          <a:blip r:embed="rId1"/>
          <a:stretch/>
        </p:blipFill>
        <p:spPr>
          <a:xfrm>
            <a:off x="1619280" y="4292640"/>
            <a:ext cx="1800360" cy="1873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0"/>
          <p:cNvSpPr/>
          <p:nvPr/>
        </p:nvSpPr>
        <p:spPr>
          <a:xfrm>
            <a:off x="395280" y="1335240"/>
            <a:ext cx="68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Море, моря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морской, мореплава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"/>
          <p:cNvPicPr/>
          <p:nvPr/>
        </p:nvPicPr>
        <p:blipFill>
          <a:blip r:embed="rId2"/>
          <a:stretch/>
        </p:blipFill>
        <p:spPr>
          <a:xfrm>
            <a:off x="7380360" y="981000"/>
            <a:ext cx="1512720" cy="22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7" name="Picture 10" descr="c073891д49cf72"/>
          <p:cNvPicPr/>
          <p:nvPr/>
        </p:nvPicPr>
        <p:blipFill>
          <a:blip r:embed="rId1"/>
          <a:stretch/>
        </p:blipFill>
        <p:spPr>
          <a:xfrm>
            <a:off x="6804000" y="3573360"/>
            <a:ext cx="1906560" cy="306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377f0857764b"/>
          <p:cNvPicPr/>
          <p:nvPr/>
        </p:nvPicPr>
        <p:blipFill>
          <a:blip r:embed="rId2"/>
          <a:stretch/>
        </p:blipFill>
        <p:spPr>
          <a:xfrm>
            <a:off x="184320" y="299880"/>
            <a:ext cx="1939680" cy="1949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019920" cy="40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__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227640" y="1341360"/>
            <a:ext cx="720720" cy="50508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216480" y="215748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6216480" y="285264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6227640" y="3641760"/>
            <a:ext cx="72072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90680" y="364464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689640" y="23058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О_____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Arial"/>
              </a:rPr>
              <a:t>_____Е______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"/>
          <p:cNvSpPr/>
          <p:nvPr/>
        </p:nvSpPr>
        <p:spPr>
          <a:xfrm flipV="1">
            <a:off x="1476360" y="2152440"/>
            <a:ext cx="1440" cy="268200"/>
          </a:xfrm>
          <a:prstGeom prst="line">
            <a:avLst/>
          </a:prstGeom>
          <a:ln w="9360">
            <a:solidFill>
              <a:srgbClr val="fcc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>
            <a:off x="3564000" y="2421000"/>
            <a:ext cx="0" cy="0"/>
          </a:xfrm>
          <a:prstGeom prst="line">
            <a:avLst/>
          </a:prstGeom>
          <a:ln w="9360">
            <a:solidFill>
              <a:srgbClr val="fcc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1 вариант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99"/>
                </a:solidFill>
                <a:latin typeface="Times New Roman"/>
              </a:rPr>
              <a:t>Низкие тучи плывут по неб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83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2 вариант: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Последняя листва шелестит на ветках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аблица-дом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256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539640" y="620640"/>
            <a:ext cx="7993080" cy="609840"/>
          </a:xfrm>
          <a:custGeom>
            <a:avLst/>
            <a:gdLst>
              <a:gd name="textAreaLeft" fmla="*/ 1998360 w 7993080"/>
              <a:gd name="textAreaRight" fmla="*/ 5995080 w 79930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Угадай сло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11280" y="1989000"/>
            <a:ext cx="122400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О Л К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124000" y="1989000"/>
            <a:ext cx="136836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580000" y="1989000"/>
            <a:ext cx="151308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08360" y="1989000"/>
            <a:ext cx="158436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Т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08360" y="2133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308720" y="1989000"/>
            <a:ext cx="1224000" cy="64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4287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84360" y="35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95640" y="3573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3851280" y="35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5796000" y="35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524720" y="3645000"/>
            <a:ext cx="10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7380360" y="3573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26:02Z</dcterms:created>
  <dc:creator>Klass_3-4</dc:creator>
  <dc:description/>
  <dc:language>en-US</dc:language>
  <cp:lastModifiedBy>Ирина</cp:lastModifiedBy>
  <dcterms:modified xsi:type="dcterms:W3CDTF">2015-04-21T19:21:04Z</dcterms:modified>
  <cp:revision>61</cp:revision>
  <dc:subject/>
  <dc:title>Имя числительное</dc:title>
</cp:coreProperties>
</file>