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wind.wav" ContentType="audio/x-wav"/>
  <Override PartName="/ppt/media/chimes.wav" ContentType="audio/x-wav"/>
  <Override PartName="/ppt/media/image12.png" ContentType="image/png"/>
  <Override PartName="/ppt/media/image11.png" ContentType="image/png"/>
  <Override PartName="/ppt/media/camera.wav" ContentType="audio/x-wav"/>
  <Override PartName="/ppt/media/image6.png" ContentType="image/png"/>
  <Override PartName="/ppt/media/image1.wmf" ContentType="image/x-wmf"/>
  <Override PartName="/ppt/media/image2.png" ContentType="image/png"/>
  <Override PartName="/ppt/media/image8.png" ContentType="image/png"/>
  <Override PartName="/ppt/media/image3.png" ContentType="image/png"/>
  <Override PartName="/ppt/media/image4.png" ContentType="image/png"/>
  <Override PartName="/ppt/media/type.wav" ContentType="audio/x-wav"/>
  <Override PartName="/ppt/media/image5.png" ContentType="image/png"/>
  <Override PartName="/ppt/media/image10.png" ContentType="image/pn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43CF-7650-457D-A462-43270112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EF99-50F7-4B91-8E34-22AC5E0B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89F1-9411-4760-B72B-2426C775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28D7-65BB-4BE1-8CD4-F2AC62B4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5588-6B05-4CAF-96E7-04D27EC6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B023-7D58-4FAD-9575-BC98ED50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86A8-A8AD-427A-B35C-288F9567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7387-48E9-4139-9670-E55068A0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2E42-3C97-4709-BB66-2195FD09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6265-EA81-4D70-B1AB-0AD887F9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7611-5953-476F-879A-E709B993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826A-CA95-4A42-8714-E189F474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5CC9-C3B7-4FB4-A766-423BAB25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AF9F-2549-4384-BAF8-8F12FA2C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5328-EA9E-4390-B12B-A4A7CAC5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51E3-5A09-413F-B430-6ED0CB1E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973F-694F-48F3-9A49-2FF59C6C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2D20-369E-47B2-A1F1-EC01472E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EF7ED-50D9-4848-82C7-1D2FED7F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579A2-C020-4064-8F2D-5783E757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DD9D-6BB5-4B14-B056-F609036A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4312-B5E4-43F6-A698-6527678E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1D31-FB37-4343-AD6E-B46B8697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98A35-70D3-48D1-AF88-60A55A2D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c6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13A5-BDFC-4639-AC0D-0D7520645D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c6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8936-AE8A-4A10-A356-2E0BECA0DD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19480" y="1341360"/>
            <a:ext cx="5946480" cy="20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Урок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русск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2733840" y="2997360"/>
            <a:ext cx="505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0"/>
                </a:solidFill>
                <a:latin typeface="Calibri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0" y="422100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</a:rPr>
              <a:t>Что ты знаешь о словах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76360" y="764640"/>
            <a:ext cx="6840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А я придумал слов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простое слово «плим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Вот прыгает и скач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плим, плим, пл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И ничего не знач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– </a:t>
            </a: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плим, плим, пл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395000" y="5300640"/>
            <a:ext cx="60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Bookman Old Style"/>
              </a:rPr>
              <a:t>«Плим» </a:t>
            </a:r>
            <a:r>
              <a:rPr b="0" lang="ru-RU" sz="4800" spc="-1" strike="noStrike">
                <a:solidFill>
                  <a:srgbClr val="2e1500"/>
                </a:solidFill>
                <a:latin typeface="Bookman Old Style"/>
              </a:rPr>
              <a:t>- это слово</a:t>
            </a:r>
            <a:r>
              <a:rPr b="0" lang="en-US" sz="4800" spc="-1" strike="noStrike">
                <a:solidFill>
                  <a:srgbClr val="2e1500"/>
                </a:solidFill>
                <a:latin typeface="Bookman Old Style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539640" y="1125360"/>
            <a:ext cx="79930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стоятельная работа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4" name="Picture 6" descr="school_clipart_student_blackboard"/>
          <p:cNvPicPr/>
          <p:nvPr/>
        </p:nvPicPr>
        <p:blipFill>
          <a:blip r:embed="rId1"/>
          <a:stretch/>
        </p:blipFill>
        <p:spPr>
          <a:xfrm>
            <a:off x="6551640" y="3249720"/>
            <a:ext cx="2184480" cy="2914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3300"/>
            </a:outerShdw>
          </a:effectLst>
        </p:spPr>
      </p:pic>
      <p:sp>
        <p:nvSpPr>
          <p:cNvPr id="155" name="Text Box 7"/>
          <p:cNvSpPr/>
          <p:nvPr/>
        </p:nvSpPr>
        <p:spPr>
          <a:xfrm>
            <a:off x="611280" y="2708280"/>
            <a:ext cx="532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Times New Roman"/>
              </a:rPr>
              <a:t>Решите орфографические зада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39640" y="3860640"/>
            <a:ext cx="547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Times New Roman"/>
              </a:rPr>
              <a:t>Если выполните верно, то сможете прочесть сло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39640" y="5084640"/>
            <a:ext cx="48243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Times New Roman"/>
              </a:rPr>
              <a:t>Из данных слов составим мудрое изре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-655560" y="552600"/>
            <a:ext cx="999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990000"/>
                </a:solidFill>
                <a:latin typeface="Monotype Corsiva"/>
              </a:rPr>
              <a:t>Домашнее зад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C:\Users\1\AppData\Local\Microsoft\Windows\Temporary Internet Files\Content.IE5\DQOX0W1W\MCj04338560000[1].png"/>
          <p:cNvPicPr/>
          <p:nvPr/>
        </p:nvPicPr>
        <p:blipFill>
          <a:blip r:embed="rId1"/>
          <a:stretch/>
        </p:blipFill>
        <p:spPr>
          <a:xfrm>
            <a:off x="565200" y="18763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1214280" y="3214800"/>
            <a:ext cx="75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66"/>
                </a:solidFill>
                <a:latin typeface="Monotype Corsiva"/>
                <a:ea typeface="Arial"/>
              </a:rPr>
              <a:t>Упр.55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pic>
        <p:nvPicPr>
          <p:cNvPr id="165" name="Заголовок 1" descr=""/>
          <p:cNvPicPr/>
          <p:nvPr/>
        </p:nvPicPr>
        <p:blipFill>
          <a:blip r:embed="rId2"/>
          <a:stretch/>
        </p:blipFill>
        <p:spPr>
          <a:xfrm>
            <a:off x="2987640" y="457200"/>
            <a:ext cx="652788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>
              <a:solidFill>
                <a:srgbClr val="9933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Times New Roman"/>
              </a:rPr>
              <a:t>Давайте  подумае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2924280"/>
            <a:ext cx="91440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5" descr="SCHOOL2"/>
          <p:cNvPicPr/>
          <p:nvPr/>
        </p:nvPicPr>
        <p:blipFill>
          <a:blip r:embed="rId1"/>
          <a:stretch/>
        </p:blipFill>
        <p:spPr>
          <a:xfrm>
            <a:off x="1619280" y="4292640"/>
            <a:ext cx="1800360" cy="1873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0"/>
          <p:cNvSpPr/>
          <p:nvPr/>
        </p:nvSpPr>
        <p:spPr>
          <a:xfrm>
            <a:off x="395280" y="1335240"/>
            <a:ext cx="68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Море, моряк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морской, мореплава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0" descr=""/>
          <p:cNvPicPr/>
          <p:nvPr/>
        </p:nvPicPr>
        <p:blipFill>
          <a:blip r:embed="rId2"/>
          <a:stretch/>
        </p:blipFill>
        <p:spPr>
          <a:xfrm>
            <a:off x="7380360" y="981000"/>
            <a:ext cx="1512720" cy="222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468360" y="333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17" name="Picture 10" descr="c073891д49cf72"/>
          <p:cNvPicPr/>
          <p:nvPr/>
        </p:nvPicPr>
        <p:blipFill>
          <a:blip r:embed="rId1"/>
          <a:stretch/>
        </p:blipFill>
        <p:spPr>
          <a:xfrm>
            <a:off x="6804000" y="3573360"/>
            <a:ext cx="1906560" cy="3068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377f0857764b"/>
          <p:cNvPicPr/>
          <p:nvPr/>
        </p:nvPicPr>
        <p:blipFill>
          <a:blip r:embed="rId2"/>
          <a:stretch/>
        </p:blipFill>
        <p:spPr>
          <a:xfrm>
            <a:off x="184320" y="299880"/>
            <a:ext cx="1939680" cy="1949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6019920" cy="40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Arial"/>
              </a:rPr>
              <a:t>_______</a:t>
            </a:r>
            <a:br>
              <a:rPr sz="5000"/>
            </a:br>
            <a:r>
              <a:rPr b="0" lang="ru-RU" sz="5000" spc="-1" strike="noStrike">
                <a:solidFill>
                  <a:srgbClr val="c00000"/>
                </a:solidFill>
                <a:latin typeface="Arial"/>
              </a:rPr>
              <a:t>_______</a:t>
            </a:r>
            <a:br>
              <a:rPr sz="5000"/>
            </a:br>
            <a:r>
              <a:rPr b="0" lang="ru-RU" sz="5000" spc="-1" strike="noStrike">
                <a:solidFill>
                  <a:srgbClr val="c00000"/>
                </a:solidFill>
                <a:latin typeface="Arial"/>
              </a:rPr>
              <a:t>_______</a:t>
            </a:r>
            <a:br>
              <a:rPr sz="5000"/>
            </a:br>
            <a:r>
              <a:rPr b="0" lang="ru-RU" sz="5000" spc="-1" strike="noStrike">
                <a:solidFill>
                  <a:srgbClr val="c00000"/>
                </a:solidFill>
                <a:latin typeface="Arial"/>
              </a:rPr>
              <a:t>_______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6227640" y="1341360"/>
            <a:ext cx="720720" cy="505080"/>
          </a:xfrm>
          <a:prstGeom prst="rect">
            <a:avLst/>
          </a:prstGeom>
          <a:solidFill>
            <a:srgbClr val="ffcc99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6216480" y="2157480"/>
            <a:ext cx="720720" cy="457200"/>
          </a:xfrm>
          <a:prstGeom prst="rect">
            <a:avLst/>
          </a:prstGeom>
          <a:solidFill>
            <a:srgbClr val="ffcc99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6216480" y="2852640"/>
            <a:ext cx="720720" cy="457200"/>
          </a:xfrm>
          <a:prstGeom prst="rect">
            <a:avLst/>
          </a:prstGeom>
          <a:solidFill>
            <a:srgbClr val="ffcc99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6227640" y="3641760"/>
            <a:ext cx="720720" cy="457200"/>
          </a:xfrm>
          <a:prstGeom prst="rect">
            <a:avLst/>
          </a:prstGeom>
          <a:solidFill>
            <a:srgbClr val="ffcc99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90680" y="364464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689640" y="230580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1640" y="177336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Arial"/>
              </a:rPr>
              <a:t>_____О_____</a:t>
            </a: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c00000"/>
                </a:solidFill>
                <a:latin typeface="Arial"/>
              </a:rPr>
              <a:t>_____Е______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3"/>
          <p:cNvSpPr/>
          <p:nvPr/>
        </p:nvSpPr>
        <p:spPr>
          <a:xfrm flipV="1">
            <a:off x="1476360" y="2152440"/>
            <a:ext cx="1440" cy="268200"/>
          </a:xfrm>
          <a:prstGeom prst="line">
            <a:avLst/>
          </a:prstGeom>
          <a:ln w="9360">
            <a:solidFill>
              <a:srgbClr val="fcc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1"/>
          <p:cNvSpPr/>
          <p:nvPr/>
        </p:nvSpPr>
        <p:spPr>
          <a:xfrm>
            <a:off x="3564000" y="2421000"/>
            <a:ext cx="0" cy="0"/>
          </a:xfrm>
          <a:prstGeom prst="line">
            <a:avLst/>
          </a:prstGeom>
          <a:ln w="9360">
            <a:solidFill>
              <a:srgbClr val="fcc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</a:rPr>
              <a:t>1 вариант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3399"/>
                </a:solidFill>
                <a:latin typeface="Times New Roman"/>
              </a:rPr>
              <a:t>Низкие тучи плывут по неб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animClr clrSpc="rgb">
                                      <p:cBhvr>
                                        <p:cTn id="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83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animClr clrSpc="rgb">
                                      <p:cBhvr>
                                        <p:cTn id="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89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Times New Roman"/>
              </a:rPr>
              <a:t>2 вариант:</a:t>
            </a:r>
            <a:br>
              <a:rPr sz="8000"/>
            </a:br>
            <a:r>
              <a:rPr b="0" lang="ru-RU" sz="8000" spc="-1" strike="noStrike">
                <a:solidFill>
                  <a:srgbClr val="0000ff"/>
                </a:solidFill>
                <a:latin typeface="Times New Roman"/>
              </a:rPr>
              <a:t>Последняя листва шелестит на ветках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таблица-дом"/>
          <p:cNvPicPr/>
          <p:nvPr/>
        </p:nvPicPr>
        <p:blipFill>
          <a:blip r:embed="rId1"/>
          <a:stretch/>
        </p:blipFill>
        <p:spPr>
          <a:xfrm>
            <a:off x="324000" y="549360"/>
            <a:ext cx="8424720" cy="5256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539640" y="620640"/>
            <a:ext cx="7993080" cy="609840"/>
          </a:xfrm>
          <a:custGeom>
            <a:avLst/>
            <a:gdLst>
              <a:gd name="textAreaLeft" fmla="*/ 1998360 w 7993080"/>
              <a:gd name="textAreaRight" fmla="*/ 5995080 w 799308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Угадай сло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11280" y="1989000"/>
            <a:ext cx="1224000" cy="64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О Л К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124000" y="1989000"/>
            <a:ext cx="1368360" cy="64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 Ч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580000" y="1989000"/>
            <a:ext cx="1513080" cy="64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 Н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708360" y="1989000"/>
            <a:ext cx="1584360" cy="64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 Т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708360" y="2133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7308720" y="1989000"/>
            <a:ext cx="1224000" cy="64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С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42879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684360" y="357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95640" y="3573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3851280" y="3573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5796000" y="3573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я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7524720" y="3645000"/>
            <a:ext cx="1079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7380360" y="3573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7:26:02Z</dcterms:created>
  <dc:creator>Klass_3-4</dc:creator>
  <dc:description/>
  <dc:language>en-US</dc:language>
  <cp:lastModifiedBy>Ирина</cp:lastModifiedBy>
  <dcterms:modified xsi:type="dcterms:W3CDTF">2015-04-21T19:21:04Z</dcterms:modified>
  <cp:revision>61</cp:revision>
  <dc:subject/>
  <dc:title>Имя числительное</dc:title>
</cp:coreProperties>
</file>