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540-A26B-410B-87F2-2FB6A816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3CB-AC0A-4198-95C9-7FD7F3D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6F8-2AA2-4B21-9190-ABAD0B38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214-B781-481D-A9C6-513F043C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588-FCA0-4331-B4A4-C7658AEF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BCF-6BF4-4169-989C-343713F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BF4-DAE5-4307-99D7-8CB0B1C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6B42-4CD3-4CB6-9E60-8CA81388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52B-553B-4DA5-A99D-9DA685F8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2F8-F425-4C9E-84C5-A8393F2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0E0-4D3A-4829-9D5B-9809CAF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097-A2B3-4EF7-B0B0-9F3AB19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CFED-1781-4097-86D5-F657A80D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A672-5356-4DFF-8E01-C517EA9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F778-0586-4D9D-BD8F-D9AF700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A78-ECA4-4676-9BDD-8EA431A9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426-B110-4B8A-9DE3-9CD8ACBC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D1F8B-8AC3-4C88-ADF7-FB8A023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4DC43-ED27-4F51-A309-E6E79FA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4CEE8-07E3-49B1-8827-C30A8FA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094C2-5A2B-423E-A39B-29697D31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94DC8-BE8D-4CBE-847E-2CA4043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1E9-DB31-453D-9E25-DB7C942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943A0-F9AE-4648-BCA6-9A9BF44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1A12-90C2-4CB2-A4C3-3877F9B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F3CE1-4DC0-4853-B7E5-4D14B1C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F0B20-ED01-4AFB-B2BB-0985DB8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BE859-7368-45EB-9AF9-5E585597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B9E44-D693-4BBD-B8AF-49537732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CD1A5-779A-47F2-911A-DA1C2017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BCE6-055B-4429-ABF3-16C18B0D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11FF-CEDD-4E16-A25B-4801785C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58F3-2297-4489-A71C-4A3F40C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BA0-8D06-4770-AF28-36AEEF1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2935-9D37-4551-A07D-8C73A139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57F5-D79E-4F59-9EBF-B80DF49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98EB-6F55-4A3F-9D65-2399CAA0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0FAC-6719-46CE-893B-A7243B9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2D00-5CFA-40FB-833B-773093E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1717-9C39-41D7-89C1-2D8B27F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A8EE-9805-4142-B601-88E9B5E6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E656-0E84-457D-AB9B-59A7E8A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887B3-BE58-4F7F-85B4-2A97CB41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9ACFB-897F-4C37-B1CC-E056391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290-4CDC-4FA0-8BF3-AFC0034A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582C4-5F3A-429D-B3DA-7B8A706B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40B12-CF9C-4A27-96F4-33CD05E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1FC10-F053-4105-9C62-CACEF1E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033DF-8E8F-4993-86F4-FE9B91BB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951A2-402A-423E-8CE3-595031E4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3E3A3-C8C1-4EFB-8530-CBB1098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85857-4C3A-4623-A926-BFD9B67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17369-A43C-4DA5-97FF-09B29EC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8008C-932F-40F9-9A7B-B22B7DCE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11CB8-2A2B-43E4-ACC4-71A8080B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643-7892-4325-9603-424C432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CDA04-887C-4609-86CD-A059350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8AA23-8501-46D2-BBCA-A3BB228F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7893E-4A66-4D12-961B-6FC876DC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635DB-B086-4D64-8BC1-EDAD8F66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9D837-53DF-4536-AC10-9A86A07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6AD42-46E9-45E5-A694-13F070F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02D1C-29D1-4598-8F1C-8914337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202ED-0A9E-4AB2-B20C-B9C538A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B323A-AE3C-4BAD-AB3B-D4B07B9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EC860-C65E-4423-9C84-3337025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14D-710B-47DB-A7DA-E4F83A1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C5D05-496A-439C-8D2F-EE20057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FD5CE-A885-4A71-A809-FB0B419C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A0A5F-8894-4B0E-8EA4-A4AB05DE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EE8A9-78BC-4287-AE44-635B4FF7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0EC64-0E9F-4AD0-A07D-6B63679A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91041-523A-48AB-BDF4-EE1BAE71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237AC-CC4C-4EB5-BFB6-B079A1B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30927-BC16-4CDB-A5E4-93B957DC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624AE-7EFF-4734-97B5-1CBA73D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AFEA3-7463-4F0B-A482-87AD68A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C78-D540-4B9E-81F7-4F5F5B3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9DB06-CC1C-438C-950B-6ECA43F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A1104-EFEC-44C1-9A59-1E361B9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3F443-3AB3-44AB-AD84-C56182F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00587-75A5-4433-9A59-595696B1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84730-ADBF-4B90-AF99-56278E4F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D5D-E571-4F3E-858E-B22417F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BBA-A364-40B3-B349-A48982911F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87C-F7AA-4CAF-81AE-7EDB62AA80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6C6D-77C3-4229-90A8-B8EFF264EC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3284-2C9D-452F-88D3-E6D418A44A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112-A28A-428D-AD64-70F86A4CC7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F9A-AFA7-40E7-9307-DE04DAE4AA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4BF-0BB3-46D6-8C50-3F462D8713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1722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Book Antiqua"/>
              </a:rPr>
              <a:t>ПРЕЗЕНТАЦИЯ НА ТЕМУ «РАБОТА ПО ДОПОЛНИТЕЛЬНОМУ ОБЩЕОБРАЗОВАНИЮ ЕСТЕСТВЕННО-НАУЧНОЙ  НАПРАВЛЕННОСТИ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Book Antiqua"/>
              </a:rPr>
              <a:t>« АЗБУКА ПРИРОДЫ »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Book Antiqua"/>
              </a:rPr>
              <a:t>С ДЕТЬМИ 5 – 6 ЛЕТ»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03640" y="5229360"/>
            <a:ext cx="3795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Book Antiqua"/>
              </a:rPr>
              <a:t>Подготовила: воспитатель первой категор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Book Antiqua"/>
              </a:rPr>
              <a:t>Тауэр Т. 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361188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ЕЛКИ И РИСУН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Объект 6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380" name="Объект 7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user\Desktop\тауэр\фоотото\IMG_20180924_073531.jpg"/>
          <p:cNvPicPr/>
          <p:nvPr/>
        </p:nvPicPr>
        <p:blipFill>
          <a:blip r:embed="rId3"/>
          <a:stretch/>
        </p:blipFill>
        <p:spPr>
          <a:xfrm>
            <a:off x="5873760" y="189000"/>
            <a:ext cx="250344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14480" cy="3771720"/>
          </a:xfrm>
          <a:prstGeom prst="rect">
            <a:avLst/>
          </a:prstGeom>
          <a:ln w="0">
            <a:noFill/>
          </a:ln>
        </p:spPr>
      </p:pic>
      <p:pic>
        <p:nvPicPr>
          <p:cNvPr id="383" name="Объект 7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2986200" cy="3614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411000" y="1836360"/>
            <a:ext cx="2106000" cy="1169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детей и родителей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3760" y="4065120"/>
            <a:ext cx="2098080" cy="11044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C:\Users\user\Desktop\тауэр\фоотото\IMG_20180606_154659.jpg"/>
          <p:cNvPicPr/>
          <p:nvPr/>
        </p:nvPicPr>
        <p:blipFill>
          <a:blip r:embed="rId3"/>
          <a:stretch/>
        </p:blipFill>
        <p:spPr>
          <a:xfrm>
            <a:off x="2771640" y="3960720"/>
            <a:ext cx="3654720" cy="2741760"/>
          </a:xfrm>
          <a:prstGeom prst="rect">
            <a:avLst/>
          </a:prstGeom>
          <a:ln w="0">
            <a:noFill/>
          </a:ln>
        </p:spPr>
      </p:pic>
      <p:sp>
        <p:nvSpPr>
          <p:cNvPr id="387" name="Текст 2"/>
          <p:cNvSpPr/>
          <p:nvPr/>
        </p:nvSpPr>
        <p:spPr>
          <a:xfrm>
            <a:off x="6659640" y="3933720"/>
            <a:ext cx="2089080" cy="7635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елки из ово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Объект 6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4233600" cy="3174840"/>
          </a:xfrm>
          <a:prstGeom prst="rect">
            <a:avLst/>
          </a:prstGeom>
          <a:ln w="0">
            <a:noFill/>
          </a:ln>
        </p:spPr>
      </p:pic>
      <p:pic>
        <p:nvPicPr>
          <p:cNvPr id="389" name="Объект 7" descr=""/>
          <p:cNvPicPr/>
          <p:nvPr/>
        </p:nvPicPr>
        <p:blipFill>
          <a:blip r:embed="rId2"/>
          <a:stretch/>
        </p:blipFill>
        <p:spPr>
          <a:xfrm>
            <a:off x="4605480" y="1197000"/>
            <a:ext cx="4128840" cy="30956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289080" y="2099160"/>
            <a:ext cx="41727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родуктивная деятельность «Ледяной и лубяной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20040" y="365400"/>
            <a:ext cx="3593520" cy="59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«Весенняя капель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5300280"/>
            <a:ext cx="358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РУД В ПРИРОД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Объект 6" descr=""/>
          <p:cNvPicPr/>
          <p:nvPr/>
        </p:nvPicPr>
        <p:blipFill>
          <a:blip r:embed="rId1"/>
          <a:stretch/>
        </p:blipFill>
        <p:spPr>
          <a:xfrm>
            <a:off x="4067280" y="365112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394" name="Объект 7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305240" cy="3229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user\Desktop\тауэр\фоотото\IMG_20190206_173932.jpg"/>
          <p:cNvPicPr/>
          <p:nvPr/>
        </p:nvPicPr>
        <p:blipFill>
          <a:blip r:embed="rId3"/>
          <a:stretch/>
        </p:blipFill>
        <p:spPr>
          <a:xfrm>
            <a:off x="179280" y="189000"/>
            <a:ext cx="3745080" cy="4992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БОТА О ПТИЦА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Объект 6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4618080" cy="3462120"/>
          </a:xfrm>
          <a:prstGeom prst="rect">
            <a:avLst/>
          </a:prstGeom>
          <a:ln w="0">
            <a:noFill/>
          </a:ln>
        </p:spPr>
      </p:pic>
      <p:pic>
        <p:nvPicPr>
          <p:cNvPr id="398" name="Объект 7" descr=""/>
          <p:cNvPicPr/>
          <p:nvPr/>
        </p:nvPicPr>
        <p:blipFill>
          <a:blip r:embed="rId2"/>
          <a:stretch/>
        </p:blipFill>
        <p:spPr>
          <a:xfrm>
            <a:off x="4932360" y="115920"/>
            <a:ext cx="399420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6000" y="4581000"/>
            <a:ext cx="3179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ГРЫ И РАССМАТРИВАНИЕ ИЛЛЮСТРАЦ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Объект 6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4376880" cy="3282840"/>
          </a:xfrm>
          <a:prstGeom prst="rect">
            <a:avLst/>
          </a:prstGeom>
          <a:ln w="0">
            <a:noFill/>
          </a:ln>
        </p:spPr>
      </p:pic>
      <p:pic>
        <p:nvPicPr>
          <p:cNvPr id="401" name="Объект 8" descr=""/>
          <p:cNvPicPr/>
          <p:nvPr/>
        </p:nvPicPr>
        <p:blipFill>
          <a:blip r:embed="rId2"/>
          <a:stretch/>
        </p:blipFill>
        <p:spPr>
          <a:xfrm>
            <a:off x="4716360" y="115920"/>
            <a:ext cx="4127760" cy="3097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user\Desktop\тауэр\фоотото\IMG_20190212_175726.jpg"/>
          <p:cNvPicPr/>
          <p:nvPr/>
        </p:nvPicPr>
        <p:blipFill>
          <a:blip r:embed="rId3"/>
          <a:stretch/>
        </p:blipFill>
        <p:spPr>
          <a:xfrm>
            <a:off x="149400" y="115920"/>
            <a:ext cx="41288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ЭПБУК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Объект 6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618080" cy="346392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7" descr=""/>
          <p:cNvPicPr/>
          <p:nvPr/>
        </p:nvPicPr>
        <p:blipFill>
          <a:blip r:embed="rId2"/>
          <a:stretch/>
        </p:blipFill>
        <p:spPr>
          <a:xfrm>
            <a:off x="4533840" y="18900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785520"/>
            <a:ext cx="74674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  <a:ea typeface="Aharoni"/>
              </a:rPr>
              <a:t>СПАСИБО</a:t>
            </a:r>
            <a:br>
              <a:rPr sz="8000"/>
            </a:br>
            <a:r>
              <a:rPr b="0" lang="ru-RU" sz="8000" spc="-1" strike="noStrike">
                <a:solidFill>
                  <a:srgbClr val="575f6d"/>
                </a:solidFill>
                <a:latin typeface="Century Schoolbook"/>
                <a:ea typeface="Aharoni"/>
              </a:rPr>
              <a:t> ЗА ВНИМАНИЕ!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Book Antiqua"/>
              </a:rPr>
              <a:t>АКТУАЛЬНОСТЬ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рода – неиссякаемый источник духовного обогащения детей. Они постоянно в той или иной форме соприкасаются с природой. Их привлекают зеленые луга и леса, яркие цветы, бабочки, жуки, птицы, падающие хлопья снега, ручейки и лужицы. Бесконечно разнообразный и красочный мир природы пробуждает у детей естественный интерес, любознательность, затрагивает их чувства, возбуждает фантазию и влияет на формирование их ценностных ориентиров. Ребенок, полюбивший природу, не будет бездумно рвать цветы, разорять гнезда, обижать животны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ученные в детстве впечатления от родной природы, очень яркие, запоминающиеся на всю жизнь и часто влияют на отношение человека к природ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Book Antiqua"/>
              </a:rPr>
              <a:t>ЦЕЛЬ И ЗАДАЧ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765000"/>
            <a:ext cx="842472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Цель - Содержание программы направлено на достижения цели экологического воспитания ребенка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сформировать у детей ценностный взгляд на природу и место человека в ней, ответственное отношение к окружающей среде, выработать навыки грамотного и безопасного поведения в природе и быт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ть детям системные знания об окружающем его мире в соответствии с его возрастом и способностям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учить применять на практике полученные знани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чить детей быть ответственными за свои поступ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Формировать культуру поведения в природе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азвивать творческое воображение, познавательные возможности де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ывать бережное отношение к окружающей среде, необходимость рационально относиться к компонентам неживой природ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ывать потребность в общении с природо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особствовать формированию экологического восприятия и сознания общественной активн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5" descr=""/>
          <p:cNvPicPr/>
          <p:nvPr/>
        </p:nvPicPr>
        <p:blipFill>
          <a:blip r:embed="rId1"/>
          <a:stretch/>
        </p:blipFill>
        <p:spPr>
          <a:xfrm>
            <a:off x="450720" y="341280"/>
            <a:ext cx="8156880" cy="646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МЕТОДЫ И ПРИЕМЫ РАБОТЫ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Объект 3" descr=""/>
          <p:cNvPicPr/>
          <p:nvPr/>
        </p:nvPicPr>
        <p:blipFill>
          <a:blip r:embed="rId1"/>
          <a:stretch/>
        </p:blipFill>
        <p:spPr>
          <a:xfrm>
            <a:off x="450720" y="828720"/>
            <a:ext cx="7944120" cy="591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827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РАЗОВАТЕЛЬНАЯ ДЕЯТЕЛЬ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Объект 2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294440" cy="33274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40920" y="5967360"/>
            <a:ext cx="3061080" cy="3240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« Вода нужна всем 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982480" y="375120"/>
            <a:ext cx="1643040" cy="779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«Огород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105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Объект 9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137120" cy="3103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716400" y="50454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правление  ветра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74960" y="292320"/>
            <a:ext cx="388260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«Правила друзей природы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Содержимое 8" descr="IMG_20181213_094617.jpg"/>
          <p:cNvPicPr/>
          <p:nvPr/>
        </p:nvPicPr>
        <p:blipFill>
          <a:blip r:embed="rId2"/>
          <a:stretch/>
        </p:blipFill>
        <p:spPr>
          <a:xfrm>
            <a:off x="684360" y="2205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37544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ОВМЕСТНАЯ ДЕЯТЕЛЬНОСТЬ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Объект 8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233960" cy="317484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9" descr=""/>
          <p:cNvPicPr/>
          <p:nvPr/>
        </p:nvPicPr>
        <p:blipFill>
          <a:blip r:embed="rId2"/>
          <a:stretch/>
        </p:blipFill>
        <p:spPr>
          <a:xfrm>
            <a:off x="4533840" y="170028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27320" y="58374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пыты и эксперимен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108760" y="93996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«Песочные фантазии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Объект 8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4233960" cy="317520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9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964400" y="436320"/>
            <a:ext cx="3593520" cy="595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Стенгазет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user\Desktop\тауэр\фоотото\IMG_20190124_131753.jpg"/>
          <p:cNvPicPr/>
          <p:nvPr/>
        </p:nvPicPr>
        <p:blipFill>
          <a:blip r:embed="rId3"/>
          <a:stretch/>
        </p:blipFill>
        <p:spPr>
          <a:xfrm>
            <a:off x="179280" y="189000"/>
            <a:ext cx="42166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6T13:00:17Z</dcterms:created>
  <dc:creator>Татьяна</dc:creator>
  <dc:description/>
  <dc:language>en-US</dc:language>
  <cp:lastModifiedBy>Татьяна</cp:lastModifiedBy>
  <dcterms:modified xsi:type="dcterms:W3CDTF">2021-01-18T13:08:34Z</dcterms:modified>
  <cp:revision>29</cp:revision>
  <dc:subject/>
  <dc:title>Презентация на тему «работа по дополнительному общеобразованию естественно-научной  направленности « АЗБУКА ПРИРОДЫ » с детьми 5 – 6 лет»</dc:title>
</cp:coreProperties>
</file>