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2F1-95EC-4D65-B98A-BDA3C1FE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4F2-0127-4DE7-ACA5-9EE15818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072735-65CB-4F66-B295-448B8706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A0284D-84ED-4291-B9B2-31A7E1C6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CDE69B-F25D-4A09-9C5E-92A504CC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5227BD-F812-4149-847A-8A413E1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EAC2E6-C59F-46D5-88AD-AE4F3D41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69812-7A2C-4883-9884-2E0F679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C5E800-CFBD-4697-93E9-A37D9535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6E3C3-C71C-4627-AD80-5134167A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0B1CE5-FBCD-46AC-8A8B-1458C813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E4547-7892-49B9-8864-17389853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F40-B746-46B5-A946-92024644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2402D-A826-4E56-AADC-94AE9A35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060CA-DF57-4B8C-AA20-B2163AE0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A0C69-0DE4-4CC2-83F4-18B054BF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93E59-8CDA-4953-A997-4DE74BBC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A45FD-7120-47C7-8150-D9D6213C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0AB60-BDB3-4FDE-A0C6-D97F432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46F54-EB55-4886-A2D8-BBDF1F42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B4CD0-B228-46B7-B2EC-C54319C2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C464C-20DB-48B6-8376-6CC0F5C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B756D-887D-4D33-BD28-3DE6EDBD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A5C-3A22-46BE-8A3F-3A9146A5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1A5BA-C22F-45D8-AFC8-CE82F5D3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804D9-A0FC-4221-8DC2-E555502D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ADDAA-C898-45A4-A60A-1C47AF71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CC49D-A941-47D8-AD2A-55D7242C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85036-6861-4CF0-9589-B31ADAF2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45697-BF4F-4862-85D0-5FBE027B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BBD33-963E-47BD-BFA1-C5ADEF1F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99A6E-8D2C-42F3-82BE-1F3F8C68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8129F-185D-43B6-B3A4-3575454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0C447-CCD4-4EC1-8464-CADC8BF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6481-49C8-46D6-A5E8-0902B269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530D9-4536-417E-9E95-3202BB95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75FB5-A4C6-4149-9FA2-C724E2EE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07803-3484-43C5-84A5-A634B309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34FC4-581C-4DD5-A8E1-B91E594A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53C9D-4548-4A8E-8287-03E454B3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B6625-44FE-40DA-99A0-134ACDE2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1F3DF-F02C-4D62-9BA6-38C44292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37499-F41F-483C-8BFE-E478C766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1FC06-868A-45CA-9316-CD278BA1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49233-71A7-4DEB-9EFF-513DB92A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D78B-8FFB-41C0-ABCE-9A9FFBA1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095C1-9721-4E05-9759-7FEDA21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731A8-3C25-4697-B04B-631CCC90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CE922-42D1-4639-B875-5CEECCBD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43867-85B8-42D5-80A4-82F15902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96362-EB71-4D4F-92B5-62D3FE7F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121B5-BBE0-4434-B7BA-3B2FF29A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FBF65-8929-4F51-86C9-B47C594B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9E39B-CD27-4485-97F3-DC61CB0D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9B5B1D-F4F5-44B6-B146-BC6E635E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74C36-AD32-454E-B301-580B3DF5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598F-314F-40F1-AEAC-8CEEBE88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5CC6C-53EA-49DF-8D9A-53C08BB9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6EC88-5CEE-4A97-A577-CA2950C1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25BF3-0C60-4795-A312-71B911D3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66445-D2A6-4884-A780-C36DAC89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94006-6F21-4579-8911-E164ADCE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0EF6E-37C4-4405-B91C-005330F0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83199-E36C-4D4A-A05A-B32BA5C9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E254A-7E21-4ED9-981E-AB0AB0D8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73C77-64A2-45A7-8C0D-1F582688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8AFF0-2659-4197-9D76-5DCD9023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7D33-05FB-450F-AEB1-BAC45856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27E3D-F9A9-4854-9014-BF86E5F6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A1F88-E342-45C9-A9CD-94A3462C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9384F-502B-42BC-9C25-C3769B2F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F20AB-24D6-4778-9735-64F8A74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8D7E1-E1F9-4489-88A8-1CB17BB3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A1BF9-690C-447C-B0E1-DADB168E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B8324-9F5F-4B16-BC0B-80182B9D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E7D6D-F3EA-4A20-AD68-88466943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9168F-99D0-400B-A590-C6CA6DC8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BC718-23F0-4E5D-9860-613F634B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A618-8975-403C-9587-679FC308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690A6-0B37-4AFE-AFD3-AEEE88C4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85B3F-83E6-4A06-B27E-13FB9093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78D99-C35A-4D61-A235-390A11D0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4B9D7-489F-47DE-8378-E4319742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40BD8-3858-44BC-9951-7F0E132F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A98DD-8C7C-4C42-B924-3D99B17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E0D27-9264-425D-8197-AF9CF843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E291B-4DAA-49EE-8472-F64755EF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3EC44-414A-4E9F-BD57-EB0937E5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C221B-3E8F-407F-AE5F-A6D16B14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F6B1-72B7-4230-BAB7-7B34E7DB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F2CC9-CE3A-45FC-B7A1-F88B5150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2007DC-65D3-431E-A9D6-6DEC9FC0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441046-C7D7-467E-8250-F703E377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421ECD-0D70-4909-BAE4-5EF4458B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B1BD4D-DBCC-46C0-8CB9-48E3D717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0CACE1-37CB-4B19-B3C7-6A8E6150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D2CBEF-B9C2-4637-83D4-9EE26859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D1C24E-B149-46C8-BBE1-49FF919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2BCB5D-97D7-49C0-8B84-D749813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1A7529-E902-404B-AEA1-F87633E9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194F-E49B-487C-B30B-4889D0AA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29A23B-062A-4629-BE26-88FF0A95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4FA57E-8711-499E-8ABB-EAF856FB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D9D4C3-6FAA-464D-9733-9A02258A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E62-89B1-44F4-97B8-56202ABB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8E7E-4ECC-486D-B228-AD876314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A8D3-CAAB-46C3-9D91-6A404BB7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C165-B7C2-4527-88EF-8F92F3B3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642B-1B50-45A1-9C53-156735D5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E206-4387-4E70-9AAB-90EE2B82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7C28-4F41-4FC8-9CE4-6CE862FE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F807-CE4A-4885-A011-C2563BF4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D9A9-B6C4-42C3-A725-65759247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966E-8B16-4396-B79C-20EB5192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46AE-C151-4364-8190-DFB28628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75E-9EF0-4334-BB68-A82B290D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FB25-B4FB-4F5B-A26C-98E3C547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799E-74F4-4001-BE74-D19D4D4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023E-CB79-4D18-9BC8-C0DF87AB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392D-3F1A-4B12-B620-D08F7DB3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E642-0997-49AE-80A5-1AA5EE33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D41B-C87B-49BA-960F-0D3D51D4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7DBA-E2AC-4CF2-97A8-9AA625A8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0C486-3D8A-46F8-A08C-BBFCB4A9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7C1A-7B24-4500-9352-C19601BB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6B7D-08C9-4009-A03C-DE11F9AA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1B8-5218-4E97-B130-D5046E0C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969EE-73E8-435A-BFEA-607BF6FB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04AE-0906-490C-A404-663BA8DD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DEA9E-376E-4DC7-BC51-43A05331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F274-7C74-47B6-891D-A04F0BD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F114-3DF0-4E88-AEC0-A48DA5B8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6DB98-A183-4181-9A48-09E6E3FC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348C3-6538-4BAC-B503-5BF45270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8A25-DF54-42EA-80D5-DE8C7C0A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540BC-EE8B-49C5-AD7E-41A4C5FF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329EC-57FE-43A3-B42E-E168A928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221-D447-4B03-811D-E04EA56A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AD24-FCD4-4AE3-BA77-85BC4990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D9E2D-03E2-4748-80E2-B243EC16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F3DF3-7A8B-44C2-AD88-B3222AA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C9F11-37BA-46A1-8A59-8FFEB676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11A5B-6DA0-4102-A308-D15A9D9E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F728-914A-4594-A194-BA5BEB68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616F4-44B6-4CFA-A3BC-21E5AED0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AE4F7-2045-4D12-93D7-58AB7DC3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0D054-1B33-4CE5-8ED6-8D457F36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E8CA4-B174-4F02-864A-35A49BFB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955-0ACA-41CF-92DC-EEB12BB6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CE4F4-0E9F-41A8-B957-DA180AAB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DE441-33F1-4A1E-B9A8-6C486BE4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1372F-1DFC-46EE-B414-B89EC89D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CB8E9-2508-4403-A9F3-74880BE3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4032-8ECC-4D68-B25B-05DAAC14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E2FF9-ABB1-4220-B93E-AAC758E5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0D790-084D-4F66-85A6-900B9ADD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A2E5-257F-4CDE-A460-038FB6BA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F7013-579B-44E7-93FB-81F22D50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CCAA0-94C3-4EFB-9D46-0274A0E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60D-16DF-4A8F-88B9-8A4DC545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67623-F05E-43C2-9A41-46231A3D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0A9C6-69AB-468D-8B1B-6D4C1F0B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21F9A-2BBD-47A2-AAC0-16F07AA8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B980A-71C3-462E-BDF0-0A159D44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1DF02-9671-4350-ADA2-756E2CC6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2BDEC-B67B-4CFB-8CD4-58A63885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AA06D-C81E-4707-BEC4-4DBBFD1E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677B9-49D3-43AE-B250-AFF57637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945DF-5E62-4327-848C-94AADFFC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8C4E7-8CDB-4F5B-917B-EC107E14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CB9-95C4-4911-AFBE-44A26F5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F9603-556A-4037-B580-2C40B25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9F839-0AD9-45D4-A6FC-E9E74488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8A6F8-38BB-4390-BB16-8AC9B896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8AD8-B99A-4279-B956-A63E6EB5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53A90-E8CE-4E08-AF60-59D65D42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AD57D-A684-4B57-B1E4-C8CB73F5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9334A-BD66-4502-9585-6B53F6EB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7869C-C53A-4A4B-B7C5-2FF0DEAD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D7699-1058-4D29-8820-339535C3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E1DB-7EA1-4FAE-B545-03B67C7F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BCA-8C69-4FF5-B506-0DA0AFBC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AC077-D58F-47AF-8DDD-58BAE309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9570F-A487-41E2-AABD-96B32466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5849F-A2A6-448C-9101-DC3F66AA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D3B0D-C027-46F1-B4B4-305CF97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5B3DE-2BA8-46BE-B628-4E7189A3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E8D11-938C-4F3A-B62D-70F37E03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33800-0BE3-4D0A-8817-CE2FFBC6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E1E23E-0844-4DCB-BF71-81EBB589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53A711-5404-47D1-BD7A-A3413CF2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7703C1-549C-4930-A5A1-BF7424BD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D367-598C-445F-872C-59FA1C4E5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089-5107-4229-A641-E79B47E646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0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9BEA-9C5B-4C92-8E91-5066F3E77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A8F3-90CF-43EB-B305-3588E33BD6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2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2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4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41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3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5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6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8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9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2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5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8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1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2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7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3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4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7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8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9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0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2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5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2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3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EAC2-67A7-4C6F-B966-19C44F63DC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694B-BB9A-4005-9273-D2F8D53E22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D7F1-078D-4228-8B91-75FCBD35088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37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0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41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2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43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4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5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6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7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48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4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5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EC9B-3976-4F2C-99EF-1D90C3BB16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F7B1-7C78-47A8-9E23-544483F24D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C18B-6632-42CC-9E7C-DD1C68D24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2050-481C-48D3-ABA9-4784C64229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3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CC49-1F44-4EE0-A84B-E904A5717D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0CEC-A975-4262-AD5B-B180BCE575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C406-BDB9-4C0E-B6AB-FBEFF24BF20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9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43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4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0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2486-2EB2-4D39-BC98-DE50E8C2FB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5E71-2805-4058-A0CE-1C16D32D1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це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учащихся 9-11-х классов МАУ Ш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Золотые россыпи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кция: литературовед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ем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«Самородок янтарного края»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Авторы работ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Бакеева Екатерина Рафаиловн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9 «А» класс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МБОУ Побединской СОШ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п. Чернышевско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Кунгурова Дарья Ильиничн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9 «А» класс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МБОУ Побединской СОШ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п. Чернышевско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Руководител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Кунгурова Ирина Николаевн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МБОУ Побединской СОШ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«Чернышевские клены»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юблю осенние картины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т клены всяческих ма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х посадили вдоль тропин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лдаты воинских ча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лопатой спорила лопа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ты, как сажать, велис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емля у нас щедра, бога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клены быстро прижили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те солдаты молоды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о к нам пришли на спецнабо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и стоят, как часовы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охраняют наш собо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йдите сами, посмотрите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десь листья звездами леж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 только клены не губит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отя бы в память тех солд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Все мы родом из детства...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276720" y="1295280"/>
            <a:ext cx="5867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емье было три сестры – Валентина, Надежда, Наталья и брат Сергей. Отец семейства был родом из потомственных священников, мама – из рода многоземельных помещиков. Но в современной жизни родителей  их происхождение  не могло помочь семье. Когда родители поженились, жили в небольшом колхозном домике, затем, когда семья стала прибавляться, перебрались в дом лесничего, потом переехали в город. Отец устроился сторожем в военкомат, а мама – в ветеринарную лечебни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1" name="Picture 10" descr="img166"/>
          <p:cNvPicPr/>
          <p:nvPr/>
        </p:nvPicPr>
        <p:blipFill>
          <a:blip r:embed="rId1"/>
          <a:stretch/>
        </p:blipFill>
        <p:spPr>
          <a:xfrm>
            <a:off x="0" y="1219320"/>
            <a:ext cx="34653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«Кисет»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чера кисеты раздава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мне достался с табачко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краю вышито : «От Вали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 в центре с голубым цвет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ы с тем кисетом воева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к будто друга я наше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с этой надписью «От Вал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 Кёнигсберга я дош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Заветная мечта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9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ветной мечтой Валентины Ивановны было поступить  в институт и стать учителем русского языка и литературы. Но первоначально денег на учебу не было. Валентина устроилась на работу, чтобы денег накопить. До института работала она заведующей клуба в Карелии. Эта работа ей очень нравилась. Девушка придумывала и проводила разные  развлекательные мероприятия, часто включая в них собственное творчество. Путь с работы домой составлял четыре километра. Восемь лет преодолевала его Валентина – летом пешком, зимой на лыжах. В темноте ходить было очень страшно. Чтобы подбодрить себя по дороге пела пес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6" name="Picture 7" descr="img160"/>
          <p:cNvPicPr/>
          <p:nvPr/>
        </p:nvPicPr>
        <p:blipFill>
          <a:blip r:embed="rId1"/>
          <a:stretch/>
        </p:blipFill>
        <p:spPr>
          <a:xfrm>
            <a:off x="0" y="106668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 янтарном крае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Калининградской области Валентине Ивановне очень понравилось. Она вспоминала: « В середине августа, когда я приехала, бушевала пышная зелень деревьев и кустарников, разноцветием радовали взор клумбы, было очень много солнца и света. Вся эта красота произвела на меня огромное впечатление. А главное – люди, с которыми здесь свела меня судьба и которые поддерживали меня в трудную минуту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9" name="Picture 7" descr="img165"/>
          <p:cNvPicPr/>
          <p:nvPr/>
        </p:nvPicPr>
        <p:blipFill>
          <a:blip r:embed="rId1"/>
          <a:stretch/>
        </p:blipFill>
        <p:spPr>
          <a:xfrm>
            <a:off x="4419720" y="914400"/>
            <a:ext cx="4724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ух творчеств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тая в школе, Валентина Ивановна вела поэтический кружок «Родничок». С кружковцами  исколесили полстраны – были в Литве, Латвии Ленинграде, путешествовали по пушкинским местам. Были и на море в Светлогорске, работали прямо на лавочках в парке Калинина в Калининграде. Участвовали в конкурсах. Ребята публиковали свои стихотворения в районных и областных изданиях. В кружке выросла поэтесса Елена Криницкая, стихи которой не раз публиковала газета «Сельская новь»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2" name="Picture 10" descr="img155"/>
          <p:cNvPicPr/>
          <p:nvPr/>
        </p:nvPicPr>
        <p:blipFill>
          <a:blip r:embed="rId1"/>
          <a:stretch/>
        </p:blipFill>
        <p:spPr>
          <a:xfrm>
            <a:off x="304920" y="1371600"/>
            <a:ext cx="3773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Спустя год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648320" y="8380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йчас Валентина Ивановна на заслуженном отдыхе. Для своих внучек она часто сочиняет стихи, частушки к школе, помогает с сочинениями. За плечами у нее звание «Ветеран труда» и почти сорокалетний стаж работы в школе. И, конечно же, множество благодарных учеников, которым она привила любовь к родному языку, литературе, помогла познать радость творческих открытий. Учитель и поэт и сейчас общается с подрастающим поколением, ребята часто приходят к ней в гости или просто поговорить, или за советом и помощью. И всегда их встречают с приветливой и доброй улыбкой, угощают чаем, и в дружеской беседе наставника и ученика рождаются новые, пусть еще робкие, но идущие из глубины души произведения о самом сокровенном. И очень часто, вспоминая Валентину Ивановну, на ум приходят слова классика  : «...Учитель, перед именем твоим позволь смиренно приклонить колено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5" name="Picture 7" descr="img162"/>
          <p:cNvPicPr/>
          <p:nvPr/>
        </p:nvPicPr>
        <p:blipFill>
          <a:blip r:embed="rId1"/>
          <a:stretch/>
        </p:blipFill>
        <p:spPr>
          <a:xfrm>
            <a:off x="0" y="1676520"/>
            <a:ext cx="5029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Край родной, навек любимый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рческий конкурс «Наш край» был посвящен 280-летию со дня образования г.Нестерова. В нем принимали участие 10 местных поэтов. А победителем стала Гурова В.И.   Хотя раньше она в творческих конкурсах не участвовала. Почему сейчас поступила вопреки устоявшимся правилам? Оказывается, библиотекарь Г.Б.Живицкая настояла. И не ошиблась. Ведь стихи Валентины Ивановны проникнуты патриотизмом,   полны гордости за родной край и веры в его светлое будущ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8" name="Picture 7" descr="img158"/>
          <p:cNvPicPr/>
          <p:nvPr/>
        </p:nvPicPr>
        <p:blipFill>
          <a:blip r:embed="rId1"/>
          <a:stretch/>
        </p:blipFill>
        <p:spPr>
          <a:xfrm>
            <a:off x="3886200" y="990720"/>
            <a:ext cx="5257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Галки»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сна. Вот галки появили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ают, носятся. Крич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гнездовьям старым возвратили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тели вывести галч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рудах бежали дни за дн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кто-то дал такой приказ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 тополя убрать с корня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т строительство у н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началось: пила визжа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лились с треском топол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сколько птичьих гнезд пропало!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шала их с собой зем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 хрипоты кричала гал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езда уж нет, птенцы молч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мне по-женски стало жал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е погубленных галч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4-03T09:57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