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8E87-A209-407C-BBD0-ED398215F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9534-F56B-4911-A06E-A57508F6B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3CEF-9B7B-4D6A-B9A9-D14FE1633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D53-8501-4695-AE23-908DE590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AEF-97A6-4EF4-999F-BDF724A6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6A7-CBAE-4372-90AA-FD01C8C5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C57-A7D0-4C9F-BE45-802792F4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563D-2D13-44DB-9145-FEC349AC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C2CB-CF7F-4A7E-B8EA-AF3F4A50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6790-75E1-43B8-AA06-3F08915B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6484-F154-42BD-A0E4-8ED520CC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174E-6449-4604-9FE3-1BECCFE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A1A4-1556-47EF-90B1-7A751FD6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A0A3-9372-4BA0-9A4A-8FFEB405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992-EEDF-4C02-BFF8-40F499FF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78A6-B888-4D48-8AEB-D57BC08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F09D-DD88-4F2F-B789-1548008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8578-4DE8-47D7-B5B3-DB78FB65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37B8-5D38-4405-94CB-AEA7B53C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982C-C1F1-44B9-AFCA-8AEDA902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865A-59BF-4366-B7DA-D355C016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84F34-904E-43D1-91BB-41A4C42F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CBDD-A4CC-4001-8AB0-3062E241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09F1-8DB5-4761-B017-0B1BFF32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36FB-17A3-49E3-BB3C-9355F70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7D2-F397-4F68-B03C-7EFB7016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1273-6526-47B7-ACD3-B27191A0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24055-5085-4616-8DEE-03EDE97E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1B09-8034-4457-8FE4-406D229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5BF4-E9C9-4842-A1A9-2B860068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8B5D-7A59-4BA1-A367-89F12C0A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6FD1-339D-4D2F-B41C-99E1D72A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8122-CC89-44D0-A458-5B09F630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F348-787E-44F5-9E1C-64F649E0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97A0-A953-48B2-AA8E-066B13C0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E3D6-1010-4404-B5D6-35C463FF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A3B-69E0-42DA-B01E-E90E39D8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25F79-FC0F-4482-A334-40B59095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93B9-6271-47A0-84B3-1A57E383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60345-2E97-430D-A19F-B5F724A1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A3D6-46E8-4C70-8F0E-9CA7CAF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D361-8D35-4A69-870E-AD88A93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8E1E5-9586-4C00-8C9F-DF62C83D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6500-C6E9-4991-967F-4706F430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9E220-FBEE-4512-84A6-5FBDB465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FB15-12BF-45B8-8576-BDC1ABB6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FCC7-FDFE-4F21-B3A1-033988B4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E34-E48C-4483-AFE8-5F20CC11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CBA52-D785-4FB9-AE7A-CA41947D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C3B79-2C62-451C-A80B-13061ED8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775EC-3DBD-4F6C-950B-C1AF0BAC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B1CB4-ABF8-4B26-BD28-1CA9247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B19E2-FBCA-463F-8C8D-4F07AE95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B21AE-D231-42C6-A996-F782C276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5B3FA-6306-447C-A46F-AF0C70B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1754-DA2B-4316-A6C4-BD9E5E26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76532-16A7-41D1-9569-ACBD636E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14E3-E0EB-482E-A1B4-F62A9251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7DF-3119-4C31-882E-0D2AEA44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3FDE-FE72-41E8-86B1-2A8EB45D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E3C-CEC0-4DE4-910C-A219FA8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69D-0CFD-4A9B-BB4A-2343355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FAF-A080-4F06-B91E-311A3FA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2D9E-B905-4D21-A5F3-065F320A9BB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BCA6-B910-4D1F-9927-930191BE9911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0F97-553B-4312-A539-AF5B238B206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EBB-6D11-46E1-B4A4-A353FFFB8212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719-692F-494D-A619-E9509B104BA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IMG_1597.PNG"/>
          <p:cNvPicPr/>
          <p:nvPr/>
        </p:nvPicPr>
        <p:blipFill>
          <a:blip r:embed="rId1"/>
          <a:stretch/>
        </p:blipFill>
        <p:spPr>
          <a:xfrm>
            <a:off x="1066680" y="990720"/>
            <a:ext cx="6019920" cy="45720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2590920" y="1905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1143000" y="45720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ЗОЛОТАЯ</a:t>
            </a: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О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066680" y="4114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IMG_1605.JPG"/>
          <p:cNvPicPr/>
          <p:nvPr/>
        </p:nvPicPr>
        <p:blipFill>
          <a:blip r:embed="rId1"/>
          <a:stretch/>
        </p:blipFill>
        <p:spPr>
          <a:xfrm>
            <a:off x="304920" y="380880"/>
            <a:ext cx="3124080" cy="2210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" descr="IMG_1606.JPG"/>
          <p:cNvPicPr/>
          <p:nvPr/>
        </p:nvPicPr>
        <p:blipFill>
          <a:blip r:embed="rId2"/>
          <a:stretch/>
        </p:blipFill>
        <p:spPr>
          <a:xfrm>
            <a:off x="5105520" y="3352680"/>
            <a:ext cx="3047760" cy="26672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" descr="IMG_1607.JPG"/>
          <p:cNvPicPr/>
          <p:nvPr/>
        </p:nvPicPr>
        <p:blipFill>
          <a:blip r:embed="rId3"/>
          <a:stretch/>
        </p:blipFill>
        <p:spPr>
          <a:xfrm>
            <a:off x="2819520" y="167652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304920" y="3962520"/>
            <a:ext cx="41907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йную рябину вижу во дворе, 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умруд на ветках утром на заре. 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ного ягод красных, 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лых и прекрасных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оздьями висят, 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 красив наряд. 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бери на нитку ягод- для души, 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рябины бусы очень хороши</a:t>
            </a:r>
            <a:r>
              <a:rPr b="1" lang="ru-RU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114800" y="380880"/>
            <a:ext cx="449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У забора облепиха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росла по случаю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оберешь немало лиха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 ягодой колюче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7391520" cy="25272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533520" y="4572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т мы и побывали с вами в гостях  у красавицы Осе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0" y="1219320"/>
            <a:ext cx="807732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нылая пора! Очей очарованье!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ятна мне твоя прощальная краса —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блю я пышное природы увяданье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багрец и в золото одетые леса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их сенях ветра шум и свежее дыханье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мглой волнистою покрыты небеса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редкий солнца луч, и первые морозы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отдаленные седой зимы угр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IMG_1602.JPG"/>
          <p:cNvPicPr/>
          <p:nvPr/>
        </p:nvPicPr>
        <p:blipFill>
          <a:blip r:embed="rId1"/>
          <a:stretch/>
        </p:blipFill>
        <p:spPr>
          <a:xfrm>
            <a:off x="1143000" y="457200"/>
            <a:ext cx="5943600" cy="53341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1752480" y="533520"/>
            <a:ext cx="5867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ное содерж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акрепить знания детей о ранней осен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м осеннем месяце – сентябрь.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Развивать умение обобщать полученные знания, делать выв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сширять словарный запас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Воспитывать интерес к окружающему миру, любовь к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getImage2.jpg"/>
          <p:cNvPicPr/>
          <p:nvPr/>
        </p:nvPicPr>
        <p:blipFill>
          <a:blip r:embed="rId1"/>
          <a:stretch/>
        </p:blipFill>
        <p:spPr>
          <a:xfrm>
            <a:off x="3048120" y="121932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152280" y="1523880"/>
            <a:ext cx="2819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бята,сегоднямыс вами пойдем в гости к красавице Осени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с, точно терем распис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ловый, золотой, багря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оит над солнечной поля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вороженный тишиной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IMG_1571.JPG"/>
          <p:cNvPicPr/>
          <p:nvPr/>
        </p:nvPicPr>
        <p:blipFill>
          <a:blip r:embed="rId1"/>
          <a:stretch/>
        </p:blipFill>
        <p:spPr>
          <a:xfrm>
            <a:off x="685800" y="1447920"/>
            <a:ext cx="3962520" cy="37335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5105520" y="301680"/>
            <a:ext cx="304776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для того, чтобы Осень впустила нас в сказочный лес, нам нужно отгадать загадки про осень. Вы гото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иннее стали ноч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скажет, кто зн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 это быв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шла без красок и б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перекрасила вс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сть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первый месяц Ос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 ребят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е путеше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ает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5"/>
          <p:cNvSpPr/>
          <p:nvPr/>
        </p:nvSpPr>
        <p:spPr>
          <a:xfrm>
            <a:off x="152280" y="380880"/>
            <a:ext cx="777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rebuchet MS"/>
                <a:ea typeface="Times New Roman"/>
              </a:rPr>
              <a:t>Вот мы и пришли в осенний лес, Скажите, что собирают в сентябре в лесу? Правильно. Ягоды  и грибы. Давайте с вами вспомним какие бывают  грибы? А теперь возьмем корзинки и отправимся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6" descr="SAM_0398.JPG"/>
          <p:cNvPicPr/>
          <p:nvPr/>
        </p:nvPicPr>
        <p:blipFill>
          <a:blip r:embed="rId1"/>
          <a:stretch/>
        </p:blipFill>
        <p:spPr>
          <a:xfrm>
            <a:off x="990720" y="1600200"/>
            <a:ext cx="609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IMG_1591.JPG"/>
          <p:cNvPicPr/>
          <p:nvPr/>
        </p:nvPicPr>
        <p:blipFill>
          <a:blip r:embed="rId1"/>
          <a:stretch/>
        </p:blipFill>
        <p:spPr>
          <a:xfrm>
            <a:off x="685800" y="1066680"/>
            <a:ext cx="2743200" cy="30481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IMG_1592.JPG"/>
          <p:cNvPicPr/>
          <p:nvPr/>
        </p:nvPicPr>
        <p:blipFill>
          <a:blip r:embed="rId2"/>
          <a:stretch/>
        </p:blipFill>
        <p:spPr>
          <a:xfrm>
            <a:off x="4267080" y="2362320"/>
            <a:ext cx="3124440" cy="3047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3962520" y="685800"/>
            <a:ext cx="396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енастый, в шляпе н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 растет в лесу сосно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й, схватили белки в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т белый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-228600" y="4800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оял на крепкой нож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перь лежит в лукошк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IMG_1598.JPG"/>
          <p:cNvPicPr/>
          <p:nvPr/>
        </p:nvPicPr>
        <p:blipFill>
          <a:blip r:embed="rId1"/>
          <a:stretch/>
        </p:blipFill>
        <p:spPr>
          <a:xfrm>
            <a:off x="4724280" y="609480"/>
            <a:ext cx="2971800" cy="28958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IMG_1593.JPG"/>
          <p:cNvPicPr/>
          <p:nvPr/>
        </p:nvPicPr>
        <p:blipFill>
          <a:blip r:embed="rId2"/>
          <a:stretch/>
        </p:blipFill>
        <p:spPr>
          <a:xfrm>
            <a:off x="533520" y="243828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304920" y="91440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енький, удалень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возь землю проше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ую шапочку нашел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4114800" y="472428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стоит на крепкой нож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бурых листьях у дорож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IMG_1599.JPG"/>
          <p:cNvPicPr/>
          <p:nvPr/>
        </p:nvPicPr>
        <p:blipFill>
          <a:blip r:embed="rId1"/>
          <a:stretch/>
        </p:blipFill>
        <p:spPr>
          <a:xfrm>
            <a:off x="4343400" y="3657600"/>
            <a:ext cx="365760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" descr="IMG_1600.JPG"/>
          <p:cNvPicPr/>
          <p:nvPr/>
        </p:nvPicPr>
        <p:blipFill>
          <a:blip r:embed="rId2"/>
          <a:stretch/>
        </p:blipFill>
        <p:spPr>
          <a:xfrm>
            <a:off x="762120" y="304920"/>
            <a:ext cx="3429000" cy="2844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4495680" y="533520"/>
            <a:ext cx="3353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ичка лисичке сказала в лесу: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Не даром лисичкой зовут и лису!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а на лисичку похожа была бы,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бы не зубы, ни шерсть и не лапы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304920" y="3505320"/>
            <a:ext cx="41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увидите опят,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 собирайте всех подряд: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сотни - там, три сотни - тут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ята семьями растут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1" descr="IMG_1603.PNG"/>
          <p:cNvPicPr/>
          <p:nvPr/>
        </p:nvPicPr>
        <p:blipFill>
          <a:blip r:embed="rId1"/>
          <a:stretch/>
        </p:blipFill>
        <p:spPr>
          <a:xfrm>
            <a:off x="152280" y="609480"/>
            <a:ext cx="7696440" cy="55627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228600" y="2514600"/>
            <a:ext cx="487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 с вами набрали полные корзинки грибов. Давайте вспомним, какие грибы мы собирали? Молодцы ребят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еперь идем за ягодам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22-04-03T20:54:42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