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B4C-F17F-4F95-B237-1DF8B9BD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F9A-6117-4B4F-862F-93E70147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78B-6F06-4D04-8C41-ED7D4404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2F9-48D3-4554-98A9-EA6FC7D5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4D4-9C11-43EC-8818-E4C3661E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E52-4C3B-43AD-81D6-A2DC04C0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562-E244-4706-8910-A14D72AD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066-386B-4271-8A77-31F32BC4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C0D-60D5-47A9-BC65-953C9AAD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375-26B9-44CC-871C-522F586E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819-5E2A-4825-8EBA-11207D2B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E6B-2404-4199-8B60-327A0E26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65FB-4F7A-4C16-8445-7B3D8E05F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pamyat-naroda.ru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24000" y="423720"/>
            <a:ext cx="83516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редняя общеобразовательная школа № 7 города Г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енбург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2214720" y="1916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  <a:ea typeface="Calibri"/>
              </a:rPr>
              <a:t>«Наши вете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940200" y="393372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Работу выполн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Руссков Андрей Максим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ученик 4Г класса, МАОУ «СОШ№7 г. Г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Илющенко Татьяна Викто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учитель 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H:\4 класс\7 школа 4 класс\входящие\февраль\проект\изображение_viber_2022-02-23_21-46-45-775.jpg"/>
          <p:cNvPicPr/>
          <p:nvPr/>
        </p:nvPicPr>
        <p:blipFill>
          <a:blip r:embed="rId1"/>
          <a:stretch/>
        </p:blipFill>
        <p:spPr>
          <a:xfrm>
            <a:off x="3780000" y="404640"/>
            <a:ext cx="2232000" cy="4837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:\4 класс\7 школа 4 класс\входящие\февраль\проект\изображение_viber_2022-02-23_21-46-45-496.jpg"/>
          <p:cNvPicPr/>
          <p:nvPr/>
        </p:nvPicPr>
        <p:blipFill>
          <a:blip r:embed="rId2"/>
          <a:stretch/>
        </p:blipFill>
        <p:spPr>
          <a:xfrm>
            <a:off x="6372360" y="333360"/>
            <a:ext cx="2232000" cy="483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s://i.ytimg.com/vi/cs9hLHXyHiQ/maxresdefault.jpg"/>
          <p:cNvPicPr/>
          <p:nvPr/>
        </p:nvPicPr>
        <p:blipFill>
          <a:blip r:embed="rId3"/>
          <a:stretch/>
        </p:blipFill>
        <p:spPr>
          <a:xfrm>
            <a:off x="0" y="0"/>
            <a:ext cx="200016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mtdata.ru/u3/photoA0F7/20518149270-0/original.jpg"/>
          <p:cNvPicPr/>
          <p:nvPr/>
        </p:nvPicPr>
        <p:blipFill>
          <a:blip r:embed="rId4"/>
          <a:stretch/>
        </p:blipFill>
        <p:spPr>
          <a:xfrm>
            <a:off x="0" y="1125360"/>
            <a:ext cx="1979640" cy="263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s://pbs.twimg.com/media/C-us1BrXgAE7WZz.jpg:large"/>
          <p:cNvPicPr/>
          <p:nvPr/>
        </p:nvPicPr>
        <p:blipFill>
          <a:blip r:embed="rId5"/>
          <a:stretch/>
        </p:blipFill>
        <p:spPr>
          <a:xfrm>
            <a:off x="0" y="3789360"/>
            <a:ext cx="1908000" cy="14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0" y="5229360"/>
            <a:ext cx="86058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H:\4 класс\7 школа 4 класс\входящие\февраль\проект\изображение_viber_2022-02-23_22-10-55-129.jpg"/>
          <p:cNvPicPr/>
          <p:nvPr/>
        </p:nvPicPr>
        <p:blipFill>
          <a:blip r:embed="rId1"/>
          <a:stretch/>
        </p:blipFill>
        <p:spPr>
          <a:xfrm>
            <a:off x="2627280" y="549360"/>
            <a:ext cx="2725920" cy="590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s://files.sudrf.ru/1160/user/med3.jpg"/>
          <p:cNvPicPr/>
          <p:nvPr/>
        </p:nvPicPr>
        <p:blipFill>
          <a:blip r:embed="rId2"/>
          <a:stretch/>
        </p:blipFill>
        <p:spPr>
          <a:xfrm>
            <a:off x="5580000" y="620640"/>
            <a:ext cx="3167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3280" y="6083280"/>
            <a:ext cx="8910720" cy="77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s://mtdata.ru/u3/photoA0F7/20518149270-0/original.jpg"/>
          <p:cNvPicPr/>
          <p:nvPr/>
        </p:nvPicPr>
        <p:blipFill>
          <a:blip r:embed="rId2"/>
          <a:stretch/>
        </p:blipFill>
        <p:spPr>
          <a:xfrm>
            <a:off x="1763640" y="2708280"/>
            <a:ext cx="1817640" cy="2425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ttps://pbs.twimg.com/media/Dm-Jlc_WwAAJcgN.jpg:large"/>
          <p:cNvPicPr/>
          <p:nvPr/>
        </p:nvPicPr>
        <p:blipFill>
          <a:blip r:embed="rId3"/>
          <a:stretch/>
        </p:blipFill>
        <p:spPr>
          <a:xfrm>
            <a:off x="250920" y="2637000"/>
            <a:ext cx="1512720" cy="25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4"/>
          <a:stretch/>
        </p:blipFill>
        <p:spPr>
          <a:xfrm>
            <a:off x="6553080" y="0"/>
            <a:ext cx="2590920" cy="5613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5"/>
          <a:stretch/>
        </p:blipFill>
        <p:spPr>
          <a:xfrm>
            <a:off x="3881520" y="0"/>
            <a:ext cx="2612880" cy="5661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1042920" y="105264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лови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др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лларио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2"/>
          <p:cNvSpPr/>
          <p:nvPr/>
        </p:nvSpPr>
        <p:spPr>
          <a:xfrm>
            <a:off x="287280" y="115920"/>
            <a:ext cx="8569440" cy="41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Times New Roman"/>
                <a:ea typeface="Calibri"/>
              </a:rPr>
              <a:t>Мы благодарны тебе, солдат – победитель! И земле нашей, израненной, всё вынесшей, но так буйно цветущей этой семидесяти пятой мирной ве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гремели взрывы, отгрем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одину спасти они сум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Нелегко далась им та побе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За неё «спасибо» скажем де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ы, дети XXI века, не хотим жить для войны. Мы хотим учиться в школе, играть с друзьями, петь, веселиться, пускать кораблики по весенним лужам, рисовать, запускать в чистое голубое небо воздушного змея, сажать деревца – словом, светло и радостно жить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50920" y="907920"/>
            <a:ext cx="856908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шла война, прошла стра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 боль взывает к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авайте, люди, ни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этом не забуд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А. Твард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0" lang="tt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лет прошло с той поры, как отгремели последние выстрелы Великой Отечественной войны. Наш классный руководитель на занятии в группе продленного дня рассказывала нам о Сталинградской битве и о том, что ее прадед был участником тех страшных событий. Тогда я задумался: «А у ребят нашего класса есть такие прадеды-герои?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324000" y="18900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Актуа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Я считаю, что данная тема является 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актуальной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 по нескольким причи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о-первых, каждый год 9 мая наша страна празднует День Победы, это тот самый день, когда советский народ одержал великую победу над фашистами в годы 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о-вторых, к сожалению, все меньше остается в живых ветеранов, поэтому наша задача – собирать, изучать, хранить материалы о людях, защищавших нашу Род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-третьих, я считаю, что каждый человек должен знать свою родословную: судьбу своих дедов и прадедов, а затем свои знания передавать будущим поколени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527040" y="476280"/>
            <a:ext cx="808992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отез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ть ли прадеды-герои у учеников нашего класс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ши деды и прадеды отстояли мир, мы должны сохранить его! Только народ, который знает и помнит свою историю, традиции, героев достоин свободы и независимости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539640" y="530280"/>
            <a:ext cx="799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Цель моей работы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 поиск  информации об участниках 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Calibri"/>
              </a:rPr>
              <a:t>Великой Отечественной войны – прадедах ребят нашего класса на сайте «Память народа»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s://pamyat-naro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442800" y="3068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- разыскать информацию об участии наших прадедов в боевых дейст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66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узнать дальнейшую их судьбу в послевоенные 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4554360" y="549360"/>
            <a:ext cx="429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тоды исследования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зучение семейного архи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стречи с родствен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обобщение полученных результ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оформление собранного материала в форме презентации для применения в практической деятельности: на классных часах, на уроках окружающего мира, для родстве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442800" y="272880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нимаясь исследовательской работой, достигая поставленной цели, я увидел, что события Великой Отечественной войны не обошли стороной семьи ребят нашего класса. Перечисленные в презентации ветераны, участники Великой Отечественной войны, отдали за свободу Родины собственную жизнь. К сожалению, я не смог восстановить более подробные боевые события. Я сделал вывод о том, что наши прад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являются непосредственными участни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рических событий моей Родины и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емей перекликаются с историей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000" y="4437000"/>
            <a:ext cx="684036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осачёв Степан Афанасьеви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:\4 класс\7 школа 4 класс\февраль\31 01-04 02\сталинград\Medal_Za_oboronu_Stalingrada.png"/>
          <p:cNvPicPr/>
          <p:nvPr/>
        </p:nvPicPr>
        <p:blipFill>
          <a:blip r:embed="rId1"/>
          <a:stretch/>
        </p:blipFill>
        <p:spPr>
          <a:xfrm>
            <a:off x="2124000" y="333360"/>
            <a:ext cx="1311480" cy="230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:\4 класс\7 школа 4 класс\февраль\31 01-04 02\сталинград\Medal_Za_pobedu_nad_Germaniej.png"/>
          <p:cNvPicPr/>
          <p:nvPr/>
        </p:nvPicPr>
        <p:blipFill>
          <a:blip r:embed="rId2"/>
          <a:stretch/>
        </p:blipFill>
        <p:spPr>
          <a:xfrm>
            <a:off x="3492360" y="333360"/>
            <a:ext cx="1295640" cy="22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:\4 класс\7 школа 4 класс\февраль\31 01-04 02\сталинград\Orden_Otechestvennoj_vojny_2st.png"/>
          <p:cNvPicPr/>
          <p:nvPr/>
        </p:nvPicPr>
        <p:blipFill>
          <a:blip r:embed="rId3"/>
          <a:stretch/>
        </p:blipFill>
        <p:spPr>
          <a:xfrm>
            <a:off x="4716360" y="189000"/>
            <a:ext cx="2303640" cy="249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7524720" y="0"/>
            <a:ext cx="1619280" cy="351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7564320" y="3213000"/>
            <a:ext cx="15796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H:\4 класс\7 школа 4 класс\февраль\31 01-04 02\сталинград\00000095.jpg"/>
          <p:cNvPicPr/>
          <p:nvPr/>
        </p:nvPicPr>
        <p:blipFill>
          <a:blip r:embed="rId1"/>
          <a:stretch/>
        </p:blipFill>
        <p:spPr>
          <a:xfrm>
            <a:off x="0" y="0"/>
            <a:ext cx="47116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1T16:07:11Z</dcterms:created>
  <dc:creator>Рушан</dc:creator>
  <dc:description/>
  <dc:language>en-US</dc:language>
  <cp:lastModifiedBy>root</cp:lastModifiedBy>
  <dcterms:modified xsi:type="dcterms:W3CDTF">2022-04-03T02:04:42Z</dcterms:modified>
  <cp:revision>18</cp:revision>
  <dc:subject/>
  <dc:title>Презентация PowerPoint</dc:title>
</cp:coreProperties>
</file>