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170-53C2-49AB-8EA0-B3542831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503-1C5B-494E-BE02-59117155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B38-5471-4FC9-9B6D-850C9C35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C18-F2D0-4F84-B9BC-39DA3F8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7E9-1DE0-4331-A61B-D9304173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99F-8BAC-463E-91D5-BE351E40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A27-9ECB-486D-9849-8C8A461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66A-47AB-4995-AE53-C92705D5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9A2-DB9D-4229-816D-746F614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056-738F-4B1E-8966-3BADFA5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6CF-772A-484C-8D28-5FDE826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24F-8997-4865-90FE-3312FA6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CCC-48B6-4CFB-94B0-E83740EF7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468360" y="476280"/>
            <a:ext cx="8496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Вера, надежда, любовь, бескорыст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риск и терпение! Терпе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Воспитание  – это  терп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онимать, принимать, терпеть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Где не хватает терпения надо бы постараться  поня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где не понимаю  –постараться вытерпеть, и всегда я принимаю ребен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всегда любл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имон Соловейчи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0" y="-792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ОДИТЕЛЬСКОЕ СОБР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 Возрастные особенности  третьеклассников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0920" y="40464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етям не только нужен порядок и правила поведения. Они хотят и ждут их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то делает их жизнь понят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едсказуемо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здает чувство безопас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 найти пути к бесконфликтной дисциплине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 воспитать ребёнка внутрен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бранным и ответствен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ловеко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69920" y="-31680"/>
            <a:ext cx="8137440" cy="72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А БЕЗКОНФЛИКТНОЙ ДИСЦИПЛИН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1.Правила (ограничения, требования, запреты) обязательно должны быть в жизни кажд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2.Правила (ограничения, требования, запреты) не должно быть слишком много, и они должны быть гиб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3. Правила (ограничения, требования, запреты) должны быть согласованы взрослыми между соб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4. Не менее важна последовательность в соблюдении прави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5.Тон, в котором сообщается требование или запрет, должен быть скорее дружественно-разъяснительным, чем повелитель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6.Наказывать ребенка лучше, лишая его хорошег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чем делая ему плох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мья, его родные и близкие люд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лавный помощник и советчик  ребёнку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-1251360"/>
            <a:ext cx="74167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Cambria"/>
              </a:rPr>
              <a:t>«Воспитание детей – это мудрое ограничение. Ребенок должен понять, что есть три вещи: можно, нельзя, надо»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Cambria"/>
              </a:rPr>
              <a:t>(В.А. Сухомлинск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79280" y="260280"/>
            <a:ext cx="4753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ретий класс является переломным в жизни младшего школьника. Их физическое взросление сопровождается социальным взрослением: расширяется круг друзей и в этот круг входят ребята не только этого возраста, но и те, кто постарш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divorcehelper.net/wp-content/uploads/2013/07/child-div.jpg"/>
          <p:cNvPicPr/>
          <p:nvPr/>
        </p:nvPicPr>
        <p:blipFill>
          <a:blip r:embed="rId1"/>
          <a:stretch/>
        </p:blipFill>
        <p:spPr>
          <a:xfrm>
            <a:off x="4643280" y="3435480"/>
            <a:ext cx="4388040" cy="335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71640" y="40464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сихологические особен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етей 9 – 10 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189000"/>
            <a:ext cx="727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1.  Дети начинают действительно осознанно относиться к учению, начинают анализировать свои поступки и поступки других людей, родителей, уч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2.  В этот период у некоторых детей происходит снижение самооценки, он думает «Я плохой, потому что не так пишу или читаю». Он перестает верить в свои возмож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3.  Между вторым и третьим классами происходит скачок в   умственном развитии учащихся. Происходит активное усвоение и формирование мыслительных операц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4.  «Золотой возраст памят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5.  Ребенок становится более критичным по отношению к взрослым, может сформулировать, что ему нравится, а что не по душе. 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765000"/>
            <a:ext cx="720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5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.   У некоторых детей наблюдается сильное стремление к лидерству, острое переживание при невозможности его реализова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6.   Ребенок хорошо осознает свою роль в семье, оценивает отношения между родителями. Глубоко страдает, если они его не удовлетворяют. Резко выражает свои чувства. Сначала говорит, а потом думает. Эмоционально быстро включается в спо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7.   Начинает развиваться чувство юмора. Желает рассказывать смешные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8.  Дети начинают беспокоиться, насколько их внешность отвечает эталонам в их ближайшем окруж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0" y="2133720"/>
            <a:ext cx="55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Учить самоконтролю: когда быть серьезным и спокойным, а когда быть весел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Учить терпимости . Рассматривать вс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факты до принятия 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Учить уважать права и чувства других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Научить смеяться над собой. Не произнос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тех шуток, которые будут оскорбля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друг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bukvic.ru/wp-content/uploads/2015/01/Rastim-schastlivuyu-volshebnicu-v-restorane-Dumka_full.jpg"/>
          <p:cNvPicPr/>
          <p:nvPr/>
        </p:nvPicPr>
        <p:blipFill>
          <a:blip r:embed="rId1"/>
          <a:stretch/>
        </p:blipFill>
        <p:spPr>
          <a:xfrm>
            <a:off x="5435640" y="3492360"/>
            <a:ext cx="3708360" cy="33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189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Что необходимо вашему ребёнку  сейча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Вера в свои силы, успехи. Возможно, вам стоит временно помогать ей делать уроки. Но не жестко контролировать, а именно помогать распределять время.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Единственное, самая неблагодарная для них почва - это непрерывный родительский контро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Обучать ребенка личной гигиене, уходу за своей одеждой, комнатой, приучать к пунктуа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08000" y="11592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РОДИТЕЛЯ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«На ошибках учат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зволяйте вашему ребенку встречаться с отрицательными последствиями сво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действий (или своего бездействи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Только тогда он будет взрослеть и становиться «сознательны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Нам приходится набираться мужества и сознательно давать детям делать ошиб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чтобы они научились бы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самостоятель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http://system-sfinks.ru/wp-content/uploads/2013/10/strah_error.jpg"/>
          <p:cNvPicPr/>
          <p:nvPr/>
        </p:nvPicPr>
        <p:blipFill>
          <a:blip r:embed="rId1"/>
          <a:stretch/>
        </p:blipFill>
        <p:spPr>
          <a:xfrm>
            <a:off x="4859280" y="3500280"/>
            <a:ext cx="4284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08000" y="260280"/>
            <a:ext cx="7416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Возьмите лист бумаги, разделите его вертикальной линией пополам. Над левой ч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напишите: «Сам», над правой — «Вместе». Перечислите в них те дела, которые ваш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шает и делает сам, и те, в которых вы обычно участвуе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Делаю с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. Встаю и собираюсь в шк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2. Решаю, когда сесть за уро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3. Перехожу улицу и могу переводить младших брата и сест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4. Решаю, когда мне мы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5. Выбираю, с кем дружи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6. Разогреваю и иногда готовлю себе еду, кормлю младши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Вместе с мам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. Иногда делаем математику; мама объясня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2. Решаем, когда можно пригласить к нам друз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3. Делим купленные игрушки или конф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4. Иногда спрашиваю совета у мамы, чем мне заня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5. Решаем, что будем делать в воскресень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18900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ервый и главный путь: постарайтесь обращать внимание не только на отрицательны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но и на положительные стороны поведения вашего реб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Для начала найдите в течение дня несколько положительных поводов сказать ребен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добрые сло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«Спасибо, что ты сх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в магазин за продуктам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«Хорошо, что ты прише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когда обещал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«Мне нравится готов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с тобой вмест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http://cs624218.vk.me/v624218900/448d4/gH51Rlk0Xg8.jpg"/>
          <p:cNvPicPr/>
          <p:nvPr/>
        </p:nvPicPr>
        <p:blipFill>
          <a:blip r:embed="rId1"/>
          <a:stretch/>
        </p:blipFill>
        <p:spPr>
          <a:xfrm>
            <a:off x="4627440" y="3429000"/>
            <a:ext cx="4505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24000" y="476280"/>
            <a:ext cx="653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Как же сказать о своих чувствах ребенку, чтобы это не было разрушительно ни для него, ни для в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Когда вы говорите своих чувствах ребенку, говорите от ПЕРВОГО ЛИ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 СЕБЕ, О СВОЕМ переживании, а не о нем, не о его повед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Мне не нравится, ког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за стол садятся с грязными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Мне сегодня стыдно 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твой поступ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Мы с папой сегодн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очень расстроились, посмотр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днев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https://nasledie77.files.wordpress.com/2015/02/d0bdd0b5-d0bfd0bbd0b0d187d18c-d0bcd0b0d0bcd0b0-d0b2-d0bed0bfd182d0b8d0bdd0bed0b9.jpg"/>
          <p:cNvPicPr/>
          <p:nvPr/>
        </p:nvPicPr>
        <p:blipFill>
          <a:blip r:embed="rId1"/>
          <a:stretch/>
        </p:blipFill>
        <p:spPr>
          <a:xfrm>
            <a:off x="5651640" y="2924280"/>
            <a:ext cx="3400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Cab-3</cp:lastModifiedBy>
  <dcterms:modified xsi:type="dcterms:W3CDTF">2021-09-09T05:07:11Z</dcterms:modified>
  <cp:revision>45</cp:revision>
  <dc:subject/>
  <dc:title>Слайд 1</dc:title>
</cp:coreProperties>
</file>