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140-3698-402D-BA2C-1309740E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027-C88F-493D-A11C-37D62BE7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FB4-60A7-49B1-B2EE-FED90D12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605-8460-4BB3-B2AE-49BE2520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DB0-0AA5-4816-B601-2B00AB95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902-60A8-4919-83AB-DF8EA606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8B2-47A4-4534-9875-90E9C870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701-713C-4B8B-A46C-2F2C4073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F60-1B87-44C7-BA5C-AFFEBDE1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33E-D145-4088-ADB9-9CFFDBD2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EAE-F9D2-4750-A1DA-50B3E250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4B9-D22B-404E-B1BB-B8579875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A25A-FC92-4888-A71B-719B2E798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1T15:16:56Z</dcterms:created>
  <dc:creator>emachines</dc:creator>
  <dc:description/>
  <dc:language>en-US</dc:language>
  <cp:lastModifiedBy>emachines</cp:lastModifiedBy>
  <dcterms:modified xsi:type="dcterms:W3CDTF">2022-03-21T15:17:13Z</dcterms:modified>
  <cp:revision>1</cp:revision>
  <dc:subject/>
  <dc:title>Слайд 1</dc:title>
</cp:coreProperties>
</file>