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B11-B421-4C21-ABFF-EE6B891E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40A-33C6-473D-8E87-D0B00CF3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C46-19AC-45AE-A635-CBC31707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D51-16C3-4CF4-A2F4-3B046FB2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B54-89AF-4E76-9DCA-E0D999C3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E05-82CC-4ADA-8D1A-3358BDAB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813-A302-4E45-92FF-D94123A8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D79-7606-434E-BE4E-4B1AE48A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8A8-07E8-4325-9E85-3BD80F4B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40C-2DC6-4385-90AD-87426D54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ACF-F8FE-485D-80B4-6ABD33DD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6AD-B0F1-4EBF-A4A4-402308E9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B7F1-CE7F-4669-8DCC-DEB230C3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1T14:56:43Z</dcterms:created>
  <dc:creator>emachines</dc:creator>
  <dc:description/>
  <dc:language>en-US</dc:language>
  <cp:lastModifiedBy>emachines</cp:lastModifiedBy>
  <dcterms:modified xsi:type="dcterms:W3CDTF">2022-03-21T14:56:59Z</dcterms:modified>
  <cp:revision>1</cp:revision>
  <dc:subject/>
  <dc:title>Слайд 1</dc:title>
</cp:coreProperties>
</file>