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BD9-98BC-4A3D-A448-F0576581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41D-BD70-469C-8834-950F9F8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BF5-DB2A-448B-87BA-256FEC2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A05-A7C7-466E-87A1-BB6E7E8C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D0A-2123-4464-A9F9-9B141DB2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C74-7579-4F06-A1AF-F76BF4D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56D-6AD4-4CF4-8C74-3136FB1B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68A-8BF0-4C20-B0E5-569BD8D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EC6-F49F-4D33-B465-7E729861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052-6D45-437E-B67C-2F77753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597-1D69-4538-9473-6FF440AD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3C7-84F6-4DD5-A554-0276936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5AE6-2DBF-45C0-BEF1-09C60E4DF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14:39:33Z</dcterms:created>
  <dc:creator>emachines</dc:creator>
  <dc:description/>
  <dc:language>en-US</dc:language>
  <cp:lastModifiedBy>emachines</cp:lastModifiedBy>
  <dcterms:modified xsi:type="dcterms:W3CDTF">2022-03-21T14:39:45Z</dcterms:modified>
  <cp:revision>1</cp:revision>
  <dc:subject/>
  <dc:title>Слайд 1</dc:title>
</cp:coreProperties>
</file>