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99B-0B5C-445A-B916-2D232B21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B85-0375-4DDD-9A01-9B666D3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B66-1734-48AB-A955-CC897655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7D5-0335-4789-9294-44F963F9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DEC-1CD1-4C54-9CA8-20157371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735-329F-4D4C-AE4E-DC4649CC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ED-EF5F-4F77-9FCF-D34B4C5B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22C-3C84-45AF-A0AB-1D2CB5CB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78F-3277-4436-A0C3-54F4E579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A3E-A475-463C-B8F0-314B97D6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03D-0EE4-4C5B-9A31-5894B1D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E1C-C7F5-443A-B107-6F06DE6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6606F81-CB71-4D65-B481-185319C2976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031760" y="1517760"/>
            <a:ext cx="69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оич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689360" y="2714760"/>
            <a:ext cx="396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информатики и ИКТ школы №47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харов Илья Николае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7200" y="511200"/>
            <a:ext cx="532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число 15 из десятичной системы счисл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в двоичную систему счис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3715920" y="1312920"/>
            <a:ext cx="178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5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111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301840" y="1903320"/>
          <a:ext cx="4686480" cy="2820960"/>
        </p:xfrm>
        <a:graphic>
          <a:graphicData uri="http://schemas.openxmlformats.org/drawingml/2006/table">
            <a:tbl>
              <a:tblPr/>
              <a:tblGrid>
                <a:gridCol w="936720"/>
                <a:gridCol w="938160"/>
                <a:gridCol w="936720"/>
                <a:gridCol w="938160"/>
                <a:gridCol w="936720"/>
              </a:tblGrid>
              <a:tr h="563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27" name="Группа 35"/>
          <p:cNvGrpSpPr/>
          <p:nvPr/>
        </p:nvGrpSpPr>
        <p:grpSpPr>
          <a:xfrm>
            <a:off x="2324160" y="1913040"/>
            <a:ext cx="1836720" cy="1119240"/>
            <a:chOff x="2324160" y="1913040"/>
            <a:chExt cx="1836720" cy="1119240"/>
          </a:xfrm>
        </p:grpSpPr>
        <p:grpSp>
          <p:nvGrpSpPr>
            <p:cNvPr id="128" name="Группа 32"/>
            <p:cNvGrpSpPr/>
            <p:nvPr/>
          </p:nvGrpSpPr>
          <p:grpSpPr>
            <a:xfrm>
              <a:off x="2324160" y="1913040"/>
              <a:ext cx="922320" cy="1119240"/>
              <a:chOff x="2324160" y="1913040"/>
              <a:chExt cx="922320" cy="1119240"/>
            </a:xfrm>
          </p:grpSpPr>
          <p:sp>
            <p:nvSpPr>
              <p:cNvPr id="129" name="Прямая соединительная линия 15"/>
              <p:cNvSpPr/>
              <p:nvPr/>
            </p:nvSpPr>
            <p:spPr>
              <a:xfrm>
                <a:off x="3238560" y="1913040"/>
                <a:ext cx="0" cy="111132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Прямая соединительная линия 17"/>
              <p:cNvSpPr/>
              <p:nvPr/>
            </p:nvSpPr>
            <p:spPr>
              <a:xfrm>
                <a:off x="2324160" y="303228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" name="Прямая соединительная линия 33"/>
            <p:cNvSpPr/>
            <p:nvPr/>
          </p:nvSpPr>
          <p:spPr>
            <a:xfrm>
              <a:off x="3230640" y="246060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Прямая соединительная линия 37"/>
          <p:cNvSpPr/>
          <p:nvPr/>
        </p:nvSpPr>
        <p:spPr>
          <a:xfrm>
            <a:off x="2049480" y="2460600"/>
            <a:ext cx="2062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Группа 38"/>
          <p:cNvGrpSpPr/>
          <p:nvPr/>
        </p:nvGrpSpPr>
        <p:grpSpPr>
          <a:xfrm>
            <a:off x="3254400" y="2454120"/>
            <a:ext cx="1835280" cy="1119240"/>
            <a:chOff x="3254400" y="2454120"/>
            <a:chExt cx="1835280" cy="1119240"/>
          </a:xfrm>
        </p:grpSpPr>
        <p:grpSp>
          <p:nvGrpSpPr>
            <p:cNvPr id="134" name="Группа 39"/>
            <p:cNvGrpSpPr/>
            <p:nvPr/>
          </p:nvGrpSpPr>
          <p:grpSpPr>
            <a:xfrm>
              <a:off x="3254400" y="2454120"/>
              <a:ext cx="921600" cy="1119240"/>
              <a:chOff x="3254400" y="2454120"/>
              <a:chExt cx="921600" cy="1119240"/>
            </a:xfrm>
          </p:grpSpPr>
          <p:sp>
            <p:nvSpPr>
              <p:cNvPr id="135" name="Прямая соединительная линия 41"/>
              <p:cNvSpPr/>
              <p:nvPr/>
            </p:nvSpPr>
            <p:spPr>
              <a:xfrm>
                <a:off x="4160160" y="2454120"/>
                <a:ext cx="0" cy="111132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Прямая соединительная линия 42"/>
              <p:cNvSpPr/>
              <p:nvPr/>
            </p:nvSpPr>
            <p:spPr>
              <a:xfrm>
                <a:off x="3254400" y="3573360"/>
                <a:ext cx="92160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Прямая соединительная линия 40"/>
            <p:cNvSpPr/>
            <p:nvPr/>
          </p:nvSpPr>
          <p:spPr>
            <a:xfrm>
              <a:off x="4160880" y="3017880"/>
              <a:ext cx="92880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Прямая соединительная линия 43"/>
          <p:cNvSpPr/>
          <p:nvPr/>
        </p:nvSpPr>
        <p:spPr>
          <a:xfrm>
            <a:off x="3292560" y="3040200"/>
            <a:ext cx="20484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Группа 44"/>
          <p:cNvGrpSpPr/>
          <p:nvPr/>
        </p:nvGrpSpPr>
        <p:grpSpPr>
          <a:xfrm>
            <a:off x="4194000" y="3006720"/>
            <a:ext cx="1841760" cy="1154160"/>
            <a:chOff x="4194000" y="3006720"/>
            <a:chExt cx="1841760" cy="1154160"/>
          </a:xfrm>
        </p:grpSpPr>
        <p:grpSp>
          <p:nvGrpSpPr>
            <p:cNvPr id="140" name="Группа 45"/>
            <p:cNvGrpSpPr/>
            <p:nvPr/>
          </p:nvGrpSpPr>
          <p:grpSpPr>
            <a:xfrm>
              <a:off x="4194000" y="3006720"/>
              <a:ext cx="922320" cy="1154160"/>
              <a:chOff x="4194000" y="3006720"/>
              <a:chExt cx="922320" cy="1154160"/>
            </a:xfrm>
          </p:grpSpPr>
          <p:sp>
            <p:nvSpPr>
              <p:cNvPr id="141" name="Прямая соединительная линия 47"/>
              <p:cNvSpPr/>
              <p:nvPr/>
            </p:nvSpPr>
            <p:spPr>
              <a:xfrm>
                <a:off x="5105520" y="3006720"/>
                <a:ext cx="0" cy="115416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Прямая соединительная линия 48"/>
              <p:cNvSpPr/>
              <p:nvPr/>
            </p:nvSpPr>
            <p:spPr>
              <a:xfrm>
                <a:off x="4194000" y="414504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Прямая соединительная линия 46"/>
            <p:cNvSpPr/>
            <p:nvPr/>
          </p:nvSpPr>
          <p:spPr>
            <a:xfrm>
              <a:off x="5105520" y="358452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50"/>
          <p:cNvSpPr/>
          <p:nvPr/>
        </p:nvSpPr>
        <p:spPr>
          <a:xfrm>
            <a:off x="4183200" y="3602160"/>
            <a:ext cx="2044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51"/>
          <p:cNvSpPr/>
          <p:nvPr/>
        </p:nvSpPr>
        <p:spPr>
          <a:xfrm>
            <a:off x="5353200" y="365760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Овал 52"/>
          <p:cNvSpPr/>
          <p:nvPr/>
        </p:nvSpPr>
        <p:spPr>
          <a:xfrm>
            <a:off x="4419720" y="423396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Овал 53"/>
          <p:cNvSpPr/>
          <p:nvPr/>
        </p:nvSpPr>
        <p:spPr>
          <a:xfrm>
            <a:off x="3490920" y="3672000"/>
            <a:ext cx="466560" cy="452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вал 54"/>
          <p:cNvSpPr/>
          <p:nvPr/>
        </p:nvSpPr>
        <p:spPr>
          <a:xfrm>
            <a:off x="2552760" y="310032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0" y="384120"/>
            <a:ext cx="9144000" cy="447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3643200" y="477720"/>
            <a:ext cx="15829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218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08200" y="1119240"/>
          <a:ext cx="7103880" cy="2711520"/>
        </p:xfrm>
        <a:graphic>
          <a:graphicData uri="http://schemas.openxmlformats.org/drawingml/2006/table">
            <a:tbl>
              <a:tblPr/>
              <a:tblGrid>
                <a:gridCol w="1133280"/>
                <a:gridCol w="746280"/>
                <a:gridCol w="745920"/>
                <a:gridCol w="746280"/>
                <a:gridCol w="745920"/>
                <a:gridCol w="747720"/>
                <a:gridCol w="746280"/>
                <a:gridCol w="745920"/>
                <a:gridCol w="74628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Segoe UI Light"/>
                          <a:ea typeface="Segoe UI Light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b2f3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Segoe UI Light"/>
                          <a:ea typeface="Segoe UI Light"/>
                        </a:rPr>
                        <a:t>Де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b2f3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Segoe UI Light"/>
                          <a:ea typeface="Segoe UI Light"/>
                        </a:rPr>
                        <a:t>Оста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4b2f3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3" name="Прямая со стрелкой 6"/>
          <p:cNvCxnSpPr/>
          <p:nvPr/>
        </p:nvCxnSpPr>
        <p:spPr>
          <a:xfrm flipH="1">
            <a:off x="1986840" y="4014360"/>
            <a:ext cx="559980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sp>
        <p:nvSpPr>
          <p:cNvPr id="154" name="Прямоугольник 7"/>
          <p:cNvSpPr/>
          <p:nvPr/>
        </p:nvSpPr>
        <p:spPr>
          <a:xfrm>
            <a:off x="3291840" y="4108320"/>
            <a:ext cx="26496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218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11011010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5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"/>
          <p:cNvSpPr/>
          <p:nvPr/>
        </p:nvSpPr>
        <p:spPr>
          <a:xfrm>
            <a:off x="0" y="1055520"/>
            <a:ext cx="9144000" cy="3424320"/>
          </a:xfrm>
          <a:prstGeom prst="rect">
            <a:avLst/>
          </a:prstGeom>
          <a:solidFill>
            <a:srgbClr val="ffffff">
              <a:alpha val="84000"/>
            </a:srgbClr>
          </a:solidFill>
          <a:ln w="12600">
            <a:solidFill>
              <a:srgbClr val="f1f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2"/>
          <a:stretch/>
        </p:blipFill>
        <p:spPr>
          <a:xfrm>
            <a:off x="6622920" y="2627280"/>
            <a:ext cx="2521080" cy="25164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-76320" y="0"/>
            <a:ext cx="92203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6" descr=""/>
          <p:cNvPicPr/>
          <p:nvPr/>
        </p:nvPicPr>
        <p:blipFill>
          <a:blip r:embed="rId3"/>
          <a:stretch/>
        </p:blipFill>
        <p:spPr>
          <a:xfrm>
            <a:off x="0" y="55440"/>
            <a:ext cx="1644480" cy="594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4"/>
          <a:stretch/>
        </p:blipFill>
        <p:spPr>
          <a:xfrm>
            <a:off x="1539720" y="57240"/>
            <a:ext cx="164484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8" descr=""/>
          <p:cNvPicPr/>
          <p:nvPr/>
        </p:nvPicPr>
        <p:blipFill>
          <a:blip r:embed="rId5"/>
          <a:stretch/>
        </p:blipFill>
        <p:spPr>
          <a:xfrm>
            <a:off x="6237360" y="36360"/>
            <a:ext cx="1644480" cy="594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6"/>
          <a:stretch/>
        </p:blipFill>
        <p:spPr>
          <a:xfrm>
            <a:off x="7777080" y="38160"/>
            <a:ext cx="1644840" cy="5936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с двумя усеченными противолежащими углами 10"/>
          <p:cNvSpPr/>
          <p:nvPr/>
        </p:nvSpPr>
        <p:spPr>
          <a:xfrm flipH="1">
            <a:off x="2382840" y="84240"/>
            <a:ext cx="4316400" cy="726840"/>
          </a:xfrm>
          <a:custGeom>
            <a:avLst/>
            <a:gdLst/>
            <a:ahLst/>
            <a:rect l="l" t="t" r="r" b="b"/>
            <a:pathLst>
              <a:path w="4316412" h="727075">
                <a:moveTo>
                  <a:pt x="0" y="0"/>
                </a:moveTo>
                <a:lnTo>
                  <a:pt x="4098290" y="0"/>
                </a:lnTo>
                <a:lnTo>
                  <a:pt x="4316412" y="218123"/>
                </a:lnTo>
                <a:lnTo>
                  <a:pt x="4316412" y="727075"/>
                </a:lnTo>
                <a:lnTo>
                  <a:pt x="4316412" y="727075"/>
                </a:lnTo>
                <a:lnTo>
                  <a:pt x="218123" y="727075"/>
                </a:lnTo>
                <a:lnTo>
                  <a:pt x="0" y="508953"/>
                </a:lnTo>
                <a:lnTo>
                  <a:pt x="0" y="0"/>
                </a:lnTo>
                <a:close/>
              </a:path>
            </a:pathLst>
          </a:custGeom>
          <a:solidFill>
            <a:srgbClr val="e9d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с двумя усеченными противолежащими углами 11"/>
          <p:cNvSpPr/>
          <p:nvPr/>
        </p:nvSpPr>
        <p:spPr>
          <a:xfrm flipH="1">
            <a:off x="2444760" y="0"/>
            <a:ext cx="4314960" cy="727200"/>
          </a:xfrm>
          <a:custGeom>
            <a:avLst/>
            <a:gdLst/>
            <a:ahLst/>
            <a:rect l="l" t="t" r="r" b="b"/>
            <a:pathLst>
              <a:path w="4314825" h="727075">
                <a:moveTo>
                  <a:pt x="0" y="0"/>
                </a:moveTo>
                <a:lnTo>
                  <a:pt x="4139469" y="0"/>
                </a:lnTo>
                <a:lnTo>
                  <a:pt x="4314825" y="175356"/>
                </a:lnTo>
                <a:lnTo>
                  <a:pt x="4314825" y="727075"/>
                </a:lnTo>
                <a:lnTo>
                  <a:pt x="4314825" y="727075"/>
                </a:lnTo>
                <a:lnTo>
                  <a:pt x="175356" y="727075"/>
                </a:lnTo>
                <a:lnTo>
                  <a:pt x="0" y="551719"/>
                </a:lnTo>
                <a:lnTo>
                  <a:pt x="0" y="0"/>
                </a:lnTo>
                <a:close/>
              </a:path>
            </a:pathLst>
          </a:cu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627280" y="47520"/>
            <a:ext cx="39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равило перевода двоичного чис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в десятичное числ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133640" y="1733400"/>
            <a:ext cx="4809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Для перевода двоичного числа в десятичное необходимо это число представить в виде суммы произведений степеней основания двоичной системы счисления на соответствующие цифры в разрядах двоичного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0" y="384120"/>
            <a:ext cx="9144000" cy="447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3506760" y="477720"/>
            <a:ext cx="24516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0110110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65200" y="1119240"/>
          <a:ext cx="5970600" cy="1806480"/>
        </p:xfrm>
        <a:graphic>
          <a:graphicData uri="http://schemas.openxmlformats.org/drawingml/2006/table">
            <a:tbl>
              <a:tblPr/>
              <a:tblGrid>
                <a:gridCol w="746280"/>
                <a:gridCol w="745920"/>
                <a:gridCol w="746280"/>
                <a:gridCol w="745920"/>
                <a:gridCol w="747720"/>
                <a:gridCol w="746280"/>
                <a:gridCol w="746280"/>
                <a:gridCol w="7459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5"/>
          <p:cNvSpPr/>
          <p:nvPr/>
        </p:nvSpPr>
        <p:spPr>
          <a:xfrm>
            <a:off x="504720" y="3257640"/>
            <a:ext cx="863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1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7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0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6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1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5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1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4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0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3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1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2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1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1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+ 0·2</a:t>
            </a:r>
            <a:r>
              <a:rPr b="0" lang="ru-RU" sz="20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0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= 128+32+16+4+2=182</a:t>
            </a:r>
            <a:r>
              <a:rPr b="0" lang="ru-RU" sz="20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3245760" y="3887640"/>
            <a:ext cx="26496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0110110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182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57200" y="511200"/>
            <a:ext cx="532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число 21 из десятичной системы счисл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в двоичную систему счис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306000" y="2627280"/>
            <a:ext cx="140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2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35240" y="1284120"/>
          <a:ext cx="4686120" cy="2821320"/>
        </p:xfrm>
        <a:graphic>
          <a:graphicData uri="http://schemas.openxmlformats.org/drawingml/2006/table">
            <a:tbl>
              <a:tblPr/>
              <a:tblGrid>
                <a:gridCol w="936720"/>
                <a:gridCol w="938160"/>
                <a:gridCol w="936720"/>
                <a:gridCol w="938160"/>
                <a:gridCol w="936360"/>
              </a:tblGrid>
              <a:tr h="563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Прямоугольник 20"/>
          <p:cNvSpPr/>
          <p:nvPr/>
        </p:nvSpPr>
        <p:spPr>
          <a:xfrm>
            <a:off x="3360600" y="2568600"/>
            <a:ext cx="66204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21"/>
          <p:cNvSpPr/>
          <p:nvPr/>
        </p:nvSpPr>
        <p:spPr>
          <a:xfrm>
            <a:off x="4313160" y="2568600"/>
            <a:ext cx="66204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2"/>
          <p:cNvSpPr/>
          <p:nvPr/>
        </p:nvSpPr>
        <p:spPr>
          <a:xfrm>
            <a:off x="3406680" y="3132000"/>
            <a:ext cx="6620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5192640" y="3068640"/>
            <a:ext cx="6634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4230720" y="361152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7"/>
          <p:cNvSpPr/>
          <p:nvPr/>
        </p:nvSpPr>
        <p:spPr>
          <a:xfrm>
            <a:off x="3368520" y="3726000"/>
            <a:ext cx="6620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8"/>
          <p:cNvSpPr/>
          <p:nvPr/>
        </p:nvSpPr>
        <p:spPr>
          <a:xfrm>
            <a:off x="4373640" y="427500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9"/>
          <p:cNvSpPr/>
          <p:nvPr/>
        </p:nvSpPr>
        <p:spPr>
          <a:xfrm>
            <a:off x="3382920" y="198108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30"/>
          <p:cNvSpPr/>
          <p:nvPr/>
        </p:nvSpPr>
        <p:spPr>
          <a:xfrm>
            <a:off x="2378160" y="2560680"/>
            <a:ext cx="6620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1"/>
          <p:cNvSpPr/>
          <p:nvPr/>
        </p:nvSpPr>
        <p:spPr>
          <a:xfrm>
            <a:off x="2370240" y="3108240"/>
            <a:ext cx="6620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Группа 35"/>
          <p:cNvGrpSpPr/>
          <p:nvPr/>
        </p:nvGrpSpPr>
        <p:grpSpPr>
          <a:xfrm>
            <a:off x="2257560" y="1293840"/>
            <a:ext cx="1836720" cy="1119240"/>
            <a:chOff x="2257560" y="1293840"/>
            <a:chExt cx="1836720" cy="1119240"/>
          </a:xfrm>
        </p:grpSpPr>
        <p:grpSp>
          <p:nvGrpSpPr>
            <p:cNvPr id="190" name="Группа 32"/>
            <p:cNvGrpSpPr/>
            <p:nvPr/>
          </p:nvGrpSpPr>
          <p:grpSpPr>
            <a:xfrm>
              <a:off x="2257560" y="1293840"/>
              <a:ext cx="922320" cy="1119240"/>
              <a:chOff x="2257560" y="1293840"/>
              <a:chExt cx="922320" cy="1119240"/>
            </a:xfrm>
          </p:grpSpPr>
          <p:sp>
            <p:nvSpPr>
              <p:cNvPr id="191" name="Прямая соединительная линия 15"/>
              <p:cNvSpPr/>
              <p:nvPr/>
            </p:nvSpPr>
            <p:spPr>
              <a:xfrm>
                <a:off x="3171960" y="1293840"/>
                <a:ext cx="0" cy="111132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Прямая соединительная линия 17"/>
              <p:cNvSpPr/>
              <p:nvPr/>
            </p:nvSpPr>
            <p:spPr>
              <a:xfrm>
                <a:off x="2257560" y="241308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Прямая соединительная линия 33"/>
            <p:cNvSpPr/>
            <p:nvPr/>
          </p:nvSpPr>
          <p:spPr>
            <a:xfrm>
              <a:off x="3164040" y="184140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Прямая соединительная линия 37"/>
          <p:cNvSpPr/>
          <p:nvPr/>
        </p:nvSpPr>
        <p:spPr>
          <a:xfrm>
            <a:off x="1982880" y="1841400"/>
            <a:ext cx="2062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Группа 38"/>
          <p:cNvGrpSpPr/>
          <p:nvPr/>
        </p:nvGrpSpPr>
        <p:grpSpPr>
          <a:xfrm>
            <a:off x="3187800" y="1835280"/>
            <a:ext cx="1834920" cy="1118880"/>
            <a:chOff x="3187800" y="1835280"/>
            <a:chExt cx="1834920" cy="1118880"/>
          </a:xfrm>
        </p:grpSpPr>
        <p:grpSp>
          <p:nvGrpSpPr>
            <p:cNvPr id="196" name="Группа 39"/>
            <p:cNvGrpSpPr/>
            <p:nvPr/>
          </p:nvGrpSpPr>
          <p:grpSpPr>
            <a:xfrm>
              <a:off x="3187800" y="1835280"/>
              <a:ext cx="921240" cy="1118880"/>
              <a:chOff x="3187800" y="1835280"/>
              <a:chExt cx="921240" cy="1118880"/>
            </a:xfrm>
          </p:grpSpPr>
          <p:sp>
            <p:nvSpPr>
              <p:cNvPr id="197" name="Прямая соединительная линия 41"/>
              <p:cNvSpPr/>
              <p:nvPr/>
            </p:nvSpPr>
            <p:spPr>
              <a:xfrm>
                <a:off x="4093200" y="1835280"/>
                <a:ext cx="0" cy="111096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Прямая соединительная линия 42"/>
              <p:cNvSpPr/>
              <p:nvPr/>
            </p:nvSpPr>
            <p:spPr>
              <a:xfrm>
                <a:off x="3187800" y="2954160"/>
                <a:ext cx="92124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Прямая соединительная линия 40"/>
            <p:cNvSpPr/>
            <p:nvPr/>
          </p:nvSpPr>
          <p:spPr>
            <a:xfrm>
              <a:off x="4094280" y="2398680"/>
              <a:ext cx="9284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Прямая соединительная линия 43"/>
          <p:cNvSpPr/>
          <p:nvPr/>
        </p:nvSpPr>
        <p:spPr>
          <a:xfrm>
            <a:off x="3225960" y="2421000"/>
            <a:ext cx="2044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44"/>
          <p:cNvGrpSpPr/>
          <p:nvPr/>
        </p:nvGrpSpPr>
        <p:grpSpPr>
          <a:xfrm>
            <a:off x="4127400" y="2387520"/>
            <a:ext cx="1841760" cy="1154160"/>
            <a:chOff x="4127400" y="2387520"/>
            <a:chExt cx="1841760" cy="1154160"/>
          </a:xfrm>
        </p:grpSpPr>
        <p:grpSp>
          <p:nvGrpSpPr>
            <p:cNvPr id="202" name="Группа 45"/>
            <p:cNvGrpSpPr/>
            <p:nvPr/>
          </p:nvGrpSpPr>
          <p:grpSpPr>
            <a:xfrm>
              <a:off x="4127400" y="2387520"/>
              <a:ext cx="922320" cy="1154160"/>
              <a:chOff x="4127400" y="2387520"/>
              <a:chExt cx="922320" cy="1154160"/>
            </a:xfrm>
          </p:grpSpPr>
          <p:sp>
            <p:nvSpPr>
              <p:cNvPr id="203" name="Прямая соединительная линия 47"/>
              <p:cNvSpPr/>
              <p:nvPr/>
            </p:nvSpPr>
            <p:spPr>
              <a:xfrm>
                <a:off x="5038920" y="2387520"/>
                <a:ext cx="0" cy="115416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Прямая соединительная линия 48"/>
              <p:cNvSpPr/>
              <p:nvPr/>
            </p:nvSpPr>
            <p:spPr>
              <a:xfrm>
                <a:off x="4127400" y="352584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Прямая соединительная линия 46"/>
            <p:cNvSpPr/>
            <p:nvPr/>
          </p:nvSpPr>
          <p:spPr>
            <a:xfrm>
              <a:off x="5038920" y="296532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Прямая соединительная линия 50"/>
          <p:cNvSpPr/>
          <p:nvPr/>
        </p:nvSpPr>
        <p:spPr>
          <a:xfrm>
            <a:off x="4116240" y="2982960"/>
            <a:ext cx="20484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49"/>
          <p:cNvSpPr/>
          <p:nvPr/>
        </p:nvSpPr>
        <p:spPr>
          <a:xfrm>
            <a:off x="5106960" y="3525840"/>
            <a:ext cx="20484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Группа 55"/>
          <p:cNvGrpSpPr/>
          <p:nvPr/>
        </p:nvGrpSpPr>
        <p:grpSpPr>
          <a:xfrm>
            <a:off x="5060880" y="2959200"/>
            <a:ext cx="1841400" cy="1154160"/>
            <a:chOff x="5060880" y="2959200"/>
            <a:chExt cx="1841400" cy="1154160"/>
          </a:xfrm>
        </p:grpSpPr>
        <p:grpSp>
          <p:nvGrpSpPr>
            <p:cNvPr id="209" name="Группа 56"/>
            <p:cNvGrpSpPr/>
            <p:nvPr/>
          </p:nvGrpSpPr>
          <p:grpSpPr>
            <a:xfrm>
              <a:off x="5060880" y="2959200"/>
              <a:ext cx="921960" cy="1154160"/>
              <a:chOff x="5060880" y="2959200"/>
              <a:chExt cx="921960" cy="1154160"/>
            </a:xfrm>
          </p:grpSpPr>
          <p:sp>
            <p:nvSpPr>
              <p:cNvPr id="210" name="Прямая соединительная линия 58"/>
              <p:cNvSpPr/>
              <p:nvPr/>
            </p:nvSpPr>
            <p:spPr>
              <a:xfrm>
                <a:off x="5972040" y="2959200"/>
                <a:ext cx="0" cy="115416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Прямая соединительная линия 59"/>
              <p:cNvSpPr/>
              <p:nvPr/>
            </p:nvSpPr>
            <p:spPr>
              <a:xfrm>
                <a:off x="5060880" y="4097520"/>
                <a:ext cx="92196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Прямая соединительная линия 57"/>
            <p:cNvSpPr/>
            <p:nvPr/>
          </p:nvSpPr>
          <p:spPr>
            <a:xfrm>
              <a:off x="5972040" y="353700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Прямоугольник 2"/>
          <p:cNvSpPr/>
          <p:nvPr/>
        </p:nvSpPr>
        <p:spPr>
          <a:xfrm>
            <a:off x="5336640" y="417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60"/>
          <p:cNvSpPr/>
          <p:nvPr/>
        </p:nvSpPr>
        <p:spPr>
          <a:xfrm>
            <a:off x="2392200" y="1952640"/>
            <a:ext cx="6638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61"/>
          <p:cNvSpPr/>
          <p:nvPr/>
        </p:nvSpPr>
        <p:spPr>
          <a:xfrm>
            <a:off x="3268800" y="1371600"/>
            <a:ext cx="6634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62"/>
          <p:cNvSpPr/>
          <p:nvPr/>
        </p:nvSpPr>
        <p:spPr>
          <a:xfrm>
            <a:off x="4268880" y="1952640"/>
            <a:ext cx="6634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63"/>
          <p:cNvSpPr/>
          <p:nvPr/>
        </p:nvSpPr>
        <p:spPr>
          <a:xfrm>
            <a:off x="5307120" y="256212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64"/>
          <p:cNvSpPr/>
          <p:nvPr/>
        </p:nvSpPr>
        <p:spPr>
          <a:xfrm>
            <a:off x="6135840" y="303840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65"/>
          <p:cNvSpPr/>
          <p:nvPr/>
        </p:nvSpPr>
        <p:spPr>
          <a:xfrm>
            <a:off x="6192720" y="3676680"/>
            <a:ext cx="6638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66"/>
          <p:cNvSpPr/>
          <p:nvPr/>
        </p:nvSpPr>
        <p:spPr>
          <a:xfrm>
            <a:off x="5278320" y="4286160"/>
            <a:ext cx="6638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67"/>
          <p:cNvSpPr/>
          <p:nvPr/>
        </p:nvSpPr>
        <p:spPr>
          <a:xfrm>
            <a:off x="2325600" y="1314360"/>
            <a:ext cx="6638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68"/>
          <p:cNvSpPr/>
          <p:nvPr/>
        </p:nvSpPr>
        <p:spPr>
          <a:xfrm>
            <a:off x="4221000" y="3105000"/>
            <a:ext cx="6638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69"/>
          <p:cNvSpPr/>
          <p:nvPr/>
        </p:nvSpPr>
        <p:spPr>
          <a:xfrm>
            <a:off x="5087880" y="3657600"/>
            <a:ext cx="6634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70"/>
          <p:cNvSpPr/>
          <p:nvPr/>
        </p:nvSpPr>
        <p:spPr>
          <a:xfrm>
            <a:off x="7038000" y="2741760"/>
            <a:ext cx="195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2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101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47840" y="596880"/>
            <a:ext cx="53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двоичное число 110011001 в десятич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3363840" y="1211400"/>
            <a:ext cx="3751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100110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0" name="Прямая со стрелкой 8"/>
          <p:cNvCxnSpPr/>
          <p:nvPr/>
        </p:nvCxnSpPr>
        <p:spPr>
          <a:xfrm flipH="1">
            <a:off x="7660440" y="4681080"/>
            <a:ext cx="1188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graphicFrame>
        <p:nvGraphicFramePr>
          <p:cNvPr id="231" name=""/>
          <p:cNvGraphicFramePr/>
          <p:nvPr/>
        </p:nvGraphicFramePr>
        <p:xfrm>
          <a:off x="1103400" y="1881360"/>
          <a:ext cx="6611760" cy="1842840"/>
        </p:xfrm>
        <a:graphic>
          <a:graphicData uri="http://schemas.openxmlformats.org/drawingml/2006/table">
            <a:tbl>
              <a:tblPr/>
              <a:tblGrid>
                <a:gridCol w="734760"/>
                <a:gridCol w="735120"/>
                <a:gridCol w="733320"/>
                <a:gridCol w="735120"/>
                <a:gridCol w="735120"/>
                <a:gridCol w="735120"/>
                <a:gridCol w="733320"/>
                <a:gridCol w="735120"/>
                <a:gridCol w="7347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Прямоугольник 11"/>
          <p:cNvSpPr/>
          <p:nvPr/>
        </p:nvSpPr>
        <p:spPr>
          <a:xfrm>
            <a:off x="7496280" y="4581360"/>
            <a:ext cx="4284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12"/>
          <p:cNvSpPr/>
          <p:nvPr/>
        </p:nvSpPr>
        <p:spPr>
          <a:xfrm>
            <a:off x="866880" y="3941640"/>
            <a:ext cx="721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+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= 256 + 128 + 0 + + 0 + 16 + 8 + 0 + 0 + 1 = 40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Segoe UI Light"/>
                <a:ea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876240" y="3924360"/>
            <a:ext cx="73724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2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447840" y="596880"/>
            <a:ext cx="53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двоичное число 110011001 в десятич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3363840" y="1211400"/>
            <a:ext cx="3751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100110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Прямая со стрелкой 8"/>
          <p:cNvCxnSpPr/>
          <p:nvPr/>
        </p:nvCxnSpPr>
        <p:spPr>
          <a:xfrm flipH="1">
            <a:off x="7660440" y="4681080"/>
            <a:ext cx="1188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graphicFrame>
        <p:nvGraphicFramePr>
          <p:cNvPr id="241" name=""/>
          <p:cNvGraphicFramePr/>
          <p:nvPr/>
        </p:nvGraphicFramePr>
        <p:xfrm>
          <a:off x="1103400" y="1881360"/>
          <a:ext cx="6611760" cy="1842840"/>
        </p:xfrm>
        <a:graphic>
          <a:graphicData uri="http://schemas.openxmlformats.org/drawingml/2006/table">
            <a:tbl>
              <a:tblPr/>
              <a:tblGrid>
                <a:gridCol w="734760"/>
                <a:gridCol w="735120"/>
                <a:gridCol w="733320"/>
                <a:gridCol w="735120"/>
                <a:gridCol w="735120"/>
                <a:gridCol w="735120"/>
                <a:gridCol w="733320"/>
                <a:gridCol w="735120"/>
                <a:gridCol w="7347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11"/>
          <p:cNvSpPr/>
          <p:nvPr/>
        </p:nvSpPr>
        <p:spPr>
          <a:xfrm>
            <a:off x="7496280" y="4581360"/>
            <a:ext cx="4284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866880" y="3941640"/>
            <a:ext cx="721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+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= 256 + 128 + 0 + + 0 + 16 + 8 + 0 + 0 + 1 = 40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Segoe UI Light"/>
                <a:ea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1619280" y="3914640"/>
            <a:ext cx="73724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47840" y="596880"/>
            <a:ext cx="53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двоичное число 110011001 в десятич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3363840" y="1211400"/>
            <a:ext cx="3751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100110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Прямая со стрелкой 8"/>
          <p:cNvCxnSpPr/>
          <p:nvPr/>
        </p:nvCxnSpPr>
        <p:spPr>
          <a:xfrm flipH="1">
            <a:off x="7660440" y="4681080"/>
            <a:ext cx="1188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graphicFrame>
        <p:nvGraphicFramePr>
          <p:cNvPr id="251" name=""/>
          <p:cNvGraphicFramePr/>
          <p:nvPr/>
        </p:nvGraphicFramePr>
        <p:xfrm>
          <a:off x="1103400" y="1881360"/>
          <a:ext cx="6611760" cy="1842840"/>
        </p:xfrm>
        <a:graphic>
          <a:graphicData uri="http://schemas.openxmlformats.org/drawingml/2006/table">
            <a:tbl>
              <a:tblPr/>
              <a:tblGrid>
                <a:gridCol w="734760"/>
                <a:gridCol w="735120"/>
                <a:gridCol w="733320"/>
                <a:gridCol w="735120"/>
                <a:gridCol w="735120"/>
                <a:gridCol w="735120"/>
                <a:gridCol w="733320"/>
                <a:gridCol w="735120"/>
                <a:gridCol w="7347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Прямоугольник 11"/>
          <p:cNvSpPr/>
          <p:nvPr/>
        </p:nvSpPr>
        <p:spPr>
          <a:xfrm>
            <a:off x="7496280" y="4581360"/>
            <a:ext cx="4284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12"/>
          <p:cNvSpPr/>
          <p:nvPr/>
        </p:nvSpPr>
        <p:spPr>
          <a:xfrm>
            <a:off x="866880" y="3941640"/>
            <a:ext cx="721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+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= 256 + 128 + 0 + + 0 + 16 + 8 + 0 + 0 + 1 = 40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Segoe UI Light"/>
                <a:ea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2219400" y="3905280"/>
            <a:ext cx="73724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447840" y="596880"/>
            <a:ext cx="53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двоичное число 110011001 в десятич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3363840" y="1211400"/>
            <a:ext cx="3751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100110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" name="Прямая со стрелкой 8"/>
          <p:cNvCxnSpPr/>
          <p:nvPr/>
        </p:nvCxnSpPr>
        <p:spPr>
          <a:xfrm flipH="1">
            <a:off x="7660440" y="4681080"/>
            <a:ext cx="1188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graphicFrame>
        <p:nvGraphicFramePr>
          <p:cNvPr id="261" name=""/>
          <p:cNvGraphicFramePr/>
          <p:nvPr/>
        </p:nvGraphicFramePr>
        <p:xfrm>
          <a:off x="1103400" y="1881360"/>
          <a:ext cx="6611760" cy="1842840"/>
        </p:xfrm>
        <a:graphic>
          <a:graphicData uri="http://schemas.openxmlformats.org/drawingml/2006/table">
            <a:tbl>
              <a:tblPr/>
              <a:tblGrid>
                <a:gridCol w="734760"/>
                <a:gridCol w="735120"/>
                <a:gridCol w="733320"/>
                <a:gridCol w="735120"/>
                <a:gridCol w="735120"/>
                <a:gridCol w="735120"/>
                <a:gridCol w="733320"/>
                <a:gridCol w="735120"/>
                <a:gridCol w="7347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2" name="Прямоугольник 11"/>
          <p:cNvSpPr/>
          <p:nvPr/>
        </p:nvSpPr>
        <p:spPr>
          <a:xfrm>
            <a:off x="7496280" y="4581360"/>
            <a:ext cx="4284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866880" y="3941640"/>
            <a:ext cx="721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+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= 256 + 128 + 0 + + 0 + 16 + 8 + 0 + 0 + 1 = 40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Segoe UI Light"/>
                <a:ea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2828880" y="3962520"/>
            <a:ext cx="73724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447840" y="596880"/>
            <a:ext cx="53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двоичное число 110011001 в десятич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3363840" y="1211400"/>
            <a:ext cx="3751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10011001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Прямая со стрелкой 8"/>
          <p:cNvCxnSpPr/>
          <p:nvPr/>
        </p:nvCxnSpPr>
        <p:spPr>
          <a:xfrm flipH="1">
            <a:off x="7660440" y="4681080"/>
            <a:ext cx="11880" cy="1080"/>
          </a:xfrm>
          <a:prstGeom prst="straightConnector1">
            <a:avLst/>
          </a:prstGeom>
          <a:ln w="6480">
            <a:solidFill>
              <a:srgbClr val="4b2f3d"/>
            </a:solidFill>
            <a:miter/>
            <a:tailEnd len="med" type="triangle" w="med"/>
          </a:ln>
        </p:spPr>
      </p:cxnSp>
      <p:graphicFrame>
        <p:nvGraphicFramePr>
          <p:cNvPr id="271" name=""/>
          <p:cNvGraphicFramePr/>
          <p:nvPr/>
        </p:nvGraphicFramePr>
        <p:xfrm>
          <a:off x="1103400" y="1881360"/>
          <a:ext cx="6611760" cy="1842840"/>
        </p:xfrm>
        <a:graphic>
          <a:graphicData uri="http://schemas.openxmlformats.org/drawingml/2006/table">
            <a:tbl>
              <a:tblPr/>
              <a:tblGrid>
                <a:gridCol w="734760"/>
                <a:gridCol w="735120"/>
                <a:gridCol w="733320"/>
                <a:gridCol w="735120"/>
                <a:gridCol w="735120"/>
                <a:gridCol w="735120"/>
                <a:gridCol w="733320"/>
                <a:gridCol w="735120"/>
                <a:gridCol w="7347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4b2f3d"/>
                          </a:solidFill>
                          <a:latin typeface="Segoe UI Light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r>
                        <a:rPr b="0" lang="ru-RU" sz="1300" spc="-1" strike="noStrike" baseline="-25000">
                          <a:solidFill>
                            <a:srgbClr val="000000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440">
                      <a:solidFill>
                        <a:srgbClr val="4b2f3d"/>
                      </a:solidFill>
                    </a:lnL>
                    <a:lnR w="1440">
                      <a:solidFill>
                        <a:srgbClr val="4b2f3d"/>
                      </a:solidFill>
                    </a:lnR>
                    <a:lnT w="1440">
                      <a:solidFill>
                        <a:srgbClr val="4b2f3d"/>
                      </a:solidFill>
                    </a:lnT>
                    <a:lnB w="1440">
                      <a:solidFill>
                        <a:srgbClr val="4b2f3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2" name="Прямоугольник 11"/>
          <p:cNvSpPr/>
          <p:nvPr/>
        </p:nvSpPr>
        <p:spPr>
          <a:xfrm>
            <a:off x="7496280" y="4581360"/>
            <a:ext cx="4284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12"/>
          <p:cNvSpPr/>
          <p:nvPr/>
        </p:nvSpPr>
        <p:spPr>
          <a:xfrm>
            <a:off x="866880" y="3941640"/>
            <a:ext cx="721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 + 0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+1·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egoe UI Light"/>
                <a:ea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Segoe UI Light"/>
                <a:ea typeface="Calibri"/>
              </a:rPr>
              <a:t>= 256 + 128 + 0 + + 0 + 16 + 8 + 0 + 0 + 1 = 40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Segoe UI Light"/>
                <a:ea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798480" y="171360"/>
            <a:ext cx="7772400" cy="910584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203480" y="487440"/>
            <a:ext cx="6710040" cy="4011480"/>
          </a:xfrm>
          <a:prstGeom prst="roundRect">
            <a:avLst>
              <a:gd name="adj" fmla="val 1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841400" y="979560"/>
            <a:ext cx="2724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Ей было 1100 л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на в 101 класс хо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В портфеле по 100 книг носила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Всё это правда, а не б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Когда пыля 10 н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на шагала по дорог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За ней всегда бежал ще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 одним хвостом, зато стон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на ловила каждый зв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воими 10 уш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 10 загорелых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ртфель и поводок дер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 10 тёмно-синих гл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Рассматривали мир привыч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Но станет всё совсем обычн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Когда поймёте наш расс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8018640" y="2243160"/>
            <a:ext cx="401400" cy="401760"/>
          </a:xfrm>
          <a:prstGeom prst="ellipse">
            <a:avLst/>
          </a:prstGeom>
          <a:solidFill>
            <a:srgbClr val="57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3"/>
          <a:stretch/>
        </p:blipFill>
        <p:spPr>
          <a:xfrm>
            <a:off x="4605480" y="781200"/>
            <a:ext cx="266364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7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655560" y="2927520"/>
            <a:ext cx="7823160" cy="2404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86200" y="3328920"/>
            <a:ext cx="438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Двоичная система счисления </a:t>
            </a: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 — это позиционная система счисления с основанием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8" descr=""/>
          <p:cNvPicPr/>
          <p:nvPr/>
        </p:nvPicPr>
        <p:blipFill>
          <a:blip r:embed="rId3"/>
          <a:stretch/>
        </p:blipFill>
        <p:spPr>
          <a:xfrm>
            <a:off x="1087560" y="3276720"/>
            <a:ext cx="1128600" cy="1128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4"/>
          <a:stretch/>
        </p:blipFill>
        <p:spPr>
          <a:xfrm>
            <a:off x="3487680" y="473040"/>
            <a:ext cx="19893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0" y="716040"/>
            <a:ext cx="9144000" cy="37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5537160" y="1569960"/>
            <a:ext cx="2305080" cy="2562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255680" y="1374840"/>
            <a:ext cx="3197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Двоичная система удобна для компьютера, но неудобна для человека: числа получаются очень длинными и их трудно записывать и запомина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Она используется, как правило, для «внутренних нужд» компьюте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569920" y="954000"/>
            <a:ext cx="21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10000010100100000001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0100100010100100010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5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3811680" y="258840"/>
            <a:ext cx="5332320" cy="268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3811680" y="585720"/>
            <a:ext cx="4836960" cy="43084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636480" y="4014720"/>
            <a:ext cx="27450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636480" y="4849920"/>
            <a:ext cx="2745000" cy="9036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3"/>
          <p:cNvSpPr/>
          <p:nvPr/>
        </p:nvSpPr>
        <p:spPr>
          <a:xfrm>
            <a:off x="4108320" y="816120"/>
            <a:ext cx="4238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600" spc="-1" strike="noStrike">
                <a:solidFill>
                  <a:srgbClr val="4b2f3d"/>
                </a:solidFill>
                <a:latin typeface="Segoe UI Light"/>
                <a:ea typeface="Cambria Math"/>
              </a:rPr>
              <a:t>«Вычисление с помощью двоек... является для науки основным и порождает новые открытия... При сведении чисел к простейшим началам, каковы 0 и 1, везде появляется чудесный порядок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038240" y="40384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Segoe UI Light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Segoe UI Light"/>
                <a:ea typeface="Segoe UI Light"/>
              </a:rPr>
              <a:t>Г.В. Лейбниц</a:t>
            </a:r>
            <a:r>
              <a:rPr b="1" lang="ru-RU" sz="2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1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6</a:t>
            </a:r>
            <a:r>
              <a:rPr b="0" lang="en-US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4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6–</a:t>
            </a:r>
            <a:r>
              <a:rPr b="0" lang="en-US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1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716</a:t>
            </a:r>
            <a:r>
              <a:rPr b="0" lang="en-US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</a:t>
            </a: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гг.</a:t>
            </a:r>
            <a:r>
              <a:rPr b="0" lang="en-US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638280" y="270000"/>
            <a:ext cx="27432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776160" y="581040"/>
            <a:ext cx="244008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96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96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6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0" y="716040"/>
            <a:ext cx="9144000" cy="37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09720" y="110484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Для записи чисел в двоичной системе счисления используются только две циф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054960" y="1782720"/>
            <a:ext cx="2642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8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0 1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0" y="716040"/>
            <a:ext cx="9144000" cy="37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33480" y="2473200"/>
            <a:ext cx="7612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n−1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n−2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...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1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0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=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n−1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⋅2</a:t>
            </a:r>
            <a:r>
              <a:rPr b="0" lang="en-US" sz="32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n−1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+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n−2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⋅2</a:t>
            </a:r>
            <a:r>
              <a:rPr b="0" lang="en-US" sz="32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n−2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+...+a</a:t>
            </a:r>
            <a:r>
              <a:rPr b="0" lang="en-US" sz="3200" spc="-1" strike="noStrike" baseline="-25000">
                <a:solidFill>
                  <a:srgbClr val="4b2f3d"/>
                </a:solidFill>
                <a:latin typeface="Segoe UI Light"/>
                <a:ea typeface="Segoe UI Light"/>
              </a:rPr>
              <a:t>0</a:t>
            </a:r>
            <a:r>
              <a:rPr b="0" lang="en-US" sz="32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⋅2</a:t>
            </a:r>
            <a:r>
              <a:rPr b="0" lang="en-US" sz="3200" spc="-1" strike="noStrike" baseline="30000">
                <a:solidFill>
                  <a:srgbClr val="4b2f3d"/>
                </a:solidFill>
                <a:latin typeface="Segoe UI Light"/>
                <a:ea typeface="Segoe UI Ligh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809720" y="140184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Для целых двоичных чисел можно запис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854440" y="1236600"/>
            <a:ext cx="4597200" cy="35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205080" y="1420920"/>
            <a:ext cx="389736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1. Делим десятичное число А на 2. Частное q запоминаем для следующего шага, а остаток a записываем как младший бит двоичного числ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2. Если частное q не равно 0, принимаем его за новое делимое и повторяем процедуру, описанную в шаге 1. Каждый новый остаток (0 или 1) записывается в разряды двоичного числа в направлении от младшего бита к старшем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00" spc="-1" strike="noStrike">
                <a:solidFill>
                  <a:srgbClr val="4b2f3d"/>
                </a:solidFill>
                <a:latin typeface="Segoe UI Light"/>
                <a:ea typeface="Segoe UI Light"/>
              </a:rPr>
              <a:t>3. Алгоритм продолжается до тех пор, пока в результате выполнения шагов 1 и 2 не получится частное q= 0 и остаток a = 1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5" descr=""/>
          <p:cNvPicPr/>
          <p:nvPr/>
        </p:nvPicPr>
        <p:blipFill>
          <a:blip r:embed="rId2"/>
          <a:stretch/>
        </p:blipFill>
        <p:spPr>
          <a:xfrm>
            <a:off x="1289160" y="-39600"/>
            <a:ext cx="6188040" cy="1214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21040" y="250920"/>
            <a:ext cx="4195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Алгоритм замещения для перевод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чисел из десятичной системы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счисления в двоичную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0" y="1135080"/>
            <a:ext cx="9144000" cy="38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0" y="419040"/>
            <a:ext cx="9144000" cy="754200"/>
          </a:xfrm>
          <a:prstGeom prst="rect">
            <a:avLst/>
          </a:prstGeom>
          <a:solidFill>
            <a:srgbClr val="4b2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57200" y="511200"/>
            <a:ext cx="532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ереведём число 15 из десятичной системы счисл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в двоичную систему счис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3820680" y="1312920"/>
            <a:ext cx="140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15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10</a:t>
            </a:r>
            <a:r>
              <a:rPr b="0" lang="ru-RU" sz="2400" spc="-1" strike="noStrike">
                <a:solidFill>
                  <a:srgbClr val="4b2f3d"/>
                </a:solidFill>
                <a:latin typeface="Segoe UI Light"/>
                <a:ea typeface="Calibri"/>
              </a:rPr>
              <a:t>→….</a:t>
            </a:r>
            <a:r>
              <a:rPr b="0" lang="ru-RU" sz="2400" spc="-1" strike="noStrike" baseline="-25000">
                <a:solidFill>
                  <a:srgbClr val="4b2f3d"/>
                </a:solidFill>
                <a:latin typeface="Segoe UI Light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01840" y="1903320"/>
          <a:ext cx="4686480" cy="2820960"/>
        </p:xfrm>
        <a:graphic>
          <a:graphicData uri="http://schemas.openxmlformats.org/drawingml/2006/table">
            <a:tbl>
              <a:tblPr/>
              <a:tblGrid>
                <a:gridCol w="936720"/>
                <a:gridCol w="938160"/>
                <a:gridCol w="936720"/>
                <a:gridCol w="938160"/>
                <a:gridCol w="936720"/>
              </a:tblGrid>
              <a:tr h="563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800" spc="-1" strike="noStrike">
                          <a:solidFill>
                            <a:srgbClr val="4b2f3d"/>
                          </a:solidFill>
                          <a:latin typeface="Segoe UI Light"/>
                          <a:ea typeface="Segoe UI Light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440">
                      <a:solidFill>
                        <a:srgbClr val="a6a6a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Прямоугольник 20"/>
          <p:cNvSpPr/>
          <p:nvPr/>
        </p:nvSpPr>
        <p:spPr>
          <a:xfrm>
            <a:off x="3360600" y="2568600"/>
            <a:ext cx="66204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1"/>
          <p:cNvSpPr/>
          <p:nvPr/>
        </p:nvSpPr>
        <p:spPr>
          <a:xfrm>
            <a:off x="4313160" y="2568600"/>
            <a:ext cx="66204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2"/>
          <p:cNvSpPr/>
          <p:nvPr/>
        </p:nvSpPr>
        <p:spPr>
          <a:xfrm>
            <a:off x="3406680" y="3132000"/>
            <a:ext cx="6620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23"/>
          <p:cNvSpPr/>
          <p:nvPr/>
        </p:nvSpPr>
        <p:spPr>
          <a:xfrm>
            <a:off x="4389480" y="3124080"/>
            <a:ext cx="6620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5211720" y="315432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5"/>
          <p:cNvSpPr/>
          <p:nvPr/>
        </p:nvSpPr>
        <p:spPr>
          <a:xfrm>
            <a:off x="5273640" y="3673440"/>
            <a:ext cx="66204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6"/>
          <p:cNvSpPr/>
          <p:nvPr/>
        </p:nvSpPr>
        <p:spPr>
          <a:xfrm>
            <a:off x="4411800" y="3726000"/>
            <a:ext cx="6634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7"/>
          <p:cNvSpPr/>
          <p:nvPr/>
        </p:nvSpPr>
        <p:spPr>
          <a:xfrm>
            <a:off x="3368520" y="3726000"/>
            <a:ext cx="6620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8"/>
          <p:cNvSpPr/>
          <p:nvPr/>
        </p:nvSpPr>
        <p:spPr>
          <a:xfrm>
            <a:off x="4373640" y="427500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3382920" y="1981080"/>
            <a:ext cx="6634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2378160" y="2560680"/>
            <a:ext cx="6620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2370240" y="3108240"/>
            <a:ext cx="66204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Группа 35"/>
          <p:cNvGrpSpPr/>
          <p:nvPr/>
        </p:nvGrpSpPr>
        <p:grpSpPr>
          <a:xfrm>
            <a:off x="2324160" y="1913040"/>
            <a:ext cx="1836720" cy="1119240"/>
            <a:chOff x="2324160" y="1913040"/>
            <a:chExt cx="1836720" cy="1119240"/>
          </a:xfrm>
        </p:grpSpPr>
        <p:grpSp>
          <p:nvGrpSpPr>
            <p:cNvPr id="100" name="Группа 32"/>
            <p:cNvGrpSpPr/>
            <p:nvPr/>
          </p:nvGrpSpPr>
          <p:grpSpPr>
            <a:xfrm>
              <a:off x="2324160" y="1913040"/>
              <a:ext cx="922320" cy="1119240"/>
              <a:chOff x="2324160" y="1913040"/>
              <a:chExt cx="922320" cy="1119240"/>
            </a:xfrm>
          </p:grpSpPr>
          <p:sp>
            <p:nvSpPr>
              <p:cNvPr id="101" name="Прямая соединительная линия 15"/>
              <p:cNvSpPr/>
              <p:nvPr/>
            </p:nvSpPr>
            <p:spPr>
              <a:xfrm>
                <a:off x="3238560" y="1913040"/>
                <a:ext cx="0" cy="111132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Прямая соединительная линия 17"/>
              <p:cNvSpPr/>
              <p:nvPr/>
            </p:nvSpPr>
            <p:spPr>
              <a:xfrm>
                <a:off x="2324160" y="303228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Прямая соединительная линия 33"/>
            <p:cNvSpPr/>
            <p:nvPr/>
          </p:nvSpPr>
          <p:spPr>
            <a:xfrm>
              <a:off x="3230640" y="246060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Прямая соединительная линия 37"/>
          <p:cNvSpPr/>
          <p:nvPr/>
        </p:nvSpPr>
        <p:spPr>
          <a:xfrm>
            <a:off x="2049480" y="2460600"/>
            <a:ext cx="2062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38"/>
          <p:cNvGrpSpPr/>
          <p:nvPr/>
        </p:nvGrpSpPr>
        <p:grpSpPr>
          <a:xfrm>
            <a:off x="3254400" y="2454120"/>
            <a:ext cx="1835280" cy="1119240"/>
            <a:chOff x="3254400" y="2454120"/>
            <a:chExt cx="1835280" cy="1119240"/>
          </a:xfrm>
        </p:grpSpPr>
        <p:grpSp>
          <p:nvGrpSpPr>
            <p:cNvPr id="106" name="Группа 39"/>
            <p:cNvGrpSpPr/>
            <p:nvPr/>
          </p:nvGrpSpPr>
          <p:grpSpPr>
            <a:xfrm>
              <a:off x="3254400" y="2454120"/>
              <a:ext cx="921600" cy="1119240"/>
              <a:chOff x="3254400" y="2454120"/>
              <a:chExt cx="921600" cy="1119240"/>
            </a:xfrm>
          </p:grpSpPr>
          <p:sp>
            <p:nvSpPr>
              <p:cNvPr id="107" name="Прямая соединительная линия 41"/>
              <p:cNvSpPr/>
              <p:nvPr/>
            </p:nvSpPr>
            <p:spPr>
              <a:xfrm>
                <a:off x="4160160" y="2454120"/>
                <a:ext cx="0" cy="111132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Прямая соединительная линия 42"/>
              <p:cNvSpPr/>
              <p:nvPr/>
            </p:nvSpPr>
            <p:spPr>
              <a:xfrm>
                <a:off x="3254400" y="3573360"/>
                <a:ext cx="92160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Прямая соединительная линия 40"/>
            <p:cNvSpPr/>
            <p:nvPr/>
          </p:nvSpPr>
          <p:spPr>
            <a:xfrm>
              <a:off x="4160880" y="3017880"/>
              <a:ext cx="92880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Прямая соединительная линия 43"/>
          <p:cNvSpPr/>
          <p:nvPr/>
        </p:nvSpPr>
        <p:spPr>
          <a:xfrm>
            <a:off x="3292560" y="3040200"/>
            <a:ext cx="20484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Группа 44"/>
          <p:cNvGrpSpPr/>
          <p:nvPr/>
        </p:nvGrpSpPr>
        <p:grpSpPr>
          <a:xfrm>
            <a:off x="4194000" y="3006720"/>
            <a:ext cx="1841760" cy="1154160"/>
            <a:chOff x="4194000" y="3006720"/>
            <a:chExt cx="1841760" cy="1154160"/>
          </a:xfrm>
        </p:grpSpPr>
        <p:grpSp>
          <p:nvGrpSpPr>
            <p:cNvPr id="112" name="Группа 45"/>
            <p:cNvGrpSpPr/>
            <p:nvPr/>
          </p:nvGrpSpPr>
          <p:grpSpPr>
            <a:xfrm>
              <a:off x="4194000" y="3006720"/>
              <a:ext cx="922320" cy="1154160"/>
              <a:chOff x="4194000" y="3006720"/>
              <a:chExt cx="922320" cy="1154160"/>
            </a:xfrm>
          </p:grpSpPr>
          <p:sp>
            <p:nvSpPr>
              <p:cNvPr id="113" name="Прямая соединительная линия 47"/>
              <p:cNvSpPr/>
              <p:nvPr/>
            </p:nvSpPr>
            <p:spPr>
              <a:xfrm>
                <a:off x="5105520" y="3006720"/>
                <a:ext cx="0" cy="115416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Прямая соединительная линия 48"/>
              <p:cNvSpPr/>
              <p:nvPr/>
            </p:nvSpPr>
            <p:spPr>
              <a:xfrm>
                <a:off x="4194000" y="4145040"/>
                <a:ext cx="922320" cy="0"/>
              </a:xfrm>
              <a:prstGeom prst="line">
                <a:avLst/>
              </a:prstGeom>
              <a:ln w="28440">
                <a:solidFill>
                  <a:srgbClr val="4b2f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Прямая соединительная линия 46"/>
            <p:cNvSpPr/>
            <p:nvPr/>
          </p:nvSpPr>
          <p:spPr>
            <a:xfrm>
              <a:off x="5105520" y="3584520"/>
              <a:ext cx="930240" cy="0"/>
            </a:xfrm>
            <a:prstGeom prst="line">
              <a:avLst/>
            </a:prstGeom>
            <a:ln w="28440">
              <a:solidFill>
                <a:srgbClr val="4b2f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ая соединительная линия 50"/>
          <p:cNvSpPr/>
          <p:nvPr/>
        </p:nvSpPr>
        <p:spPr>
          <a:xfrm>
            <a:off x="4183200" y="3602160"/>
            <a:ext cx="204480" cy="0"/>
          </a:xfrm>
          <a:prstGeom prst="line">
            <a:avLst/>
          </a:prstGeom>
          <a:ln w="12600">
            <a:solidFill>
              <a:srgbClr val="4b2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51"/>
          <p:cNvSpPr/>
          <p:nvPr/>
        </p:nvSpPr>
        <p:spPr>
          <a:xfrm>
            <a:off x="5353200" y="365760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52"/>
          <p:cNvSpPr/>
          <p:nvPr/>
        </p:nvSpPr>
        <p:spPr>
          <a:xfrm>
            <a:off x="4419720" y="423396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Овал 53"/>
          <p:cNvSpPr/>
          <p:nvPr/>
        </p:nvSpPr>
        <p:spPr>
          <a:xfrm>
            <a:off x="3490920" y="3672000"/>
            <a:ext cx="466560" cy="452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Овал 54"/>
          <p:cNvSpPr/>
          <p:nvPr/>
        </p:nvSpPr>
        <p:spPr>
          <a:xfrm>
            <a:off x="2552760" y="3100320"/>
            <a:ext cx="466560" cy="4525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8:48:30Z</dcterms:created>
  <dc:creator>RePack by Diakov</dc:creator>
  <dc:description/>
  <dc:language>en-US</dc:language>
  <cp:lastModifiedBy>Admin</cp:lastModifiedBy>
  <dcterms:modified xsi:type="dcterms:W3CDTF">2022-04-04T14:21:30Z</dcterms:modified>
  <cp:revision>54</cp:revision>
  <dc:subject/>
  <dc:title>Презентация PowerPoint</dc:title>
</cp:coreProperties>
</file>