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A17-4FAA-476F-AB60-1170A2E2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042-546E-4F11-87C5-5CD4C51A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80E-0829-43E6-A631-6AA7D073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410-B6C4-4786-9211-2F5D3671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6C9-F6D5-47AB-9419-4C7F0DDF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3FD-0A05-43F8-B07B-BF809BBA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79F-BC06-47F3-9EEB-01660E05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669-D82A-459B-84EB-F63F0EE4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79C-5285-49BF-AB29-27D5D3AF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E63-004C-4314-A611-5F313D2D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E21-0B35-4A86-BE85-6EE71EC6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BBD-24CE-4992-BD69-73CC926A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889B-25C9-4E5E-B7FE-2396E5EF9B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539640" y="1628640"/>
            <a:ext cx="2737080" cy="2167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 flipH="1">
            <a:off x="1835280" y="62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ест игра «Знакомство с символами ст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499200" y="3500280"/>
            <a:ext cx="22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ля детей 4 – 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148360" y="4797360"/>
            <a:ext cx="30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ила воспитатель МБДОУ детский сад «Ручеёк» Трухина Зинаид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Детсад\День флага-2018г\IMG_6114.JPG"/>
          <p:cNvPicPr/>
          <p:nvPr/>
        </p:nvPicPr>
        <p:blipFill>
          <a:blip r:embed="rId1"/>
          <a:stretch/>
        </p:blipFill>
        <p:spPr>
          <a:xfrm>
            <a:off x="1187280" y="1484280"/>
            <a:ext cx="2805120" cy="2016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1414440" y="54936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3  Станция «Васильковая стра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D:\Детсад\День флага-2018г\IMG_6121.JPG"/>
          <p:cNvPicPr/>
          <p:nvPr/>
        </p:nvPicPr>
        <p:blipFill>
          <a:blip r:embed="rId2"/>
          <a:stretch/>
        </p:blipFill>
        <p:spPr>
          <a:xfrm>
            <a:off x="1979640" y="4149720"/>
            <a:ext cx="2735280" cy="1606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5219640" y="836640"/>
            <a:ext cx="3456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ришли в страну Василькового цвета. Нас встречает Василе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165920" y="5805360"/>
            <a:ext cx="42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правились с заданием. Прин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сине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:\День флага-2018г\IMG_6169.JPG"/>
          <p:cNvPicPr/>
          <p:nvPr/>
        </p:nvPicPr>
        <p:blipFill>
          <a:blip r:embed="rId3"/>
          <a:stretch/>
        </p:blipFill>
        <p:spPr>
          <a:xfrm>
            <a:off x="6084720" y="2492280"/>
            <a:ext cx="1619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Детсад\День флага-2018г\IMG_6122.JPG"/>
          <p:cNvPicPr/>
          <p:nvPr/>
        </p:nvPicPr>
        <p:blipFill>
          <a:blip r:embed="rId1"/>
          <a:stretch/>
        </p:blipFill>
        <p:spPr>
          <a:xfrm>
            <a:off x="1042920" y="1989000"/>
            <a:ext cx="2273400" cy="275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D:\Детсад\День флага-2018г\IMG_6123.JPG"/>
          <p:cNvPicPr/>
          <p:nvPr/>
        </p:nvPicPr>
        <p:blipFill>
          <a:blip r:embed="rId2"/>
          <a:stretch/>
        </p:blipFill>
        <p:spPr>
          <a:xfrm>
            <a:off x="4788000" y="1989000"/>
            <a:ext cx="2520720" cy="187812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1635840" y="836640"/>
            <a:ext cx="47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ек дарит детям синюю полоску ф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Детсад\День флага-2018г\IMG_6129.JPG"/>
          <p:cNvPicPr/>
          <p:nvPr/>
        </p:nvPicPr>
        <p:blipFill>
          <a:blip r:embed="rId1"/>
          <a:stretch/>
        </p:blipFill>
        <p:spPr>
          <a:xfrm>
            <a:off x="900000" y="907920"/>
            <a:ext cx="3384720" cy="306072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1704240" y="260280"/>
            <a:ext cx="42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задание «Страна красного цв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6588000" y="620640"/>
            <a:ext cx="20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у страну попадают только очень смелые и добрые ребята, готовые прийти на помощь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484560" y="4149720"/>
            <a:ext cx="31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ереносят игрушки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:\Детсад\День флага-2018г\IMG_6133.JPG"/>
          <p:cNvPicPr/>
          <p:nvPr/>
        </p:nvPicPr>
        <p:blipFill>
          <a:blip r:embed="rId2"/>
          <a:stretch/>
        </p:blipFill>
        <p:spPr>
          <a:xfrm>
            <a:off x="5292720" y="3357720"/>
            <a:ext cx="1355760" cy="187164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5904000" y="5300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 дарит детям красную поло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Детсад\День флага-2018г\IMG_6135.JPG"/>
          <p:cNvPicPr/>
          <p:nvPr/>
        </p:nvPicPr>
        <p:blipFill>
          <a:blip r:embed="rId1"/>
          <a:stretch/>
        </p:blipFill>
        <p:spPr>
          <a:xfrm>
            <a:off x="5580000" y="1052640"/>
            <a:ext cx="1978200" cy="2089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D:\Детсад\День флага-2018г\IMG_6156.JPG"/>
          <p:cNvPicPr/>
          <p:nvPr/>
        </p:nvPicPr>
        <p:blipFill>
          <a:blip r:embed="rId2"/>
          <a:stretch/>
        </p:blipFill>
        <p:spPr>
          <a:xfrm>
            <a:off x="1187280" y="1197000"/>
            <a:ext cx="2232360" cy="24163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2136240" y="6021360"/>
            <a:ext cx="56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есут флаг в страну  Веселых человеч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012000" y="365004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Белый цвет - берез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иний – неба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Красная полоска –     солнечный расс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57040" y="364500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обирают фл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Детсад\День флага-2018г\IMG_6143.JPG"/>
          <p:cNvPicPr/>
          <p:nvPr/>
        </p:nvPicPr>
        <p:blipFill>
          <a:blip r:embed="rId1"/>
          <a:stretch/>
        </p:blipFill>
        <p:spPr>
          <a:xfrm>
            <a:off x="5435640" y="1557360"/>
            <a:ext cx="2663640" cy="1625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:\Фото День флага\IMG_6151.JPG"/>
          <p:cNvPicPr/>
          <p:nvPr/>
        </p:nvPicPr>
        <p:blipFill>
          <a:blip r:embed="rId2"/>
          <a:stretch/>
        </p:blipFill>
        <p:spPr>
          <a:xfrm>
            <a:off x="2916360" y="2997360"/>
            <a:ext cx="1971720" cy="252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D:\Детсад\День флага-2018г\IMG_6141.JPG"/>
          <p:cNvPicPr/>
          <p:nvPr/>
        </p:nvPicPr>
        <p:blipFill>
          <a:blip r:embed="rId3"/>
          <a:stretch/>
        </p:blipFill>
        <p:spPr>
          <a:xfrm>
            <a:off x="468360" y="333360"/>
            <a:ext cx="2303280" cy="203832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6163920" y="4005360"/>
            <a:ext cx="20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ец с л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5292720" y="5300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чит песня «Белый, синий, крас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539640" y="2421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живут Весёлые человеч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Детсад\День флага-2018г\IMG_6149.JPG"/>
          <p:cNvPicPr/>
          <p:nvPr/>
        </p:nvPicPr>
        <p:blipFill>
          <a:blip r:embed="rId1"/>
          <a:stretch/>
        </p:blipFill>
        <p:spPr>
          <a:xfrm>
            <a:off x="1835280" y="1916280"/>
            <a:ext cx="4927320" cy="345888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2340000" y="558972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ем гимн 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332000" y="1052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ые человечки отблагодарили нас за помощь, подарили нам главную песню страны - Гим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684360" y="0"/>
            <a:ext cx="2663640" cy="2109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2340000" y="3068640"/>
            <a:ext cx="6626160" cy="329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ть представление детей о государственном празд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День Росси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ознакомить детей с государственной символикой  - флаг, герб, гим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воспитывать патриотизм, любовь к род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развивать физические способности ловкость, внима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D:\Детсад\День флага-2018г\SAM_1112.JPG"/>
          <p:cNvPicPr/>
          <p:nvPr/>
        </p:nvPicPr>
        <p:blipFill>
          <a:blip r:embed="rId2"/>
          <a:stretch/>
        </p:blipFill>
        <p:spPr>
          <a:xfrm>
            <a:off x="5508720" y="907920"/>
            <a:ext cx="2795400" cy="20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Детсад\День флага-2018г\IMG_6086.JPG"/>
          <p:cNvPicPr/>
          <p:nvPr/>
        </p:nvPicPr>
        <p:blipFill>
          <a:blip r:embed="rId1"/>
          <a:stretch/>
        </p:blipFill>
        <p:spPr>
          <a:xfrm>
            <a:off x="1547640" y="981000"/>
            <a:ext cx="3899160" cy="4364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6443640" y="292428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лушают сказку о Веселых человеч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Детсад\День флага-2018г\IMG_6089.JPG"/>
          <p:cNvPicPr/>
          <p:nvPr/>
        </p:nvPicPr>
        <p:blipFill>
          <a:blip r:embed="rId1"/>
          <a:stretch/>
        </p:blipFill>
        <p:spPr>
          <a:xfrm>
            <a:off x="1403280" y="1268280"/>
            <a:ext cx="2895840" cy="29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508720" y="1823760"/>
            <a:ext cx="316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Georgia"/>
              </a:rPr>
              <a:t>Читаю детям письмо от Веселых человечков «Ребята, злая волшебница похитила наш флаг. Помогите нам вернуть  его. Заранее вас благодарим и присылаем вам волшебный клубоч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Georgia"/>
              </a:rPr>
              <a:t>(Веселые человеч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Детсад\День флага-2018г\IMG_6093.JPG"/>
          <p:cNvPicPr/>
          <p:nvPr/>
        </p:nvPicPr>
        <p:blipFill>
          <a:blip r:embed="rId1"/>
          <a:stretch/>
        </p:blipFill>
        <p:spPr>
          <a:xfrm>
            <a:off x="826920" y="189000"/>
            <a:ext cx="4043520" cy="4771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6516720" y="69228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ти попали в страну Гно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Детсад\День флага-2018г\IMG_6094.JPG"/>
          <p:cNvPicPr/>
          <p:nvPr/>
        </p:nvPicPr>
        <p:blipFill>
          <a:blip r:embed="rId1"/>
          <a:stretch/>
        </p:blipFill>
        <p:spPr>
          <a:xfrm>
            <a:off x="324000" y="1916280"/>
            <a:ext cx="1800000" cy="217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D:\Детсад\День флага-2018г\IMG_6098.JPG"/>
          <p:cNvPicPr/>
          <p:nvPr/>
        </p:nvPicPr>
        <p:blipFill>
          <a:blip r:embed="rId2"/>
          <a:stretch/>
        </p:blipFill>
        <p:spPr>
          <a:xfrm>
            <a:off x="5940360" y="1700280"/>
            <a:ext cx="2411640" cy="2614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D:\Детсад\День флага-2018г\IMG_6096.JPG"/>
          <p:cNvPicPr/>
          <p:nvPr/>
        </p:nvPicPr>
        <p:blipFill>
          <a:blip r:embed="rId3"/>
          <a:stretch/>
        </p:blipFill>
        <p:spPr>
          <a:xfrm>
            <a:off x="2987640" y="260280"/>
            <a:ext cx="2521080" cy="3810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778760" y="486900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ыполняют задание г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Детсад\День флага-2018г\IMG_6099.JPG"/>
          <p:cNvPicPr/>
          <p:nvPr/>
        </p:nvPicPr>
        <p:blipFill>
          <a:blip r:embed="rId1"/>
          <a:stretch/>
        </p:blipFill>
        <p:spPr>
          <a:xfrm>
            <a:off x="1547640" y="1413000"/>
            <a:ext cx="3394080" cy="4545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6012000" y="2485440"/>
            <a:ext cx="2317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Georgia"/>
              </a:rPr>
              <a:t>Дети  справились с заданием и узнали, что флаг имеет прямоугольную фор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Детсад\День флага-2018г\IMG_6105.JPG"/>
          <p:cNvPicPr/>
          <p:nvPr/>
        </p:nvPicPr>
        <p:blipFill>
          <a:blip r:embed="rId1"/>
          <a:stretch/>
        </p:blipFill>
        <p:spPr>
          <a:xfrm>
            <a:off x="1042920" y="1197000"/>
            <a:ext cx="3611520" cy="3654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763640" y="33336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2 станция «Страна жела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6012000" y="220500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Стране желаний» ромашка предложила нам лепесток с пожеланием поигр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Детсад\День флага-2018г\IMG_6109.JPG"/>
          <p:cNvPicPr/>
          <p:nvPr/>
        </p:nvPicPr>
        <p:blipFill>
          <a:blip r:embed="rId1"/>
          <a:stretch/>
        </p:blipFill>
        <p:spPr>
          <a:xfrm>
            <a:off x="1116000" y="620640"/>
            <a:ext cx="3430440" cy="2652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D:\Детсад\День флага-2018г\IMG_6112.JPG"/>
          <p:cNvPicPr/>
          <p:nvPr/>
        </p:nvPicPr>
        <p:blipFill>
          <a:blip r:embed="rId2"/>
          <a:stretch/>
        </p:blipFill>
        <p:spPr>
          <a:xfrm>
            <a:off x="4932360" y="2852640"/>
            <a:ext cx="3375000" cy="2592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5525640" y="98100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есело игра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042920" y="49417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шка подарила нам полоску белого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8:35:07Z</dcterms:created>
  <dc:creator>Вован</dc:creator>
  <dc:description/>
  <dc:language>en-US</dc:language>
  <cp:lastModifiedBy>Вован</cp:lastModifiedBy>
  <dcterms:modified xsi:type="dcterms:W3CDTF">2022-04-04T17:23:42Z</dcterms:modified>
  <cp:revision>21</cp:revision>
  <dc:subject/>
  <dc:title>Слайд 1</dc:title>
</cp:coreProperties>
</file>