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A33-6CE0-4C7E-9FD4-4C662991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2DF-FCB6-49D9-91DD-89EB20D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2848E-04A6-4DD0-BE58-7FF4B3F4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CAA93-9CE2-4641-ADD2-6DF9ED2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CF2DC-E5CB-440B-BA65-5C840E9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4C675-A10C-449A-92AC-F04EAD0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843BB-17EE-4573-BE8E-22A41AF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58826-AECE-480F-8807-A1BF2FD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A22DA-2E37-46B6-993E-A2C85876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70A8-6AE9-4400-A0ED-7EB5A9A8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4013E-3EA8-4534-B8E0-91671793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EB8-4433-4C5E-8DB8-C0916757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060-D608-4FB6-9BFE-5898172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0B3-A1B4-473A-B8CC-068FA4D5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1F1-439C-4C67-A95E-5566A3A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5937-5CA4-4632-9D46-32E2D1B1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7B65-A6D4-4A1B-87A8-43961787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9018-FB2D-4A7E-8A05-4EEE687F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9823-FB76-45F7-8C89-3F8A2E2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85EF-98B6-4836-8208-856608A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CE6-66BE-4CE6-9166-7233AB86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A32-AECE-43A7-803F-88E6DC3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4A9B-B265-4244-8F86-33CE6A2B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6860-7730-43F4-9519-EAD8472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2BA-8FD2-4BE3-8AE1-CE244CFA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732E-59E6-4B25-911B-F6E4C6C8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6FC9-ED58-4C69-8506-4308C7CA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C80D-B991-45B5-9788-ACABCABC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1866-F14C-4D5A-A056-F1F7569D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D358-40BF-4DF9-A13D-566069E0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51E5-20C2-4699-86D7-CAC074FE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60B-FC0B-4452-B173-A1164FA8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3114-6186-4B3F-A826-905BE6DB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25F0-EF8C-435A-9FFD-3F2E8389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DFE3-7B08-43AF-A608-BA8D100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5226-248D-4016-B821-C383FC5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FAE8-8CF9-4B80-9D25-C16DAE1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8501-5CC0-4BE3-A745-F139C6D2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E94C-6BC8-430C-9BA4-6356DF52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FEB2-B3FF-47F7-AF0F-38B2AA47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1EB2-FD55-4C59-BA59-F8304CFA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ED09-1431-4532-B788-49CEBC6B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DDB-0A33-45F3-A2FA-C5E6E51E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E11A-5221-41D0-990B-B91F4A1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50E16-1C6E-45EE-BDF4-CAF36203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B586-13F9-4A26-9B9E-961B82E8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F42D-D1EF-4A24-A6BC-004BA47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72B6-7A3F-4FA5-804B-3211707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7A51-E1D9-47E1-82C8-52A5B3A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4AFF-B593-4C1F-BF6B-B1F7C9DD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C588-7330-44E7-8E6F-87CEA0A6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D95B-8C36-4920-A1C3-DBE61817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5AB9-8E3D-4E9F-8161-DF56EA89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B74-CAFC-4686-8E94-C20C49D3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57A2B-5BA3-4CBE-A59A-519FDAB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9A75-4CBA-4393-A413-6887961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5DCB-0A76-4F18-87AC-3577A7FA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BB58-52C9-49D8-ABB1-B36B599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1F28-283D-4994-A2CE-0E7C9A5A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85FF-E5EE-4864-89DE-0A7DDFF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0155-503B-43E7-80ED-1917C11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29AC-AD68-4B8D-86F1-BEB5B1E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F7F3-E58B-4353-96F0-CD2618F9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EC6A-5EC2-4B84-B1DD-A3258283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AD8-43FE-426F-BA3F-55A7F3AC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25B9-02CC-411A-890A-B312A5CC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A187-3BBC-4D75-B9DC-1C69E461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1952-9373-4728-949D-E2ECC43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D359C-2082-4B9D-96A3-5483C08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FCA4-0C64-4585-B654-AFDC8B8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974E-8007-4C4B-9C1E-29068C54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A97C-1A41-4B00-B91A-25AA3F56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AD40F-E082-4772-AA60-17944DC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20AF8-39A4-4042-8F26-3DC41CA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6E96-10A2-45F4-907F-E130868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F26-19D9-40B0-84B3-92F6B0E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E46B-01D1-45BB-AF25-6177B1CD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7094-C262-4FFF-979E-F3BA2481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630A-AD4E-4C33-B8CA-23C77383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79566-E77A-4926-9EE9-34D4AD31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DFD1-36A7-47E4-9084-2D046075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E974-0BB3-4355-83E8-8242C72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C8C2F-5301-4588-A895-D0485416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C112-D13A-4A03-AA3C-71FEDD0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FAF3C-B61B-477C-AFF3-A29AF87E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4A82-72A2-445B-BD70-16A1FF6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5B2-862A-4ED0-816D-7D3184E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EC92-492F-4976-BACE-3549EA43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ECBD8-E8E4-473C-A858-F34212D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5C6D-4452-4381-BE5C-6FCB7B0C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CAA5-D36E-495E-B56E-B880FACE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BD0EC-938B-4CC7-B7B4-44506DAE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CE0F9-31B1-42DE-B3BC-F3D3B85F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77061-A5CF-41AB-A88B-DD7C02E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2C7A-5D88-4092-A179-ACB076AF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7FBBE-1EA5-4728-9E76-3C44E68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BB04C-1D40-42BC-996C-9DA3D8D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7A2-B7E1-4258-B8C6-4E6607B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1BAD-DCBC-415C-BE67-FAA78144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45BF1-3B16-4040-B0BD-C2791667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9C9DF-767C-444E-AE10-BE2165D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E0C97-5A45-4F88-98DC-C32EB3C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07FC3-2C20-48E9-9B43-E7509ED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049E4-7C19-499A-9196-AB0E164C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B490A-DF65-497B-96B0-0F25C537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723E-91B2-4C90-9CA8-77E49FF9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2098E-B8B5-4467-9E1A-73787F7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599E4-A79A-41BE-B25A-1058B04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146-CF57-4E58-8439-BAF28B60C0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597-650E-49F2-984F-852971EB31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8055-C4EE-4AF0-95F3-600B6F01F5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B72-2E8A-4BC8-9332-99B0CA8C3E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64A-5F3B-4ED0-BB73-6A2117B8BD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9D7-12C6-4009-8048-E1DE0EE356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D40-1FD9-4BA7-8FE3-B414B35881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7804-0D51-4AF7-B9D3-D4A53DDD6B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81B-1804-4B21-B716-3E6E46F86C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 flipH="1">
            <a:off x="684360" y="1125360"/>
            <a:ext cx="770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a22e"/>
                </a:solidFill>
                <a:latin typeface="Calibri"/>
              </a:rPr>
              <a:t>Инструкция –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3b14"/>
                </a:solidFill>
                <a:latin typeface="Calibri"/>
              </a:rPr>
              <a:t>«Как сделать обычное блюдо необычн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782800" y="544500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ыполнила : воспитатель Трухина Зинаид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3107880" y="59500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п. Шаранга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3564000" y="22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Крупу в кастрюлю насыпают,</a:t>
            </a:r>
            <a:br>
              <a:rPr sz="2800"/>
            </a:b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Водой холодной заливают</a:t>
            </a:r>
            <a:br>
              <a:rPr sz="2800"/>
            </a:b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И ставят на плиту вариться.</a:t>
            </a:r>
            <a:br>
              <a:rPr sz="2800"/>
            </a:b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И что тут может получ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(ка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"/>
          <p:cNvSpPr/>
          <p:nvPr/>
        </p:nvSpPr>
        <p:spPr>
          <a:xfrm>
            <a:off x="179280" y="620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речневая каша — мать наша, хлебец — кормил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irecommend.ru.q5.r-99.com/sites/default/files/product-images/20118/0.jpg"/>
          <p:cNvPicPr/>
          <p:nvPr/>
        </p:nvPicPr>
        <p:blipFill>
          <a:blip r:embed="rId1"/>
          <a:srcRect l="13376" t="1663" r="15750" b="3632"/>
          <a:stretch/>
        </p:blipFill>
        <p:spPr>
          <a:xfrm>
            <a:off x="611280" y="1628640"/>
            <a:ext cx="1657080" cy="2376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5"/>
          <p:cNvSpPr/>
          <p:nvPr/>
        </p:nvSpPr>
        <p:spPr>
          <a:xfrm>
            <a:off x="395280" y="5229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6255"/>
                </a:solidFill>
                <a:latin typeface="Arial"/>
              </a:rPr>
              <a:t>А чтобы каша казалась аппетитной для малыша и её захотелось съесть мы её оформим в виде череп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539640" y="620640"/>
            <a:ext cx="7777440" cy="1312920"/>
          </a:xfrm>
          <a:prstGeom prst="rect">
            <a:avLst/>
          </a:prstGeom>
          <a:solidFill>
            <a:srgbClr val="ecc8a4"/>
          </a:solidFill>
          <a:ln w="9360">
            <a:solidFill>
              <a:srgbClr val="ddc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540a"/>
                </a:solidFill>
                <a:latin typeface="Calibri"/>
              </a:rPr>
              <a:t>Самой почитаемой среди круп была и остается</a:t>
            </a:r>
            <a:r>
              <a:rPr b="0" lang="ru-RU" sz="2400" spc="-1" strike="noStrike">
                <a:solidFill>
                  <a:srgbClr val="85540a"/>
                </a:solidFill>
                <a:latin typeface="Calibri"/>
              </a:rPr>
              <a:t> гречневая крупа</a:t>
            </a:r>
            <a:r>
              <a:rPr b="0" lang="ru-RU" sz="2000" spc="-1" strike="noStrike">
                <a:solidFill>
                  <a:srgbClr val="85540a"/>
                </a:solidFill>
                <a:latin typeface="Calibri"/>
              </a:rPr>
              <a:t> или просто гречка, недаром в Древней Руси она называлась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«матушк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324000" y="2924280"/>
            <a:ext cx="3384360" cy="3111480"/>
          </a:xfrm>
          <a:prstGeom prst="rect">
            <a:avLst/>
          </a:prstGeom>
          <a:solidFill>
            <a:srgbClr val="f3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Гречневая каша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личный гарнир для морепродуктов, рыбы, молока и яиц. Белки этих продуктов будут дополнять друг друга, а значит, организм получит больше энергии. При варке каши, важно помнить, что часть полезных веществ остается в воде, поэтому рассчитывайте воду так, чтобы не пришлось  её сл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4067280" y="2133720"/>
            <a:ext cx="4572000" cy="3934440"/>
          </a:xfrm>
          <a:prstGeom prst="rect">
            <a:avLst/>
          </a:prstGeom>
          <a:solidFill>
            <a:srgbClr val="d9d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гатая аминокислотами, она обладает высокой питательной ценностью, содержит большое количество белка — легкоусвояемые белки гречихи составляют 86% от общего количества (15% белка на 100 г крупы). Природный белок гречки подобен белку клеток человеческого организма и по питательности приравнивается к белкам сои. Иногда гречку еще называют заменителем мяса — именно благодаря содержанию большого количества белка. Содержит кальций, фосфор, йод, витамины В1 и В2, В9, РР, Е и др., много клетч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684360" y="333360"/>
            <a:ext cx="77752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олучилась  гречневая к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«Черепашка на цветочном луг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  потреб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Гречневая к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Сливочное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 украш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Сос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979640" y="476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Calibri"/>
              </a:rPr>
              <a:t>Готовим все для укр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"/>
          <p:cNvSpPr/>
          <p:nvPr/>
        </p:nvSpPr>
        <p:spPr>
          <a:xfrm>
            <a:off x="539640" y="126828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твариваем сосиски. Варим вкрутую яйцо. Мытую морковь натираем на терке, огурец нарезаем коль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179280" y="378936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рим кашу. Заливаем водой (из соотношения 1/2). Доводим до готовности. Снимаем с огня, добавляем сливочное масло и укрываем на 15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971640" y="2852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А в это врем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C:\Users\Вован\YandexDisk\Фотокамера\2017-03-19 05-47-48.JPG"/>
          <p:cNvPicPr/>
          <p:nvPr/>
        </p:nvPicPr>
        <p:blipFill>
          <a:blip r:embed="rId1"/>
          <a:stretch/>
        </p:blipFill>
        <p:spPr>
          <a:xfrm>
            <a:off x="3059280" y="1916280"/>
            <a:ext cx="58687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C:\Users\Вован\YandexDisk\Фотокамера\2017-03-19 05-49-16.JPG"/>
          <p:cNvPicPr/>
          <p:nvPr/>
        </p:nvPicPr>
        <p:blipFill>
          <a:blip r:embed="rId1"/>
          <a:stretch/>
        </p:blipFill>
        <p:spPr>
          <a:xfrm>
            <a:off x="5651640" y="0"/>
            <a:ext cx="3168360" cy="22050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"/>
          <p:cNvSpPr/>
          <p:nvPr/>
        </p:nvSpPr>
        <p:spPr>
          <a:xfrm flipH="1">
            <a:off x="1042920" y="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Готовую кашу выкладываем горкой на тарелку. Рядом кладем яйцо – это голова череп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250920" y="4508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ольца огурца прикладываем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«голове» нашей  «черепашки» – это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179280" y="1700280"/>
            <a:ext cx="3313080" cy="2284200"/>
          </a:xfrm>
          <a:prstGeom prst="rect">
            <a:avLst/>
          </a:prstGeom>
          <a:solidFill>
            <a:srgbClr val="f3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ринные яйца  являются источником полезных и ценных для организма белков, жиров, а также  различных витаминов: А, Б. В6, Д и Е. Наиболее богат витаминами желток. В нем  помимо витаминов содержится калий, кальций, железо, фосфор, йод, кобальт и  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0"/>
          <p:cNvSpPr/>
          <p:nvPr/>
        </p:nvSpPr>
        <p:spPr>
          <a:xfrm>
            <a:off x="0" y="5533920"/>
            <a:ext cx="9144000" cy="1067400"/>
          </a:xfrm>
          <a:prstGeom prst="rect">
            <a:avLst/>
          </a:prstGeom>
          <a:solidFill>
            <a:srgbClr val="e7d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урец богат полезными органическими кислотами, клетчаткой, витаминами В, А, С, РР, Е, Н. Присутствующие в составе огурца: каротин, хлорофилл, кальций, фосфор, магний, железо, натрий, хром, хлор, цирконий, марганец, никель, свинец, серебро, кофейная и фолиевая кислоты, говорят о его весомой поддержке организма в восполнении недостающих веществ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C:\Users\Вован\YandexDisk\Фотокамера\2017-03-19 05-53-02.JPG"/>
          <p:cNvPicPr/>
          <p:nvPr/>
        </p:nvPicPr>
        <p:blipFill>
          <a:blip r:embed="rId2"/>
          <a:srcRect l="13436" t="3413" r="1492" b="6440"/>
          <a:stretch/>
        </p:blipFill>
        <p:spPr>
          <a:xfrm>
            <a:off x="3564000" y="2349360"/>
            <a:ext cx="410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7928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4b3b"/>
                </a:solidFill>
                <a:latin typeface="Calibri"/>
              </a:rPr>
              <a:t>Продолжаем укра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179280" y="1484280"/>
            <a:ext cx="2448000" cy="4117320"/>
          </a:xfrm>
          <a:prstGeom prst="rect">
            <a:avLst/>
          </a:prstGeom>
          <a:solidFill>
            <a:srgbClr val="ddc0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c24"/>
                </a:solidFill>
                <a:latin typeface="Calibri"/>
              </a:rPr>
              <a:t>Сосиску делим на пять частей. Четыре – это лапки нашей черепашки, а пятую меньшую часть режем пополам – это рот и хвостик. Выкладываем  всё на блю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3276720" y="5373720"/>
            <a:ext cx="4895640" cy="1313640"/>
          </a:xfrm>
          <a:prstGeom prst="rect">
            <a:avLst/>
          </a:prstGeom>
          <a:solidFill>
            <a:srgbClr val="e7d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2c24"/>
                </a:solidFill>
                <a:latin typeface="Arial"/>
              </a:rPr>
              <a:t>Делаем цветочную полянку. Для этого из колец огурца и тертой моркови выкладываем цветы с листочками (кольцо огурца режем попол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" descr="C:\Users\Вован\YandexDisk\Фотокамера\2017-03-19 05-54-36.JPG"/>
          <p:cNvPicPr/>
          <p:nvPr/>
        </p:nvPicPr>
        <p:blipFill>
          <a:blip r:embed="rId1"/>
          <a:stretch/>
        </p:blipFill>
        <p:spPr>
          <a:xfrm>
            <a:off x="3203640" y="1341360"/>
            <a:ext cx="5329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 flipH="1">
            <a:off x="1186560" y="260280"/>
            <a:ext cx="71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2c24"/>
                </a:solidFill>
                <a:latin typeface="Arial"/>
              </a:rPr>
              <a:t>Наш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Черепаха на цветочном лугу» </a:t>
            </a:r>
            <a:r>
              <a:rPr b="0" lang="ru-RU" sz="1800" spc="-1" strike="noStrike">
                <a:solidFill>
                  <a:srgbClr val="3b2c24"/>
                </a:solidFill>
                <a:latin typeface="Arial"/>
              </a:rPr>
              <a:t>го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2987640" y="61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Приятного аппети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C:\Users\Вован\YandexDisk\Фотокамера\2017-03-19 06-02-54.JPG"/>
          <p:cNvPicPr/>
          <p:nvPr/>
        </p:nvPicPr>
        <p:blipFill>
          <a:blip r:embed="rId1"/>
          <a:srcRect l="0" t="6907" r="0" b="0"/>
          <a:stretch/>
        </p:blipFill>
        <p:spPr>
          <a:xfrm>
            <a:off x="250920" y="1052640"/>
            <a:ext cx="85690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7:47:26Z</dcterms:created>
  <dc:creator>Вован</dc:creator>
  <dc:description/>
  <dc:language>en-US</dc:language>
  <cp:lastModifiedBy>Вован</cp:lastModifiedBy>
  <dcterms:modified xsi:type="dcterms:W3CDTF">2022-04-04T18:00:55Z</dcterms:modified>
  <cp:revision>22</cp:revision>
  <dc:subject/>
  <dc:title>Слайд 1</dc:title>
</cp:coreProperties>
</file>