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402-FFFC-47E7-AD96-455D5568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363-FC6D-4F20-99B4-DBE6276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799F4-3FA3-49BC-97E3-43DD6512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71A9F-7675-4752-A499-A860979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97833-7A10-4A50-A273-675E54DD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99B2E-13BC-4629-9B3D-C40099D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41642-B50E-44F6-8B26-C644507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8D660-24E1-48DC-BDB5-96078B3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D748-8A05-4DFA-9431-1B9C934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CFAC8-211C-4CF3-B787-A035B094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D6CED-9501-4311-9D40-44014AAC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CC0-CA4F-4A8A-8818-75148D42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EC8-5B37-44BA-A49A-467FBC09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7847-7B2F-47F5-BEF1-FBBFAAAF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1456-CC69-4EE2-BBD0-0B6EEF8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6388-19B5-4A51-AD3D-7526760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355E-7F9A-4CAA-8398-1802B878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391-A5A5-4EFD-942A-A602FC8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C7C5-3091-484C-BA20-9E61E45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707D-7E62-4607-A8B2-D0B07177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949-615F-4C77-8B24-52D3581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4D2F-59A3-4BCF-8448-FB11AC8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9E5C-C846-4AC4-BDDE-182BF4F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368-F6F9-4DA4-BED2-8201FCA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290-3DE8-41A1-B157-63095B22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6AE-4034-416F-B02A-AA4ED613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0486-5BCF-42C5-94E3-0ABFB9A1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3EAB-A1F9-4D48-8E98-C134F7D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2976-C433-432B-8AE9-11418DA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DED2-8B55-4B10-B57E-25BF5FBD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690A-7F27-4F7A-8E7F-34BE632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747-6C5F-415B-AC1F-B164006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A82D-5B51-48CA-A6CB-52E4081E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0BAB-42D8-43FC-AA3D-F2EBA6E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D878-B2D4-4ECE-923D-1B4E6DF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C76B-8012-458D-B950-3EBAE1F5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1428-9EAC-4811-A97F-99F5478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92E9-4D8F-4D54-ACAD-6B460AF1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9C57-18F8-465B-A226-FCCB68F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5561-C65C-404E-B794-344F870E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C012-F72B-4731-9941-CF9D24E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8544-BCF2-48E1-85DD-6C0B18CD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737-86D9-4B8D-ABD8-37DDFEF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4076-BD39-4E8B-BF61-1C3C1648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05EA-E141-4021-A0A4-9039259B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13EE-9A47-4FCB-B23F-9B7E2BE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FF21-FAC7-4603-A4EC-4085750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C518-AD48-4940-B0FA-D42FC7E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D4A5-60A9-4287-897E-90C22D4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48AE-7F64-47C4-AC49-1B0BD0E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7A7A-3023-4441-8ABE-E866858E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9994-802D-4CDF-B64F-91E5B9A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15AC-DB95-4144-BF94-3F8F1761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F2A-9519-450E-AA8B-5A732763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2FBF-96CB-4BEE-A2E2-29606AB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B88E-1C5F-4253-A63A-D116FF8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1A4E-6621-472A-BA5F-220292C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4098-1EC8-41B6-AA5A-A7A9434F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ECAB-78D8-4664-B3BE-86E638A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40AE-598D-4DD2-B47A-C083013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5BD7-87CB-4D6F-AA1D-D67E8421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6B28-2EBF-4A5C-B893-B8A9610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47C9-56AF-4201-8614-CE8C0368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D8F6-2229-42F4-9264-86365EA2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DBB-8FA1-472C-B9BD-5CA7CE12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A16C-038F-4FCE-A19E-8BE230AF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E986-E60B-484D-B5FE-04B29B6C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737B5-E713-4629-9B35-433BF19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884C-396B-4E8F-B466-FE607AA6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4121-1FB3-4BB3-9EBA-C60955A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E94F-5309-4AB3-B61A-F02B728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FB4F-C911-4668-801D-75EF799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5DE8-1489-4E0B-96B6-E3E3BB9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C244-DA19-4244-A2A2-007D7FA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8F014-D0FE-453E-A3E5-434CAA4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ADA-5AEE-44FA-BBF5-1FA4CC6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747A-728E-4673-B72E-5068A0D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76E8F-F3E4-4874-9535-AD962C7D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EA98-F8E2-4ECE-B239-A1D563C6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2CB5-8DF5-4316-9D0F-4F1C0EE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9BB93-56B4-4A3C-97D7-768A5AA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7D024-1B77-4984-A8BB-701023E8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85BE7-8CC2-4D89-A033-727D657E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73D5-5AAD-40A0-86A4-E4977C9F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1C1C-90EC-48DF-B36B-70E54FE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6F36-5F8B-4637-AE95-4A51C0E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138-48A1-4369-8FA2-5FA107A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F733-6E6A-46A4-B075-A99527D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3C60-44C9-4ECB-B6C3-FDE8A4B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7A5A-A5B3-43D3-9FD2-F9715B8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DA18-672C-4562-9D35-8FCD07BF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FACE-9E7A-444A-9FFA-5152ACC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0893-06EC-4CE9-A31E-4DE4B1E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53DB-74E1-4914-9D43-7211258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78F7-E33B-4758-95BC-0DAF0B09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504E-752B-47E9-A3EB-7DA3341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BE78-6212-4697-854C-6F42A3B7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087-7106-4236-AA62-A2025A0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9C0E9-BC0B-4689-A6ED-92145EC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4695B-00B6-4FC8-80FE-85E76DA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2A18-CD67-45B1-96D7-BC4EB67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B651D-809D-47DB-9A8B-9E315C5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6B6C-6235-4D41-BC33-BC9A06E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90F69-EBAD-4A1D-93D6-8E584CDB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2357-265B-4462-A1FB-651C0980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8FF97-2D5F-40ED-B1B7-D648CCB2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7F643-03B2-4A79-9870-0755D5FF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6DC8D-74E5-4E35-B79A-A7D3FB0F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A86C-54A7-44A6-88B8-43A8C6C52C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DC0-35A3-4817-8E4C-335D8394E4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8DB-1A02-4D48-A6A1-B335F868A4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5C48-78CD-4F7D-B1A0-C2F2BB3205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D59-8D57-4588-86E5-6877D87825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062E-142D-471B-8661-41818C5C85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CC1-6F74-4E8F-B7D8-9804807A0E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F61-0568-4758-B543-8EEE1316DB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9972-F37C-4A9E-9066-7C3C320D5B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 flipH="1">
            <a:off x="684360" y="1125360"/>
            <a:ext cx="770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a22e"/>
                </a:solidFill>
                <a:latin typeface="Calibri"/>
              </a:rPr>
              <a:t>Инструкция –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3b14"/>
                </a:solidFill>
                <a:latin typeface="Calibri"/>
              </a:rPr>
              <a:t>«Как сделать обычное блюдо необыч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782800" y="544500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ыполнила : воспитатель Трухина Зинаид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3107880" y="59500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п. Шаранга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3564000" y="22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Крупу в кастрюлю насыпают,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Водой холодной заливают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И ставят на плиту вариться.</a:t>
            </a:r>
            <a:br>
              <a:rPr sz="2800"/>
            </a:b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И что тут может получ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540a"/>
                </a:solidFill>
                <a:latin typeface="Calibri"/>
              </a:rPr>
              <a:t>(ка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"/>
          <p:cNvSpPr/>
          <p:nvPr/>
        </p:nvSpPr>
        <p:spPr>
          <a:xfrm>
            <a:off x="179280" y="62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речневая каша — мать наша, хлебец — кормил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irecommend.ru.q5.r-99.com/sites/default/files/product-images/20118/0.jpg"/>
          <p:cNvPicPr/>
          <p:nvPr/>
        </p:nvPicPr>
        <p:blipFill>
          <a:blip r:embed="rId1"/>
          <a:srcRect l="13376" t="1663" r="15750" b="3632"/>
          <a:stretch/>
        </p:blipFill>
        <p:spPr>
          <a:xfrm>
            <a:off x="611280" y="1628640"/>
            <a:ext cx="1657080" cy="2376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5"/>
          <p:cNvSpPr/>
          <p:nvPr/>
        </p:nvSpPr>
        <p:spPr>
          <a:xfrm>
            <a:off x="395280" y="5229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6255"/>
                </a:solidFill>
                <a:latin typeface="Arial"/>
              </a:rPr>
              <a:t>А чтобы каша казалась аппетитной для малыша и её захотелось съесть мы её оформим в виде череп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539640" y="620640"/>
            <a:ext cx="7777440" cy="1312920"/>
          </a:xfrm>
          <a:prstGeom prst="rect">
            <a:avLst/>
          </a:prstGeom>
          <a:solidFill>
            <a:srgbClr val="ecc8a4"/>
          </a:solidFill>
          <a:ln w="9360">
            <a:solidFill>
              <a:srgbClr val="ddc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540a"/>
                </a:solidFill>
                <a:latin typeface="Calibri"/>
              </a:rPr>
              <a:t>Самой почитаемой среди круп была и остается</a:t>
            </a:r>
            <a:r>
              <a:rPr b="0" lang="ru-RU" sz="2400" spc="-1" strike="noStrike">
                <a:solidFill>
                  <a:srgbClr val="85540a"/>
                </a:solidFill>
                <a:latin typeface="Calibri"/>
              </a:rPr>
              <a:t> гречневая крупа</a:t>
            </a:r>
            <a:r>
              <a:rPr b="0" lang="ru-RU" sz="2000" spc="-1" strike="noStrike">
                <a:solidFill>
                  <a:srgbClr val="85540a"/>
                </a:solidFill>
                <a:latin typeface="Calibri"/>
              </a:rPr>
              <a:t> или просто гречка, недаром в Древней Руси она называлась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«матушк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324000" y="2924280"/>
            <a:ext cx="3384360" cy="311148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Гречневая каша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личный гарнир для морепродуктов, рыбы, молока и яиц. Белки этих продуктов будут дополнять друг друга, а значит, организм получит больше энергии. При варке каши, важно помнить, что часть полезных веществ остается в воде, поэтому рассчитывайте воду так, чтобы не пришлось  её сл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4067280" y="2133720"/>
            <a:ext cx="4572000" cy="3934440"/>
          </a:xfrm>
          <a:prstGeom prst="rect">
            <a:avLst/>
          </a:prstGeom>
          <a:solidFill>
            <a:srgbClr val="d9d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гатая аминокислотами, она обладает высокой питательной ценностью, содержит большое количество белка — легкоусвояемые белки гречихи составляют 86% от общего количества (15% белка на 100 г крупы). Природный белок гречки подобен белку клеток человеческого организма и по питательности приравнивается к белкам сои. Иногда гречку еще называют заменителем мяса — именно благодаря содержанию большого количества белка. Содержит кальций, фосфор, йод, витамины В1 и В2, В9, РР, Е и др., много клетч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684360" y="333360"/>
            <a:ext cx="77752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олучилась  гречневая к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«Черепашка на цветочном луг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  потреб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Гречневая к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Сливочное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украш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Сос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2c24"/>
                </a:solidFill>
                <a:latin typeface="Calibri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979640" y="476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Calibri"/>
              </a:rPr>
              <a:t>Готовим все для укр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539640" y="126828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твариваем сосиски. Варим вкрутую яйцо. Мытую морковь натираем на терке, огурец нарезаем коль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179280" y="378936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рим кашу. Заливаем водой (из соотношения 1/2). Доводим до готовности. Снимаем с огня, добавляем сливочное масло и укрываем на 15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971640" y="2852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А в это врем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C:\Users\Вован\YandexDisk\Фотокамера\2017-03-19 05-47-48.JPG"/>
          <p:cNvPicPr/>
          <p:nvPr/>
        </p:nvPicPr>
        <p:blipFill>
          <a:blip r:embed="rId1"/>
          <a:stretch/>
        </p:blipFill>
        <p:spPr>
          <a:xfrm>
            <a:off x="3059280" y="1916280"/>
            <a:ext cx="5868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C:\Users\Вован\YandexDisk\Фотокамера\2017-03-19 05-49-16.JPG"/>
          <p:cNvPicPr/>
          <p:nvPr/>
        </p:nvPicPr>
        <p:blipFill>
          <a:blip r:embed="rId1"/>
          <a:stretch/>
        </p:blipFill>
        <p:spPr>
          <a:xfrm>
            <a:off x="5651640" y="0"/>
            <a:ext cx="3168360" cy="2205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"/>
          <p:cNvSpPr/>
          <p:nvPr/>
        </p:nvSpPr>
        <p:spPr>
          <a:xfrm flipH="1">
            <a:off x="1042920" y="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Готовую кашу выкладываем горкой на тарелку. Рядом кладем яйцо – это голова череп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50920" y="4508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ольца огурца прикладываем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«голове» нашей  «черепашки» – это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179280" y="1700280"/>
            <a:ext cx="3313080" cy="228420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ринные яйца  являются источником полезных и ценных для организма белков, жиров, а также  различных витаминов: А, Б. В6, Д и Е. Наиболее богат витаминами желток. В нем  помимо витаминов содержится калий, кальций, железо, фосфор, йод, кобальт и  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0"/>
          <p:cNvSpPr/>
          <p:nvPr/>
        </p:nvSpPr>
        <p:spPr>
          <a:xfrm>
            <a:off x="0" y="5533920"/>
            <a:ext cx="9144000" cy="1067400"/>
          </a:xfrm>
          <a:prstGeom prst="rect">
            <a:avLst/>
          </a:prstGeom>
          <a:solidFill>
            <a:srgbClr val="e7d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урец богат полезными органическими кислотами, клетчаткой, витаминами В, А, С, РР, Е, Н. Присутствующие в составе огурца: каротин, хлорофилл, кальций, фосфор, магний, железо, натрий, хром, хлор, цирконий, марганец, никель, свинец, серебро, кофейная и фолиевая кислоты, говорят о его весомой поддержке организма в восполнении недостающих веществ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:\Users\Вован\YandexDisk\Фотокамера\2017-03-19 05-53-02.JPG"/>
          <p:cNvPicPr/>
          <p:nvPr/>
        </p:nvPicPr>
        <p:blipFill>
          <a:blip r:embed="rId2"/>
          <a:srcRect l="13436" t="3413" r="1492" b="6440"/>
          <a:stretch/>
        </p:blipFill>
        <p:spPr>
          <a:xfrm>
            <a:off x="3564000" y="234936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7928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4b3b"/>
                </a:solidFill>
                <a:latin typeface="Calibri"/>
              </a:rPr>
              <a:t>Продолжаем укра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179280" y="1484280"/>
            <a:ext cx="2448000" cy="4117320"/>
          </a:xfrm>
          <a:prstGeom prst="rect">
            <a:avLst/>
          </a:prstGeom>
          <a:solidFill>
            <a:srgbClr val="ddc0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Calibri"/>
              </a:rPr>
              <a:t>Сосиску делим на пять частей. Четыре – это лапки нашей черепашки, а пятую меньшую часть режем пополам – это рот и хвостик. Выкладываем  всё на блю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276720" y="5373720"/>
            <a:ext cx="4895640" cy="1313640"/>
          </a:xfrm>
          <a:prstGeom prst="rect">
            <a:avLst/>
          </a:prstGeom>
          <a:solidFill>
            <a:srgbClr val="e7d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2c24"/>
                </a:solidFill>
                <a:latin typeface="Arial"/>
              </a:rPr>
              <a:t>Делаем цветочную полянку. Для этого из колец огурца и тертой моркови выкладываем цветы с листочками (кольцо огурца режем попол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C:\Users\Вован\YandexDisk\Фотокамера\2017-03-19 05-54-36.JPG"/>
          <p:cNvPicPr/>
          <p:nvPr/>
        </p:nvPicPr>
        <p:blipFill>
          <a:blip r:embed="rId1"/>
          <a:stretch/>
        </p:blipFill>
        <p:spPr>
          <a:xfrm>
            <a:off x="3203640" y="1341360"/>
            <a:ext cx="5329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 flipH="1">
            <a:off x="1186560" y="260280"/>
            <a:ext cx="71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Наш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Черепаха на цветочном лугу» </a:t>
            </a: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го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2987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C:\Users\Вован\YandexDisk\Фотокамера\2017-03-19 06-02-54.JPG"/>
          <p:cNvPicPr/>
          <p:nvPr/>
        </p:nvPicPr>
        <p:blipFill>
          <a:blip r:embed="rId1"/>
          <a:srcRect l="0" t="6907" r="0" b="0"/>
          <a:stretch/>
        </p:blipFill>
        <p:spPr>
          <a:xfrm>
            <a:off x="250920" y="1052640"/>
            <a:ext cx="85690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47:26Z</dcterms:created>
  <dc:creator>Вован</dc:creator>
  <dc:description/>
  <dc:language>en-US</dc:language>
  <cp:lastModifiedBy>Вован</cp:lastModifiedBy>
  <dcterms:modified xsi:type="dcterms:W3CDTF">2022-04-04T18:00:55Z</dcterms:modified>
  <cp:revision>22</cp:revision>
  <dc:subject/>
  <dc:title>Слайд 1</dc:title>
</cp:coreProperties>
</file>