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9.wmf" ContentType="image/x-wmf"/>
  <Override PartName="/ppt/media/image12.gif" ContentType="image/gif"/>
  <Override PartName="/ppt/media/image20.gif" ContentType="image/gif"/>
  <Override PartName="/ppt/media/image17.jpeg" ContentType="image/jpeg"/>
  <Override PartName="/ppt/media/image5.gif" ContentType="image/gif"/>
  <Override PartName="/ppt/media/image10.gif" ContentType="image/gif"/>
  <Override PartName="/ppt/media/image2.gif" ContentType="image/gif"/>
  <Override PartName="/ppt/media/image3.gif" ContentType="image/gif"/>
  <Override PartName="/ppt/media/image14.wmf" ContentType="image/x-wmf"/>
  <Override PartName="/ppt/media/image6.gif" ContentType="image/gif"/>
  <Override PartName="/ppt/media/image11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gif" ContentType="image/gi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24E-DB15-4CEE-8CCD-4334802D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EE7-9CD9-4145-B58E-204CE026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390-AE22-418E-9669-1E8ECA1E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A80-5033-42F0-A41F-BD72B40E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B29-A623-4588-9F5D-98645ABD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57A-2D10-45E6-A513-1EA39319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EB6-7298-470A-8660-476FADF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4B7-9C22-447F-954C-CC373BB3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1F2-74EA-42E6-A5F6-2329A1BB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85F-C08A-43FF-AF6B-F80158B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0E2-2A4B-4066-A119-D719AC4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2DA-534B-4B32-8B69-A4DAD03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7E5E-7A83-4588-9F10-8C176DECA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836640"/>
            <a:ext cx="763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dal verb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933720"/>
            <a:ext cx="7772400" cy="226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, may, must, have to, be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, should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ll ought to, ne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492280"/>
            <a:ext cx="72010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nd their equival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25"/>
          <p:cNvPicPr/>
          <p:nvPr/>
        </p:nvPicPr>
        <p:blipFill>
          <a:blip r:embed="rId1"/>
          <a:stretch/>
        </p:blipFill>
        <p:spPr>
          <a:xfrm>
            <a:off x="7164360" y="260280"/>
            <a:ext cx="1655640" cy="15130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611280" y="1052640"/>
            <a:ext cx="3527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should"</a:t>
            </a:r>
            <a:endParaRPr b="0" lang="en-US" sz="2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212360" y="112536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еду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8680" y="2276640"/>
            <a:ext cx="88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want to give somebody advice, you can use 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096"/>
          <p:cNvPicPr/>
          <p:nvPr/>
        </p:nvPicPr>
        <p:blipFill>
          <a:blip r:embed="rId2"/>
          <a:stretch/>
        </p:blipFill>
        <p:spPr>
          <a:xfrm>
            <a:off x="7667640" y="31417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063"/>
          <p:cNvPicPr/>
          <p:nvPr/>
        </p:nvPicPr>
        <p:blipFill>
          <a:blip r:embed="rId3"/>
          <a:stretch/>
        </p:blipFill>
        <p:spPr>
          <a:xfrm>
            <a:off x="7667640" y="4437000"/>
            <a:ext cx="1081080" cy="9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402840" y="3357720"/>
            <a:ext cx="72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You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n for sports to be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548640" y="4653000"/>
            <a:ext cx="68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Yo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sleep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nough to be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082"/>
          <p:cNvPicPr/>
          <p:nvPr/>
        </p:nvPicPr>
        <p:blipFill>
          <a:blip r:embed="rId4"/>
          <a:stretch/>
        </p:blipFill>
        <p:spPr>
          <a:xfrm>
            <a:off x="7667640" y="5589720"/>
            <a:ext cx="106668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8"/>
          <p:cNvSpPr/>
          <p:nvPr/>
        </p:nvSpPr>
        <p:spPr>
          <a:xfrm>
            <a:off x="762120" y="580536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You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friendly to be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024"/>
          <p:cNvPicPr/>
          <p:nvPr/>
        </p:nvPicPr>
        <p:blipFill>
          <a:blip r:embed="rId1"/>
          <a:stretch/>
        </p:blipFill>
        <p:spPr>
          <a:xfrm>
            <a:off x="7308720" y="549360"/>
            <a:ext cx="155124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076"/>
          <p:cNvPicPr/>
          <p:nvPr/>
        </p:nvPicPr>
        <p:blipFill>
          <a:blip r:embed="rId2"/>
          <a:stretch/>
        </p:blipFill>
        <p:spPr>
          <a:xfrm>
            <a:off x="7740720" y="2852640"/>
            <a:ext cx="1152360" cy="100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27"/>
          <p:cNvPicPr/>
          <p:nvPr/>
        </p:nvPicPr>
        <p:blipFill>
          <a:blip r:embed="rId3"/>
          <a:stretch/>
        </p:blipFill>
        <p:spPr>
          <a:xfrm>
            <a:off x="7812000" y="4149720"/>
            <a:ext cx="1121040" cy="94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051"/>
          <p:cNvPicPr/>
          <p:nvPr/>
        </p:nvPicPr>
        <p:blipFill>
          <a:blip r:embed="rId4"/>
          <a:stretch/>
        </p:blipFill>
        <p:spPr>
          <a:xfrm>
            <a:off x="7885080" y="5373720"/>
            <a:ext cx="10479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9"/>
          <p:cNvSpPr txBox="1"/>
          <p:nvPr/>
        </p:nvSpPr>
        <p:spPr>
          <a:xfrm>
            <a:off x="395280" y="105264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shouldn't"</a:t>
            </a:r>
            <a:endParaRPr b="0" lang="en-US" sz="2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212720" y="1125360"/>
            <a:ext cx="30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е следу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9400" y="2276640"/>
            <a:ext cx="75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advice is negative, you can use 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hould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554840" y="3068640"/>
            <a:ext cx="61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You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n’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moke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to be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484280" y="429264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You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n’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unhealthy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410840" y="5516640"/>
            <a:ext cx="645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You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n’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n the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too long to be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59560" y="1557360"/>
            <a:ext cx="88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want to ask for advice, you can put the word 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beginning of your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ывыв"/>
          <p:cNvPicPr/>
          <p:nvPr/>
        </p:nvPicPr>
        <p:blipFill>
          <a:blip r:embed="rId1"/>
          <a:stretch/>
        </p:blipFill>
        <p:spPr>
          <a:xfrm>
            <a:off x="3995640" y="260280"/>
            <a:ext cx="129708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045"/>
          <p:cNvPicPr/>
          <p:nvPr/>
        </p:nvPicPr>
        <p:blipFill>
          <a:blip r:embed="rId2"/>
          <a:stretch/>
        </p:blipFill>
        <p:spPr>
          <a:xfrm>
            <a:off x="6948360" y="3429000"/>
            <a:ext cx="2016360" cy="1800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338840" y="3068640"/>
            <a:ext cx="52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ult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the do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93480" y="400536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 your attention to the possible 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4520" y="4836960"/>
            <a:ext cx="31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Yes, yo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697760" y="5445000"/>
            <a:ext cx="33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o, yo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houldn’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684360" y="692280"/>
            <a:ext cx="655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ll in "should" or "shouldn't"</a:t>
            </a:r>
            <a:endParaRPr b="0" lang="en-US" sz="2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6" descr="017"/>
          <p:cNvPicPr/>
          <p:nvPr/>
        </p:nvPicPr>
        <p:blipFill>
          <a:blip r:embed="rId1"/>
          <a:stretch/>
        </p:blipFill>
        <p:spPr>
          <a:xfrm>
            <a:off x="7524720" y="404640"/>
            <a:ext cx="1368360" cy="1295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541800" y="23493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620360" y="23493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918520" y="234936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p early and go to bed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551960" y="23493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21280" y="28717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619280" y="28526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696320" y="2852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132000" y="285264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 too much or too li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41800" y="33577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19280" y="3357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696320" y="33577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204000" y="33577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TV too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41800" y="37893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41800" y="4221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41800" y="4653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541800" y="5084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696320" y="4221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1623240" y="4653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623240" y="37893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696320" y="551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1693440" y="37893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1693440" y="50846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1693440" y="46530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2917800" y="378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 vitam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1619280" y="4221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1619280" y="55166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3134880" y="422100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 between me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2846160" y="46530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gular exerc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1623240" y="5084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2918520" y="50846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cold sh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541800" y="5516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9"/>
          <p:cNvSpPr/>
          <p:nvPr/>
        </p:nvSpPr>
        <p:spPr>
          <a:xfrm>
            <a:off x="3205080" y="551664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ed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0" descr="bravo"/>
          <p:cNvPicPr/>
          <p:nvPr/>
        </p:nvPicPr>
        <p:blipFill>
          <a:blip r:embed="rId2"/>
          <a:stretch/>
        </p:blipFill>
        <p:spPr>
          <a:xfrm>
            <a:off x="6659640" y="3860640"/>
            <a:ext cx="2087640" cy="2089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1"/>
          <p:cNvSpPr/>
          <p:nvPr/>
        </p:nvSpPr>
        <p:spPr>
          <a:xfrm>
            <a:off x="6732000" y="59500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ell don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Arial"/>
              </a:rPr>
              <a:t>Sh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95280" y="1052640"/>
            <a:ext cx="8353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hall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 местоимениям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you, he, she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1916280"/>
            <a:ext cx="914400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ает обязанность или обязательство совер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в силу установленных законов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оворенностей и используется в офици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х (контрактах, юридических докумен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ующем русском предложении употреб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етание глагола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олжен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нфинит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79280" y="5013360"/>
            <a:ext cx="87138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 one shall inform about the private life of any citizen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икто не должен давать информацию о личной жизни любого гражд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1868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ля  образования отрицательной и вопросительной формы с глаголо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have to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потребляются вспомогательный глагол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/does/did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 Why do you have to go to the dentist every three month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not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 «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ve I to do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d you have to go to school yesterday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not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 «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d you to go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4211640" y="3789360"/>
            <a:ext cx="115236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4284720" y="3789360"/>
            <a:ext cx="100800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4067280" y="4869000"/>
            <a:ext cx="1512720" cy="50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4140360" y="4869000"/>
            <a:ext cx="1295280" cy="50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o have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 вопросительных и отрицательных предложениях в значении должен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600200"/>
          <a:ext cx="8569080" cy="5097600"/>
        </p:xfrm>
        <a:graphic>
          <a:graphicData uri="http://schemas.openxmlformats.org/drawingml/2006/table">
            <a:tbl>
              <a:tblPr/>
              <a:tblGrid>
                <a:gridCol w="1081080"/>
                <a:gridCol w="2838240"/>
                <a:gridCol w="1770120"/>
                <a:gridCol w="2879640"/>
              </a:tblGrid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to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oe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o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o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on’t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on’t 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oesn’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oesn’t 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 to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i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i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idn’t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idn’t 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ll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on’t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on’t 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t up earl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00" y="1628640"/>
          <a:ext cx="8135640" cy="2567160"/>
        </p:xfrm>
        <a:graphic>
          <a:graphicData uri="http://schemas.openxmlformats.org/drawingml/2006/table">
            <a:tbl>
              <a:tblPr/>
              <a:tblGrid>
                <a:gridCol w="813564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*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eedn’t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clean the window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бе не нужно мыть ок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*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hey are clean alread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ни чист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57200" y="4653000"/>
          <a:ext cx="8229600" cy="1081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Needn’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никакой необходимости (нужд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Какой глагол следует употреб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Нам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шлос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йти с бейсбольного матча, так как мы боялись опоздать на последний автоб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re t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ad to 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must   d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houl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М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лжны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договорились) встретиться у стад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ave t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re to 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must   d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ugh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лжны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быть на занятиях в школе за партой до того, как прозвенит зво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st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ave to 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ught to d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ам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едует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делать домашнее задание ежедне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st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ave to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uld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ught t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едует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стучаться , перед тем, как Вы вход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st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ught t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uld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ave t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нужн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нет по расписанию) приходить сегодн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н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have t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mustn’t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e not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ee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ченикам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прещен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грать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st not    b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on’t have to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ee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an you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hop like a rabbit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jump like a frog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walk like a duck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run like a dog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fly like a bird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swim like a fish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d be still like a good child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s still as you wish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 Вам не нужно покупать эту книгу. Она у меня 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needn’t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)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Автобус пришел, и м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лжны был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дти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must   b) ha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0. Т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лжн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ассказать ему эти новости, я настаи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must   b)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Я не люблю вставать рано, но 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лжн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приходится)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ак как занятия начинаются в 8 часов у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must   b)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1619280" y="285264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 healthy !!!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Picture 6" descr="J0233047"/>
          <p:cNvPicPr/>
          <p:nvPr/>
        </p:nvPicPr>
        <p:blipFill>
          <a:blip r:embed="rId1"/>
          <a:stretch/>
        </p:blipFill>
        <p:spPr>
          <a:xfrm>
            <a:off x="2916360" y="47628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BD06529_"/>
          <p:cNvPicPr/>
          <p:nvPr/>
        </p:nvPicPr>
        <p:blipFill>
          <a:blip r:embed="rId2"/>
          <a:stretch/>
        </p:blipFill>
        <p:spPr>
          <a:xfrm>
            <a:off x="4932360" y="333360"/>
            <a:ext cx="2052720" cy="1893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trumb_27222407"/>
          <p:cNvPicPr/>
          <p:nvPr/>
        </p:nvPicPr>
        <p:blipFill>
          <a:blip r:embed="rId3"/>
          <a:stretch/>
        </p:blipFill>
        <p:spPr>
          <a:xfrm>
            <a:off x="324000" y="4653000"/>
            <a:ext cx="2447640" cy="1728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j0316850"/>
          <p:cNvPicPr/>
          <p:nvPr/>
        </p:nvPicPr>
        <p:blipFill>
          <a:blip r:embed="rId4"/>
          <a:stretch/>
        </p:blipFill>
        <p:spPr>
          <a:xfrm>
            <a:off x="7236000" y="4149720"/>
            <a:ext cx="165564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J0233050"/>
          <p:cNvPicPr/>
          <p:nvPr/>
        </p:nvPicPr>
        <p:blipFill>
          <a:blip r:embed="rId5"/>
          <a:stretch/>
        </p:blipFill>
        <p:spPr>
          <a:xfrm>
            <a:off x="324000" y="260280"/>
            <a:ext cx="2460600" cy="1776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J0324642"/>
          <p:cNvPicPr/>
          <p:nvPr/>
        </p:nvPicPr>
        <p:blipFill>
          <a:blip r:embed="rId6"/>
          <a:stretch/>
        </p:blipFill>
        <p:spPr>
          <a:xfrm>
            <a:off x="7093080" y="476280"/>
            <a:ext cx="1763640" cy="1814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053"/>
          <p:cNvPicPr/>
          <p:nvPr/>
        </p:nvPicPr>
        <p:blipFill>
          <a:blip r:embed="rId7"/>
          <a:stretch/>
        </p:blipFill>
        <p:spPr>
          <a:xfrm>
            <a:off x="3995640" y="4581360"/>
            <a:ext cx="1584360" cy="129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* * 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mpty-Dumpty sat on a wall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mpty-Dumpty had a great fall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 the King’s horses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d all the King’s men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uldn’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put Humpty together again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* *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m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o no more then 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* *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il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mus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rs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creep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n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5"/>
          <p:cNvSpPr/>
          <p:nvPr/>
        </p:nvSpPr>
        <p:spPr>
          <a:xfrm>
            <a:off x="250920" y="4221000"/>
            <a:ext cx="3241440" cy="263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Modal verbs CAN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nd their equivalent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3708360" y="1341360"/>
            <a:ext cx="1800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1"/>
          <p:cNvSpPr/>
          <p:nvPr/>
        </p:nvSpPr>
        <p:spPr>
          <a:xfrm>
            <a:off x="250920" y="2492280"/>
            <a:ext cx="244944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Ab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2"/>
          <p:cNvSpPr/>
          <p:nvPr/>
        </p:nvSpPr>
        <p:spPr>
          <a:xfrm>
            <a:off x="3348000" y="2492280"/>
            <a:ext cx="25210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Ab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2"/>
          <p:cNvSpPr/>
          <p:nvPr/>
        </p:nvSpPr>
        <p:spPr>
          <a:xfrm>
            <a:off x="111600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3"/>
          <p:cNvSpPr/>
          <p:nvPr/>
        </p:nvSpPr>
        <p:spPr>
          <a:xfrm>
            <a:off x="1547640" y="2205000"/>
            <a:ext cx="60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5"/>
          <p:cNvSpPr/>
          <p:nvPr/>
        </p:nvSpPr>
        <p:spPr>
          <a:xfrm>
            <a:off x="15476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6"/>
          <p:cNvSpPr/>
          <p:nvPr/>
        </p:nvSpPr>
        <p:spPr>
          <a:xfrm>
            <a:off x="457200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8"/>
          <p:cNvSpPr/>
          <p:nvPr/>
        </p:nvSpPr>
        <p:spPr>
          <a:xfrm>
            <a:off x="759636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0"/>
          <p:cNvSpPr/>
          <p:nvPr/>
        </p:nvSpPr>
        <p:spPr>
          <a:xfrm flipV="1">
            <a:off x="457200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2"/>
          <p:cNvSpPr/>
          <p:nvPr/>
        </p:nvSpPr>
        <p:spPr>
          <a:xfrm>
            <a:off x="428472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3"/>
          <p:cNvSpPr/>
          <p:nvPr/>
        </p:nvSpPr>
        <p:spPr>
          <a:xfrm>
            <a:off x="6300720" y="2492280"/>
            <a:ext cx="244944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Will be ab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4"/>
          <p:cNvSpPr/>
          <p:nvPr/>
        </p:nvSpPr>
        <p:spPr>
          <a:xfrm>
            <a:off x="250920" y="4292640"/>
            <a:ext cx="316872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Lucida Handwriting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Lucida Handwriting"/>
              </a:rPr>
              <a:t>Возмож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Lucida Handwriting"/>
              </a:rPr>
              <a:t>Могу, умею,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Lucida Handwriting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Lucida Handwriting"/>
              </a:rPr>
              <a:t>Раз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Lucida Handwriting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Lucida Handwriting"/>
              </a:rPr>
              <a:t>Запр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Handwriting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Lucida Handwriting"/>
              </a:rPr>
              <a:t>нельз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6"/>
          <p:cNvSpPr/>
          <p:nvPr/>
        </p:nvSpPr>
        <p:spPr>
          <a:xfrm>
            <a:off x="3924360" y="4221000"/>
            <a:ext cx="5040360" cy="263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7"/>
          <p:cNvSpPr/>
          <p:nvPr/>
        </p:nvSpPr>
        <p:spPr>
          <a:xfrm>
            <a:off x="3924360" y="4327560"/>
            <a:ext cx="504036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an 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run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an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 speak French.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an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 he do su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an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 I have a cup of coff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You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an’t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 cross the stree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8"/>
          <p:cNvSpPr/>
          <p:nvPr/>
        </p:nvSpPr>
        <p:spPr>
          <a:xfrm>
            <a:off x="3492360" y="486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9"/>
          <p:cNvSpPr/>
          <p:nvPr/>
        </p:nvSpPr>
        <p:spPr>
          <a:xfrm>
            <a:off x="3492360" y="5516640"/>
            <a:ext cx="358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0"/>
          <p:cNvSpPr/>
          <p:nvPr/>
        </p:nvSpPr>
        <p:spPr>
          <a:xfrm>
            <a:off x="3492360" y="616572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ения глагола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coul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вивалента не всегда пол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ют. В некоторых случаях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could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вивалент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was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w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able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ных контекст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ul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стоянная способность делать ч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бо в прошлом - </a:t>
            </a:r>
            <a:r>
              <a:rPr b="1" i="1" lang="ru-RU" sz="2800" spc="-1" strike="noStrike">
                <a:solidFill>
                  <a:srgbClr val="cc00ff"/>
                </a:solidFill>
                <a:latin typeface="Arial"/>
              </a:rPr>
              <a:t>мо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as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ere able t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е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1" i="1" lang="ru-RU" sz="2800" spc="-1" strike="noStrike">
                <a:solidFill>
                  <a:srgbClr val="cc00ff"/>
                </a:solidFill>
                <a:latin typeface="Arial"/>
              </a:rPr>
              <a:t>смог, удалос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ту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ld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read when I was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When he was 17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ld 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play chess well. Once he ev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s able to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beat the</a:t>
            </a:r>
            <a:br>
              <a:rPr sz="2800"/>
            </a:b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Modal verbs MAY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nd their equivalent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564000" y="1484280"/>
            <a:ext cx="1655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Be all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95280" y="2492280"/>
            <a:ext cx="2160720" cy="16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        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Allow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059280" y="2492280"/>
            <a:ext cx="2592360" cy="16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Allow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084720" y="2492280"/>
            <a:ext cx="2590920" cy="16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Will be allowed 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1116000" y="31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399564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1403280" y="227664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428472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403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7308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395280" y="4365720"/>
            <a:ext cx="2808360" cy="24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3780000" y="4365720"/>
            <a:ext cx="5184720" cy="24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95280" y="4292640"/>
            <a:ext cx="28814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Раз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Можно, разреш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2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рогое запр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Не с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3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озмож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(воз)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780000" y="4327560"/>
            <a:ext cx="518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 come in? Yes you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can</a:t>
            </a:r>
            <a:r>
              <a:rPr b="1" lang="ru-RU" sz="2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(ma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, you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can’t (ma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may no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leave the room until I say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ma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ten see such faces in the South 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320364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3203640" y="551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3203640" y="638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просить разрешение сделать что- либо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/ COULD/ MAY/ M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borrow your  p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аткий отрицательный ответ на такой вопрос мож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ыть выражен следующим образ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ff"/>
                </a:solidFill>
                <a:latin typeface="Arial"/>
              </a:rPr>
              <a:t>No, I don’t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ьба не делать э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No you may not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No you must not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щение происходит не от вас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щ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No you can not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ми закона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используем эквивалент модального глаг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ff"/>
                </a:solidFill>
                <a:latin typeface="Arial"/>
              </a:rPr>
              <a:t>may ( be allowed/ permitted to…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гда хотим подчеркну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о разрешени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запрещение исходит от кого- либ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You </a:t>
            </a:r>
            <a:r>
              <a:rPr b="1" lang="en-US" sz="2200" spc="-1" strike="noStrike">
                <a:solidFill>
                  <a:srgbClr val="9900cc"/>
                </a:solidFill>
                <a:latin typeface="Arial"/>
              </a:rPr>
              <a:t>are not allowed/ permitted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 to wait he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Modal verbs MUST and their equival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4360" y="2276640"/>
          <a:ext cx="7991280" cy="2011320"/>
        </p:xfrm>
        <a:graphic>
          <a:graphicData uri="http://schemas.openxmlformats.org/drawingml/2006/table">
            <a:tbl>
              <a:tblPr/>
              <a:tblGrid>
                <a:gridCol w="2706480"/>
                <a:gridCol w="2714760"/>
                <a:gridCol w="257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M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must have/has t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had t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will have to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am/is/are t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was/were t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" name="Rectangle 59"/>
          <p:cNvSpPr/>
          <p:nvPr/>
        </p:nvSpPr>
        <p:spPr>
          <a:xfrm>
            <a:off x="3419640" y="1484280"/>
            <a:ext cx="2447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hav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4365720"/>
          <a:ext cx="7993080" cy="288900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долг, обязательств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We </a:t>
                      </a:r>
                      <a:r>
                        <a:rPr b="1" lang="en-US" sz="16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must 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study ha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долж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lang="en-US" sz="16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must 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buy some bre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риказ, настоятельный сов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16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must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 go there at on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долж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16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must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 see the doctor immediatel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запрещение: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нельзя, запре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16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mustn't 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smoke 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B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1628640"/>
          <a:ext cx="8713800" cy="4608720"/>
        </p:xfrm>
        <a:graphic>
          <a:graphicData uri="http://schemas.openxmlformats.org/drawingml/2006/table">
            <a:tbl>
              <a:tblPr/>
              <a:tblGrid>
                <a:gridCol w="2252880"/>
                <a:gridCol w="2322360"/>
                <a:gridCol w="1525680"/>
                <a:gridCol w="1450800"/>
                <a:gridCol w="1162080"/>
              </a:tblGrid>
              <a:tr h="10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m to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meet her in the library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 должен (мне предстоит,  мы договорились) встретиться с ней в библиотеке сегод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Be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ен (я обещал, запланировал по расписанию, по договорен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m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re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a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ere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2:47:08Z</dcterms:created>
  <dc:creator>1</dc:creator>
  <dc:description/>
  <dc:language>en-US</dc:language>
  <cp:lastModifiedBy>user</cp:lastModifiedBy>
  <dcterms:modified xsi:type="dcterms:W3CDTF">2022-04-01T11:07:15Z</dcterms:modified>
  <cp:revision>20</cp:revision>
  <dc:subject/>
  <dc:title>Слайд 1</dc:title>
</cp:coreProperties>
</file>