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4C76-9130-4F0D-B9A2-0B402BA7D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4E4C-B356-4A18-8A9F-F28041342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A2BB9D-7857-4810-BF00-023F91382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E7820A-798F-46D2-A3A4-2D66F91EA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923BBA-EB67-4CD2-A314-61548EAFF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75102C-A27E-444A-B140-DC411699D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135C61-863C-4CAC-A537-147B9FC30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91FF36-021C-4A45-A838-E9789750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1DA108-08EC-49FB-8EEC-A634AF2B4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7D14CE-B7BC-44A6-AEB2-38C97DD1D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7645BD-32E8-49C4-89FF-AA9BC9EC9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C58E-7E08-401D-AD81-FA414BBF3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0765-E88B-4847-8A76-265265594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DAC8A-EB74-4E0A-B8D1-873C88A73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F5B28-AE49-4E6B-88E1-4BEB3B06C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71B35-B923-4149-8985-7A33FF533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E0A1E-C2AD-48DE-9D15-5FD38B52F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8137F-EBCA-409F-995D-64C6B57E3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D0AD0-31F3-4583-8A75-188A944D3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B9F19-B37B-4B51-BAA6-ED00C16BC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BCB0-4EB9-42FA-B4CF-5662BD07A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B2E6E-96AA-4313-905C-23026B32A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DBA3E-5B4C-4ECC-80C0-6AF4D0984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5E0B7-B7DD-4718-9218-F969B0EA0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A497C-DBE4-4182-82EB-C38075FA1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2B230-486F-45DF-84EA-30794EBA6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98728-174B-4859-AB9F-C2BC16507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D002F-5793-40A1-BDA4-BF9222397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3E813-5B4B-40E5-9E64-71574AA5D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0CCCE-47B1-41A7-8E1F-47A504A80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B2870-33BB-43CD-9F60-0BB5A6367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86C2-9654-4E68-97F3-317341B69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7470E-1983-4FA9-A099-46150B76E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40D39-460D-4C43-8758-B86E4CFB9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AE1E4-A2F1-4E95-8293-7B2D868F7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42D77-5207-45C2-92C7-45366B479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F6BC8-A146-4E81-A62F-996929D2D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42002-A24C-4642-A4B5-906AC74E3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A1845-201F-4DDD-B7C0-69A3C0E0D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85F1E-65C8-47EE-857E-D9D5B3156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397FB-FE0F-4F9A-BCD3-1B7247D8F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73F85-8DFF-4A11-9CF8-C88DC6E21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B7A2-83FE-459F-87D7-9C5966788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E1D3A-B042-40EB-BCEF-D43CF8368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5DEF1-986D-4233-8832-13197A81C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1417D-5805-485B-8DEE-84CD33305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6D3D3-D8A9-468B-98E9-A6C084CF0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F0E2E-B7A7-49FC-9B41-3C244D681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E21E66-837D-4319-9A31-6A11E1B95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37950-46CB-45C8-B841-F677B9EC5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2B28B-2FE0-4792-BF30-EDBE92902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A9685-3586-47AB-A898-8CF5EA70D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B3C1ED-5A95-4DE9-B367-FBF59AFBB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4C29-8FD0-4476-ABBA-47C2181F5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6D930D-4256-432F-A0F7-36A1E8914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682C75-EFC8-4DC0-A768-27C1E33AC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E24B11-DB7B-4FAF-AA95-7ACFF0818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A7ADC2-AE91-4E0E-A746-020F0D920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1A145D-7180-4CEB-A20C-8A359AAC5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9F2ED7-A7FA-477A-81C6-F80126725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AE9363-0C9F-4614-96C7-FF56FEB2A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2F3CEA-8808-4411-9E79-3EE3B5B3A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46BB77-5F96-4E63-8165-7096E3AE7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748AE4-C829-4094-8683-08811653A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6D85-6AA4-4421-B94F-911C4BE24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B29689-AAA7-43B0-82C3-5898FE173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0A2B8A-E452-4F76-BA8C-466DA6DA3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ED4915-F60A-4DA3-8392-67AF605C6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219417-BFD8-49A7-B34F-DE5402895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D0E05F-1AE2-4571-9DCD-A02FC684C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11967B-3F00-4993-A0F6-00B89FA46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0CCB6D-29A5-460A-B44C-6B5510D8F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55B88C-060D-4AED-92FE-98E85786D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640D81-AD19-4306-99A6-F7E9BBD9E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92082A-7F53-413C-963B-432F7218B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DD0F-3185-4548-9973-EC4A83F4C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80654E-EE03-4132-8CCC-3E045F575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024471-A246-4640-A7D5-80A76F226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5D9F81-524D-4FC6-B2C8-763B19DD8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163114-BBCE-4DB9-B0DB-F58CDFBF4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B4943F-111A-434E-BA24-04D4C69AF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8DC6ED-D09E-4B23-97FE-AA9421BBC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9D5DBA-F9B9-48B9-AF25-D63AB8542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0F3599-73A3-4A9F-9752-E0E5548E0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35ACB0-6142-4201-BA78-56F97C91D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7E4CCF-E186-45F4-9C81-1483F628A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42C0-0EF4-4212-A227-76625A7E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9F30B4-53ED-43E9-9560-542FEB37C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914505-E869-40ED-A296-AD5F98AE9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B9A903-80E7-4CFB-B4FD-8BA6C6AB2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891BFD-A268-4494-814F-05258F22E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5867C6-3B54-49D7-98B1-05F81FFE5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E9FD98-FC8A-44D4-997A-2B39B93AB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6997A4-974F-401C-B1EF-FCA8FD160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19CFD2-39B0-4F18-8B5B-7D20A571B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D9E284-5823-48B4-8596-FAF2B38FA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1B5C92-E8D0-417D-93BD-F3682D79F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D400-3114-4EF1-AA56-A921B5F9E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083EA8-28FA-4617-8645-69CE16C6E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D92F3A-72B2-4909-B820-42343DD9B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64E1E8-AF5B-4F3A-96B4-88D2704F2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864742-EEAB-43C3-8B5E-96C2EED02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2B0687-65DB-493B-93D1-10AE78472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F804B7-0A88-40BD-B850-67E915D0A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DF7613-7AAC-4FD5-9B6F-7650C7D2E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5C810B-27B5-47D2-959B-C600E5657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36CCF0-BC29-4DB1-AB6B-BA67C219B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65A213-688C-4ABB-8E66-D79C9A5F1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AFD96-C862-47F9-823A-60925067715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3C0A4-14CC-4532-B59E-30D0F7F4494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0FADE-C062-433B-A103-35961A19A6C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10A78-EFD4-46E7-859D-674F0CA9A90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9CD92-8432-4B67-BFEE-10AE0623A17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14C84-E429-44B5-9252-CFCB08BE02F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7874B-4CE4-49C6-9834-0EBCFB02AD3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9F580-B285-4DFD-941F-534A58C5ECA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25F09-27C9-41A6-95CB-AE880399077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TextBox 1" descr=""/>
          <p:cNvPicPr/>
          <p:nvPr/>
        </p:nvPicPr>
        <p:blipFill>
          <a:blip r:embed="rId1"/>
          <a:stretch/>
        </p:blipFill>
        <p:spPr>
          <a:xfrm>
            <a:off x="895320" y="2341440"/>
            <a:ext cx="7426440" cy="1096920"/>
          </a:xfrm>
          <a:prstGeom prst="rect">
            <a:avLst/>
          </a:prstGeom>
          <a:ln w="0">
            <a:noFill/>
          </a:ln>
        </p:spPr>
      </p:pic>
      <p:sp>
        <p:nvSpPr>
          <p:cNvPr id="400" name="TextBox 2"/>
          <p:cNvSpPr/>
          <p:nvPr/>
        </p:nvSpPr>
        <p:spPr>
          <a:xfrm>
            <a:off x="4861080" y="4797360"/>
            <a:ext cx="4306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олни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спитатель МБДОУ д /с «Ручеё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ухина З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Лента лицом вниз 10"/>
          <p:cNvSpPr/>
          <p:nvPr/>
        </p:nvSpPr>
        <p:spPr>
          <a:xfrm>
            <a:off x="900000" y="692280"/>
            <a:ext cx="6840720" cy="2160360"/>
          </a:xfrm>
          <a:custGeom>
            <a:avLst/>
            <a:gdLst>
              <a:gd name="textAreaLeft" fmla="*/ 1710000 w 6840720"/>
              <a:gd name="textAreaRight" fmla="*/ 5130720 w 6840720"/>
              <a:gd name="textAreaTop" fmla="*/ 360000 h 2160360"/>
              <a:gd name="textAreaBottom" fmla="*/ 2160720 h 21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solidFill>
            <a:srgbClr val="fbeec9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Блок-схема: карточка 9"/>
          <p:cNvSpPr/>
          <p:nvPr/>
        </p:nvSpPr>
        <p:spPr>
          <a:xfrm>
            <a:off x="6372360" y="4076640"/>
            <a:ext cx="2447640" cy="2449440"/>
          </a:xfrm>
          <a:prstGeom prst="flowChartPunchedCard">
            <a:avLst/>
          </a:prstGeom>
          <a:solidFill>
            <a:srgbClr val="d9d5c7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Блок-схема: документ 8"/>
          <p:cNvSpPr/>
          <p:nvPr/>
        </p:nvSpPr>
        <p:spPr>
          <a:xfrm>
            <a:off x="2843280" y="3141720"/>
            <a:ext cx="3241440" cy="237636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ая выноска 7"/>
          <p:cNvSpPr/>
          <p:nvPr/>
        </p:nvSpPr>
        <p:spPr>
          <a:xfrm>
            <a:off x="324000" y="4221000"/>
            <a:ext cx="2160360" cy="215928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e2d6c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1"/>
          <p:cNvSpPr/>
          <p:nvPr/>
        </p:nvSpPr>
        <p:spPr>
          <a:xfrm>
            <a:off x="2771640" y="1087920"/>
            <a:ext cx="338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Модели взаимодействия</a:t>
            </a:r>
            <a:r>
              <a:rPr b="0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 взрослого  с ребен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"/>
          <p:cNvSpPr/>
          <p:nvPr/>
        </p:nvSpPr>
        <p:spPr>
          <a:xfrm>
            <a:off x="468360" y="4598280"/>
            <a:ext cx="1979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Модель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«невмешательства»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 в жизнь ребе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3"/>
          <p:cNvSpPr/>
          <p:nvPr/>
        </p:nvSpPr>
        <p:spPr>
          <a:xfrm>
            <a:off x="6516720" y="4750200"/>
            <a:ext cx="2627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Учебно-дисциплинарная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 модель взаимодей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4"/>
          <p:cNvSpPr/>
          <p:nvPr/>
        </p:nvSpPr>
        <p:spPr>
          <a:xfrm>
            <a:off x="2987640" y="3207600"/>
            <a:ext cx="28432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Личностно-ориентированная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 модель взаимодействия взрослого с деть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9" name="Прямая со стрелкой 12"/>
          <p:cNvCxnSpPr/>
          <p:nvPr/>
        </p:nvCxnSpPr>
        <p:spPr>
          <a:xfrm>
            <a:off x="6443640" y="2781360"/>
            <a:ext cx="1131120" cy="1131120"/>
          </a:xfrm>
          <a:prstGeom prst="straightConnector1">
            <a:avLst/>
          </a:prstGeom>
          <a:ln w="10080">
            <a:solidFill>
              <a:srgbClr val="f0a22e"/>
            </a:solidFill>
            <a:miter/>
            <a:tailEnd len="med" type="arrow" w="med"/>
          </a:ln>
        </p:spPr>
      </p:cxnSp>
      <p:cxnSp>
        <p:nvCxnSpPr>
          <p:cNvPr id="410" name="Прямая со стрелкой 14"/>
          <p:cNvCxnSpPr/>
          <p:nvPr/>
        </p:nvCxnSpPr>
        <p:spPr>
          <a:xfrm flipH="1">
            <a:off x="1258560" y="2707920"/>
            <a:ext cx="937440" cy="1369080"/>
          </a:xfrm>
          <a:prstGeom prst="straightConnector1">
            <a:avLst/>
          </a:prstGeom>
          <a:ln w="10080">
            <a:solidFill>
              <a:srgbClr val="f0a22e"/>
            </a:solidFill>
            <a:miter/>
            <a:tailEnd len="med" type="arrow" w="med"/>
          </a:ln>
        </p:spPr>
      </p:cxnSp>
      <p:cxnSp>
        <p:nvCxnSpPr>
          <p:cNvPr id="411" name="Прямая со стрелкой 18"/>
          <p:cNvCxnSpPr>
            <a:stCxn id="401" idx="2"/>
          </p:cNvCxnSpPr>
          <p:nvPr/>
        </p:nvCxnSpPr>
        <p:spPr>
          <a:xfrm flipH="1">
            <a:off x="4284000" y="2852640"/>
            <a:ext cx="37080" cy="216720"/>
          </a:xfrm>
          <a:prstGeom prst="straightConnector1">
            <a:avLst/>
          </a:prstGeom>
          <a:ln w="10080">
            <a:solidFill>
              <a:srgbClr val="f0a22e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Пятиугольник 14"/>
          <p:cNvSpPr/>
          <p:nvPr/>
        </p:nvSpPr>
        <p:spPr>
          <a:xfrm>
            <a:off x="250920" y="2852640"/>
            <a:ext cx="2449440" cy="2305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1437" y="0"/>
                </a:lnTo>
                <a:lnTo>
                  <a:pt x="21600" y="10800"/>
                </a:lnTo>
                <a:lnTo>
                  <a:pt x="1143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2d6c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Стрелка вправо 9"/>
          <p:cNvSpPr/>
          <p:nvPr/>
        </p:nvSpPr>
        <p:spPr>
          <a:xfrm>
            <a:off x="755640" y="5013360"/>
            <a:ext cx="2303640" cy="136836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e2d6c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Стрелка вправо 8"/>
          <p:cNvSpPr/>
          <p:nvPr/>
        </p:nvSpPr>
        <p:spPr>
          <a:xfrm>
            <a:off x="2771640" y="3716280"/>
            <a:ext cx="1871640" cy="79236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e2d6c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Стрелка вправо 7"/>
          <p:cNvSpPr/>
          <p:nvPr/>
        </p:nvSpPr>
        <p:spPr>
          <a:xfrm>
            <a:off x="2627280" y="2133720"/>
            <a:ext cx="2160720" cy="79056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e2d6c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Стрелка вправо 6"/>
          <p:cNvSpPr/>
          <p:nvPr/>
        </p:nvSpPr>
        <p:spPr>
          <a:xfrm>
            <a:off x="1116000" y="476280"/>
            <a:ext cx="2016000" cy="115092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e2d6c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1"/>
          <p:cNvSpPr/>
          <p:nvPr/>
        </p:nvSpPr>
        <p:spPr>
          <a:xfrm>
            <a:off x="250920" y="3357720"/>
            <a:ext cx="187308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дель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невмешательтва»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в жизнь ребе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2"/>
          <p:cNvSpPr/>
          <p:nvPr/>
        </p:nvSpPr>
        <p:spPr>
          <a:xfrm>
            <a:off x="1258920" y="8366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Цель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щ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3"/>
          <p:cNvSpPr/>
          <p:nvPr/>
        </p:nvSpPr>
        <p:spPr>
          <a:xfrm>
            <a:off x="2710080" y="2349360"/>
            <a:ext cx="198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пособы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щ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4"/>
          <p:cNvSpPr/>
          <p:nvPr/>
        </p:nvSpPr>
        <p:spPr>
          <a:xfrm>
            <a:off x="2845440" y="3933720"/>
            <a:ext cx="189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актика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щ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5"/>
          <p:cNvSpPr/>
          <p:nvPr/>
        </p:nvSpPr>
        <p:spPr>
          <a:xfrm>
            <a:off x="684360" y="544500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Личностная позиция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даго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10"/>
          <p:cNvSpPr/>
          <p:nvPr/>
        </p:nvSpPr>
        <p:spPr>
          <a:xfrm>
            <a:off x="3348000" y="333360"/>
            <a:ext cx="5472000" cy="1008720"/>
          </a:xfrm>
          <a:prstGeom prst="rect">
            <a:avLst/>
          </a:prstGeom>
          <a:solidFill>
            <a:srgbClr val="ddc0b6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зрослый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Я хочу чтобы меня оставили в покое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озунг: «Ничего, сам (сама) справитс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11"/>
          <p:cNvSpPr/>
          <p:nvPr/>
        </p:nvSpPr>
        <p:spPr>
          <a:xfrm>
            <a:off x="4859280" y="1916280"/>
            <a:ext cx="4284720" cy="1008720"/>
          </a:xfrm>
          <a:prstGeom prst="rect">
            <a:avLst/>
          </a:prstGeom>
          <a:solidFill>
            <a:srgbClr val="ddc0b6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олодное наблюдение, реагирование на происходящее отстранением, уход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12"/>
          <p:cNvSpPr/>
          <p:nvPr/>
        </p:nvSpPr>
        <p:spPr>
          <a:xfrm>
            <a:off x="4788000" y="3860640"/>
            <a:ext cx="3816360" cy="703800"/>
          </a:xfrm>
          <a:prstGeom prst="rect">
            <a:avLst/>
          </a:prstGeom>
          <a:solidFill>
            <a:srgbClr val="ddc0b6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ядом, но не  вместе; мирное существ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Box 13"/>
          <p:cNvSpPr/>
          <p:nvPr/>
        </p:nvSpPr>
        <p:spPr>
          <a:xfrm>
            <a:off x="3203640" y="5229360"/>
            <a:ext cx="5940360" cy="703800"/>
          </a:xfrm>
          <a:prstGeom prst="rect">
            <a:avLst/>
          </a:prstGeom>
          <a:solidFill>
            <a:srgbClr val="ddc0b6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згляд на ребенка как на обузу, досадную помеху в решении собственных пробл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16" descr="http://player.myshared.ru/17/1178355/slides/slide_5.jpg"/>
          <p:cNvPicPr/>
          <p:nvPr/>
        </p:nvPicPr>
        <p:blipFill>
          <a:blip r:embed="rId1"/>
          <a:srcRect l="4096" t="26104" r="48661" b="14683"/>
          <a:stretch/>
        </p:blipFill>
        <p:spPr>
          <a:xfrm>
            <a:off x="250920" y="1484280"/>
            <a:ext cx="190800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Пятиугольник 14"/>
          <p:cNvSpPr/>
          <p:nvPr/>
        </p:nvSpPr>
        <p:spPr>
          <a:xfrm>
            <a:off x="0" y="2276640"/>
            <a:ext cx="2195640" cy="2376360"/>
          </a:xfrm>
          <a:custGeom>
            <a:avLst/>
            <a:gdLst>
              <a:gd name="textAreaLeft" fmla="*/ 0 w 2195640"/>
              <a:gd name="textAreaRight" fmla="*/ 2195640 w 2195640"/>
              <a:gd name="textAreaTop" fmla="*/ 0 h 2376360"/>
              <a:gd name="textAreaBottom" fmla="*/ 2376720 h 23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6c782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Стрелка вправо с вырезом 12"/>
          <p:cNvSpPr/>
          <p:nvPr/>
        </p:nvSpPr>
        <p:spPr>
          <a:xfrm>
            <a:off x="468360" y="4797360"/>
            <a:ext cx="3743280" cy="1224000"/>
          </a:xfrm>
          <a:custGeom>
            <a:avLst/>
            <a:gdLst>
              <a:gd name="textAreaLeft" fmla="*/ 305640 w 3743280"/>
              <a:gd name="textAreaRight" fmla="*/ 3437640 w 3743280"/>
              <a:gd name="textAreaTop" fmla="*/ 306000 h 1224000"/>
              <a:gd name="textAreaBottom" fmla="*/ 91800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069" y="5400"/>
                </a:lnTo>
                <a:lnTo>
                  <a:pt x="18069" y="0"/>
                </a:lnTo>
                <a:lnTo>
                  <a:pt x="21600" y="10800"/>
                </a:lnTo>
                <a:lnTo>
                  <a:pt x="18069" y="21600"/>
                </a:lnTo>
                <a:lnTo>
                  <a:pt x="18069" y="16200"/>
                </a:lnTo>
                <a:lnTo>
                  <a:pt x="0" y="16200"/>
                </a:lnTo>
                <a:lnTo>
                  <a:pt x="1766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ee0db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Стрелка вправо с вырезом 13"/>
          <p:cNvSpPr/>
          <p:nvPr/>
        </p:nvSpPr>
        <p:spPr>
          <a:xfrm>
            <a:off x="2195640" y="3573360"/>
            <a:ext cx="2305080" cy="916200"/>
          </a:xfrm>
          <a:custGeom>
            <a:avLst/>
            <a:gdLst>
              <a:gd name="textAreaLeft" fmla="*/ 228960 w 2305080"/>
              <a:gd name="textAreaRight" fmla="*/ 2076120 w 2305080"/>
              <a:gd name="textAreaTop" fmla="*/ 228960 h 916200"/>
              <a:gd name="textAreaBottom" fmla="*/ 687240 h 916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308" y="5400"/>
                </a:lnTo>
                <a:lnTo>
                  <a:pt x="17308" y="0"/>
                </a:lnTo>
                <a:lnTo>
                  <a:pt x="21600" y="10800"/>
                </a:lnTo>
                <a:lnTo>
                  <a:pt x="17308" y="21600"/>
                </a:lnTo>
                <a:lnTo>
                  <a:pt x="17308" y="16200"/>
                </a:lnTo>
                <a:lnTo>
                  <a:pt x="0" y="16200"/>
                </a:lnTo>
                <a:lnTo>
                  <a:pt x="2146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ee0db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Стрелка вправо с вырезом 11"/>
          <p:cNvSpPr/>
          <p:nvPr/>
        </p:nvSpPr>
        <p:spPr>
          <a:xfrm>
            <a:off x="2195640" y="2205000"/>
            <a:ext cx="2376360" cy="917640"/>
          </a:xfrm>
          <a:custGeom>
            <a:avLst/>
            <a:gdLst>
              <a:gd name="textAreaLeft" fmla="*/ 229320 w 2376360"/>
              <a:gd name="textAreaRight" fmla="*/ 2147040 w 2376360"/>
              <a:gd name="textAreaTop" fmla="*/ 229320 h 917640"/>
              <a:gd name="textAreaBottom" fmla="*/ 688320 h 917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430" y="5400"/>
                </a:lnTo>
                <a:lnTo>
                  <a:pt x="17430" y="0"/>
                </a:lnTo>
                <a:lnTo>
                  <a:pt x="21600" y="10800"/>
                </a:lnTo>
                <a:lnTo>
                  <a:pt x="17430" y="21600"/>
                </a:lnTo>
                <a:lnTo>
                  <a:pt x="17430" y="16200"/>
                </a:lnTo>
                <a:lnTo>
                  <a:pt x="0" y="16200"/>
                </a:lnTo>
                <a:lnTo>
                  <a:pt x="208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ee0db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Стрелка вправо с вырезом 10"/>
          <p:cNvSpPr/>
          <p:nvPr/>
        </p:nvSpPr>
        <p:spPr>
          <a:xfrm>
            <a:off x="1547640" y="836640"/>
            <a:ext cx="2592720" cy="915840"/>
          </a:xfrm>
          <a:custGeom>
            <a:avLst/>
            <a:gdLst>
              <a:gd name="textAreaLeft" fmla="*/ 228960 w 2592720"/>
              <a:gd name="textAreaRight" fmla="*/ 2363760 w 2592720"/>
              <a:gd name="textAreaTop" fmla="*/ 228960 h 915840"/>
              <a:gd name="textAreaBottom" fmla="*/ 686880 h 9158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784" y="5400"/>
                </a:lnTo>
                <a:lnTo>
                  <a:pt x="17784" y="0"/>
                </a:lnTo>
                <a:lnTo>
                  <a:pt x="21600" y="10800"/>
                </a:lnTo>
                <a:lnTo>
                  <a:pt x="17784" y="21600"/>
                </a:lnTo>
                <a:lnTo>
                  <a:pt x="17784" y="16200"/>
                </a:lnTo>
                <a:lnTo>
                  <a:pt x="0" y="16200"/>
                </a:lnTo>
                <a:lnTo>
                  <a:pt x="190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ee0db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Box 1"/>
          <p:cNvSpPr/>
          <p:nvPr/>
        </p:nvSpPr>
        <p:spPr>
          <a:xfrm>
            <a:off x="324000" y="2565360"/>
            <a:ext cx="1439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чебно-дисциплинарная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дель взаимодей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2"/>
          <p:cNvSpPr/>
          <p:nvPr/>
        </p:nvSpPr>
        <p:spPr>
          <a:xfrm>
            <a:off x="2142000" y="112536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Цель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щ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3"/>
          <p:cNvSpPr/>
          <p:nvPr/>
        </p:nvSpPr>
        <p:spPr>
          <a:xfrm>
            <a:off x="2425680" y="3789360"/>
            <a:ext cx="189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актик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общ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Box 4"/>
          <p:cNvSpPr/>
          <p:nvPr/>
        </p:nvSpPr>
        <p:spPr>
          <a:xfrm>
            <a:off x="2361600" y="2492280"/>
            <a:ext cx="198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пособы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щ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6"/>
          <p:cNvSpPr/>
          <p:nvPr/>
        </p:nvSpPr>
        <p:spPr>
          <a:xfrm>
            <a:off x="900000" y="5229360"/>
            <a:ext cx="360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Личностная позиция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даго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Box 7"/>
          <p:cNvSpPr/>
          <p:nvPr/>
        </p:nvSpPr>
        <p:spPr>
          <a:xfrm>
            <a:off x="4067280" y="549360"/>
            <a:ext cx="4752720" cy="1008720"/>
          </a:xfrm>
          <a:prstGeom prst="rect">
            <a:avLst/>
          </a:prstGeom>
          <a:solidFill>
            <a:srgbClr val="fcecd5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оружить ребенка знаниями, умениями, навы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озунг: «Делай как 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Box 8"/>
          <p:cNvSpPr/>
          <p:nvPr/>
        </p:nvSpPr>
        <p:spPr>
          <a:xfrm>
            <a:off x="4932360" y="2276640"/>
            <a:ext cx="3741840" cy="703800"/>
          </a:xfrm>
          <a:prstGeom prst="rect">
            <a:avLst/>
          </a:prstGeom>
          <a:solidFill>
            <a:srgbClr val="e7d6c5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ставление, разъяснение, угроза,  наказание, запр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Box 9"/>
          <p:cNvSpPr/>
          <p:nvPr/>
        </p:nvSpPr>
        <p:spPr>
          <a:xfrm>
            <a:off x="4859280" y="3716280"/>
            <a:ext cx="2448000" cy="398880"/>
          </a:xfrm>
          <a:prstGeom prst="rect">
            <a:avLst/>
          </a:prstGeom>
          <a:solidFill>
            <a:srgbClr val="f3eae2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иктат или оп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Box 10"/>
          <p:cNvSpPr/>
          <p:nvPr/>
        </p:nvSpPr>
        <p:spPr>
          <a:xfrm>
            <a:off x="4356000" y="4869000"/>
            <a:ext cx="4103640" cy="1008720"/>
          </a:xfrm>
          <a:prstGeom prst="rect">
            <a:avLst/>
          </a:prstGeom>
          <a:solidFill>
            <a:srgbClr val="ecea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довлетворять требование руководства и контролирующих инстан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17" descr="http://player.myshared.ru/17/1178355/slides/slide_4.jpg"/>
          <p:cNvPicPr/>
          <p:nvPr/>
        </p:nvPicPr>
        <p:blipFill>
          <a:blip r:embed="rId1"/>
          <a:stretch/>
        </p:blipFill>
        <p:spPr>
          <a:xfrm>
            <a:off x="179280" y="260280"/>
            <a:ext cx="197964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Пятиугольник 14"/>
          <p:cNvSpPr/>
          <p:nvPr/>
        </p:nvSpPr>
        <p:spPr>
          <a:xfrm>
            <a:off x="0" y="1773360"/>
            <a:ext cx="3059280" cy="2808000"/>
          </a:xfrm>
          <a:custGeom>
            <a:avLst/>
            <a:gdLst>
              <a:gd name="textAreaLeft" fmla="*/ 0 w 3059280"/>
              <a:gd name="textAreaRight" fmla="*/ 3059640 w 3059280"/>
              <a:gd name="textAreaTop" fmla="*/ 0 h 2808000"/>
              <a:gd name="textAreaBottom" fmla="*/ 2808360 h 28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686" y="0"/>
                </a:lnTo>
                <a:lnTo>
                  <a:pt x="21600" y="10800"/>
                </a:lnTo>
                <a:lnTo>
                  <a:pt x="1168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Стрелка вправо с вырезом 7"/>
          <p:cNvSpPr/>
          <p:nvPr/>
        </p:nvSpPr>
        <p:spPr>
          <a:xfrm>
            <a:off x="1258920" y="5084640"/>
            <a:ext cx="3673440" cy="936720"/>
          </a:xfrm>
          <a:custGeom>
            <a:avLst/>
            <a:gdLst>
              <a:gd name="textAreaLeft" fmla="*/ 234000 w 3673440"/>
              <a:gd name="textAreaRight" fmla="*/ 3439440 w 3673440"/>
              <a:gd name="textAreaTop" fmla="*/ 234000 h 936720"/>
              <a:gd name="textAreaBottom" fmla="*/ 702720 h 936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846" y="5400"/>
                </a:lnTo>
                <a:lnTo>
                  <a:pt x="18846" y="0"/>
                </a:lnTo>
                <a:lnTo>
                  <a:pt x="21600" y="10800"/>
                </a:lnTo>
                <a:lnTo>
                  <a:pt x="18846" y="21600"/>
                </a:lnTo>
                <a:lnTo>
                  <a:pt x="18846" y="16200"/>
                </a:lnTo>
                <a:lnTo>
                  <a:pt x="0" y="16200"/>
                </a:lnTo>
                <a:lnTo>
                  <a:pt x="13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Стрелка вправо с вырезом 8"/>
          <p:cNvSpPr/>
          <p:nvPr/>
        </p:nvSpPr>
        <p:spPr>
          <a:xfrm>
            <a:off x="3059280" y="3573360"/>
            <a:ext cx="2376360" cy="863640"/>
          </a:xfrm>
          <a:custGeom>
            <a:avLst/>
            <a:gdLst>
              <a:gd name="textAreaLeft" fmla="*/ 215640 w 2376360"/>
              <a:gd name="textAreaRight" fmla="*/ 2160720 w 2376360"/>
              <a:gd name="textAreaTop" fmla="*/ 216000 h 863640"/>
              <a:gd name="textAreaBottom" fmla="*/ 6480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675" y="5400"/>
                </a:lnTo>
                <a:lnTo>
                  <a:pt x="17675" y="0"/>
                </a:lnTo>
                <a:lnTo>
                  <a:pt x="21600" y="10800"/>
                </a:lnTo>
                <a:lnTo>
                  <a:pt x="17675" y="21600"/>
                </a:lnTo>
                <a:lnTo>
                  <a:pt x="17675" y="16200"/>
                </a:lnTo>
                <a:lnTo>
                  <a:pt x="0" y="16200"/>
                </a:lnTo>
                <a:lnTo>
                  <a:pt x="1963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Стрелка вправо с вырезом 9"/>
          <p:cNvSpPr/>
          <p:nvPr/>
        </p:nvSpPr>
        <p:spPr>
          <a:xfrm>
            <a:off x="2916360" y="1989000"/>
            <a:ext cx="2447640" cy="935280"/>
          </a:xfrm>
          <a:custGeom>
            <a:avLst/>
            <a:gdLst>
              <a:gd name="textAreaLeft" fmla="*/ 233640 w 2447640"/>
              <a:gd name="textAreaRight" fmla="*/ 2214000 w 2447640"/>
              <a:gd name="textAreaTop" fmla="*/ 233640 h 935280"/>
              <a:gd name="textAreaBottom" fmla="*/ 701640 h 935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475" y="5400"/>
                </a:lnTo>
                <a:lnTo>
                  <a:pt x="17475" y="0"/>
                </a:lnTo>
                <a:lnTo>
                  <a:pt x="21600" y="10800"/>
                </a:lnTo>
                <a:lnTo>
                  <a:pt x="17475" y="21600"/>
                </a:lnTo>
                <a:lnTo>
                  <a:pt x="17475" y="16200"/>
                </a:lnTo>
                <a:lnTo>
                  <a:pt x="0" y="16200"/>
                </a:lnTo>
                <a:lnTo>
                  <a:pt x="2063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Стрелка вправо с вырезом 6"/>
          <p:cNvSpPr/>
          <p:nvPr/>
        </p:nvSpPr>
        <p:spPr>
          <a:xfrm>
            <a:off x="1835280" y="333360"/>
            <a:ext cx="2592360" cy="1008000"/>
          </a:xfrm>
          <a:custGeom>
            <a:avLst/>
            <a:gdLst>
              <a:gd name="textAreaLeft" fmla="*/ 252000 w 2592360"/>
              <a:gd name="textAreaRight" fmla="*/ 2340360 w 2592360"/>
              <a:gd name="textAreaTop" fmla="*/ 252000 h 1008000"/>
              <a:gd name="textAreaBottom" fmla="*/ 7560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400" y="5400"/>
                </a:lnTo>
                <a:lnTo>
                  <a:pt x="17400" y="0"/>
                </a:lnTo>
                <a:lnTo>
                  <a:pt x="21600" y="10800"/>
                </a:lnTo>
                <a:lnTo>
                  <a:pt x="17400" y="21600"/>
                </a:lnTo>
                <a:lnTo>
                  <a:pt x="17400" y="16200"/>
                </a:lnTo>
                <a:lnTo>
                  <a:pt x="0" y="16200"/>
                </a:lnTo>
                <a:lnTo>
                  <a:pt x="21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Box 1"/>
          <p:cNvSpPr/>
          <p:nvPr/>
        </p:nvSpPr>
        <p:spPr>
          <a:xfrm>
            <a:off x="108000" y="1989000"/>
            <a:ext cx="2232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ичностно – ориентированна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дель взаимодействия взрослого с деть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Box 2"/>
          <p:cNvSpPr/>
          <p:nvPr/>
        </p:nvSpPr>
        <p:spPr>
          <a:xfrm>
            <a:off x="2340000" y="620640"/>
            <a:ext cx="181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л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бщ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Box 3"/>
          <p:cNvSpPr/>
          <p:nvPr/>
        </p:nvSpPr>
        <p:spPr>
          <a:xfrm>
            <a:off x="3059280" y="2276640"/>
            <a:ext cx="26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особ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бщ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Box 4"/>
          <p:cNvSpPr/>
          <p:nvPr/>
        </p:nvSpPr>
        <p:spPr>
          <a:xfrm>
            <a:off x="3203640" y="38606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кти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бщ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Box 5"/>
          <p:cNvSpPr/>
          <p:nvPr/>
        </p:nvSpPr>
        <p:spPr>
          <a:xfrm>
            <a:off x="1522440" y="5373720"/>
            <a:ext cx="353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чностная позици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даго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Box 10"/>
          <p:cNvSpPr/>
          <p:nvPr/>
        </p:nvSpPr>
        <p:spPr>
          <a:xfrm>
            <a:off x="5507640" y="3789360"/>
            <a:ext cx="2061360" cy="398880"/>
          </a:xfrm>
          <a:prstGeom prst="rect">
            <a:avLst/>
          </a:prstGeom>
          <a:solidFill>
            <a:srgbClr val="d9d5c7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трудниче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11"/>
          <p:cNvSpPr/>
          <p:nvPr/>
        </p:nvSpPr>
        <p:spPr>
          <a:xfrm>
            <a:off x="5148360" y="5013360"/>
            <a:ext cx="3600360" cy="1008720"/>
          </a:xfrm>
          <a:prstGeom prst="rect">
            <a:avLst/>
          </a:prstGeom>
          <a:solidFill>
            <a:srgbClr val="f5e3d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ересы ребёнка. Взгляд на ребенка как на полноценного партнё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12"/>
          <p:cNvSpPr/>
          <p:nvPr/>
        </p:nvSpPr>
        <p:spPr>
          <a:xfrm>
            <a:off x="5508720" y="1773360"/>
            <a:ext cx="3311280" cy="1008720"/>
          </a:xfrm>
          <a:prstGeom prst="rect">
            <a:avLst/>
          </a:prstGeom>
          <a:solidFill>
            <a:srgbClr val="fcecd5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нимание, признание и приятие личности ребе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13"/>
          <p:cNvSpPr/>
          <p:nvPr/>
        </p:nvSpPr>
        <p:spPr>
          <a:xfrm>
            <a:off x="4572000" y="333360"/>
            <a:ext cx="4392720" cy="703800"/>
          </a:xfrm>
          <a:prstGeom prst="rect">
            <a:avLst/>
          </a:prstGeom>
          <a:solidFill>
            <a:srgbClr val="f5e3d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еспечить ребенку чувство психологической защищ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2" descr="http://player.myshared.ru/17/1178355/slides/slide_2.jpg"/>
          <p:cNvPicPr/>
          <p:nvPr/>
        </p:nvPicPr>
        <p:blipFill>
          <a:blip r:embed="rId1"/>
          <a:srcRect l="15123" t="39061" r="17787" b="9279"/>
          <a:stretch/>
        </p:blipFill>
        <p:spPr>
          <a:xfrm>
            <a:off x="0" y="189000"/>
            <a:ext cx="2268360" cy="15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Облако 9"/>
          <p:cNvSpPr/>
          <p:nvPr/>
        </p:nvSpPr>
        <p:spPr>
          <a:xfrm>
            <a:off x="4284720" y="3213000"/>
            <a:ext cx="4859280" cy="3500640"/>
          </a:xfrm>
          <a:custGeom>
            <a:avLst/>
            <a:gdLst>
              <a:gd name="textAreaLeft" fmla="*/ 669600 w 4859280"/>
              <a:gd name="textAreaRight" fmla="*/ 3844080 w 4859280"/>
              <a:gd name="textAreaTop" fmla="*/ 528480 h 3500640"/>
              <a:gd name="textAreaBottom" fmla="*/ 2809800 h 350064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0f0"/>
          </a:solidFill>
          <a:ln w="25560">
            <a:solidFill>
              <a:srgbClr val="b0761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Облако 8"/>
          <p:cNvSpPr/>
          <p:nvPr/>
        </p:nvSpPr>
        <p:spPr>
          <a:xfrm>
            <a:off x="0" y="3544920"/>
            <a:ext cx="4140360" cy="3313080"/>
          </a:xfrm>
          <a:custGeom>
            <a:avLst/>
            <a:gdLst>
              <a:gd name="textAreaLeft" fmla="*/ 570600 w 4140360"/>
              <a:gd name="textAreaRight" fmla="*/ 3275280 w 4140360"/>
              <a:gd name="textAreaTop" fmla="*/ 500040 h 3313080"/>
              <a:gd name="textAreaBottom" fmla="*/ 2659320 h 331308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0f0"/>
          </a:solidFill>
          <a:ln w="25560">
            <a:solidFill>
              <a:srgbClr val="b0761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Солнце 7"/>
          <p:cNvSpPr/>
          <p:nvPr/>
        </p:nvSpPr>
        <p:spPr>
          <a:xfrm>
            <a:off x="1547640" y="0"/>
            <a:ext cx="4067280" cy="37800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TextBox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3110040" cy="1652760"/>
          </a:xfrm>
          <a:prstGeom prst="rect">
            <a:avLst/>
          </a:prstGeom>
          <a:ln w="0">
            <a:noFill/>
          </a:ln>
        </p:spPr>
      </p:pic>
      <p:sp>
        <p:nvSpPr>
          <p:cNvPr id="461" name="Прямоугольник 2"/>
          <p:cNvSpPr/>
          <p:nvPr/>
        </p:nvSpPr>
        <p:spPr>
          <a:xfrm>
            <a:off x="5796000" y="3716280"/>
            <a:ext cx="23050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одель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невмешательтва»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в жизнь реб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Прямоугольник 3"/>
          <p:cNvSpPr/>
          <p:nvPr/>
        </p:nvSpPr>
        <p:spPr>
          <a:xfrm>
            <a:off x="539640" y="4005360"/>
            <a:ext cx="286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чебно-дисциплинарная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одель взаимодей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Прямоугольник 4"/>
          <p:cNvSpPr/>
          <p:nvPr/>
        </p:nvSpPr>
        <p:spPr>
          <a:xfrm>
            <a:off x="2843280" y="1125360"/>
            <a:ext cx="180000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ичностно – ориентированна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дель взаимодействия взрослого с деть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Box 5"/>
          <p:cNvSpPr/>
          <p:nvPr/>
        </p:nvSpPr>
        <p:spPr>
          <a:xfrm>
            <a:off x="4606920" y="4941720"/>
            <a:ext cx="453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Разрыв эмоциональных связ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Ранняя самостояте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Жесток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Трудности в создании семь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Box 6"/>
          <p:cNvSpPr/>
          <p:nvPr/>
        </p:nvSpPr>
        <p:spPr>
          <a:xfrm>
            <a:off x="250920" y="4941720"/>
            <a:ext cx="3600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заимное отчу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Дети без инициатив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Умение жить по «двойному стандарту 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Box 10"/>
          <p:cNvSpPr/>
          <p:nvPr/>
        </p:nvSpPr>
        <p:spPr>
          <a:xfrm>
            <a:off x="5187960" y="260280"/>
            <a:ext cx="39560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бенок  эмоционально защищ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развитие познавательных и творческих способнос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проявляет уверенность, активность, самостояте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творческая лич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Rectangle 1" descr=""/>
          <p:cNvPicPr/>
          <p:nvPr/>
        </p:nvPicPr>
        <p:blipFill>
          <a:blip r:embed="rId1"/>
          <a:stretch/>
        </p:blipFill>
        <p:spPr>
          <a:xfrm>
            <a:off x="2487600" y="676440"/>
            <a:ext cx="6284880" cy="168264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3" descr="ÐÐ°ÑÑÐ¸Ð½ÐºÐ¸ Ð¿Ð¾ Ð·Ð°Ð¿ÑÐ¾ÑÑ Ð²Ð¾ÑÐ¿Ð¸ÑÐ°ÑÐµÐ»Ñ Ñ Ð´ÐµÑÑÐ¼Ð¸ ÐºÐ°ÑÑÐ¸Ð½ÐºÐ°"/>
          <p:cNvPicPr/>
          <p:nvPr/>
        </p:nvPicPr>
        <p:blipFill>
          <a:blip r:embed="rId2"/>
          <a:stretch/>
        </p:blipFill>
        <p:spPr>
          <a:xfrm>
            <a:off x="1835280" y="2781360"/>
            <a:ext cx="53290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10T17:44:56Z</dcterms:created>
  <dc:creator>Вован</dc:creator>
  <dc:description/>
  <dc:language>en-US</dc:language>
  <cp:lastModifiedBy>Вован</cp:lastModifiedBy>
  <dcterms:modified xsi:type="dcterms:W3CDTF">2022-04-03T16:45:19Z</dcterms:modified>
  <cp:revision>46</cp:revision>
  <dc:subject/>
  <dc:title>Слайд 1</dc:title>
</cp:coreProperties>
</file>