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AD7-6378-4155-846E-03B34016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387-73AD-41A2-9956-00DD80F0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F17D7-4828-4F5D-A814-4438E1DB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96AA1-98C2-46DC-8F9B-D6C0C72B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89A46-F1DE-4700-BE23-03C526E2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FCE71-3330-4649-A302-4A03A039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1658A-17BE-45CE-B9F1-73EC8137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39476-5E0E-48EA-ACB0-37284302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892E9-1B20-404B-9915-2B89C560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54686-F2CA-4316-B862-4577946B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18AC9-EE7F-47D4-961C-BA565B95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3EE-A6EB-4C0D-B5E4-1F4E2BF0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EF9-E75A-4180-B60F-7D7518BF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9B3C-9DF3-464C-AE1C-9AAF6A63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2A47-E7F8-4175-BDA5-59A45FE7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4602-77CC-4343-8FE8-65EDC2F1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A17B-C333-44F9-BBEB-FB3D8DF4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CB30-BF83-48D1-BABD-228A1E09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005B-B305-47AE-AC5E-908D79F0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D965-E16A-4B1F-B915-0720719D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47E-10F0-4C5E-85BA-261A4ABC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861C-271F-41BB-8123-37CF1BD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5C55-4229-44AF-947D-B529627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2C21-EB46-4D82-AF9A-3718C531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D1D3-F32A-41BF-BD0E-48E47A41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F7FC-5534-418B-8E1D-C454B0C8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F82F-7F54-484A-899E-25ED29B3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175F-340C-4046-AAFC-A0A2950A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402B-AA31-4033-95E1-554313FF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399E-FBE0-4131-8B78-15820F20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8A5A1-530E-40A1-8A94-A25451BA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1B4-4345-4C57-81DF-01CE0D38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AEEE-2F4A-46B2-ADAA-AB8B7563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D467-672E-4F26-8666-8488F102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B2A4-1EE2-4C22-961F-65F6B54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9157-12DD-41CB-AE99-AF523F00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2A46-AFC5-40F4-A556-E44B04F9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2A50-403F-4D24-A644-6A4E9449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A477-52E3-4360-A04A-B149D903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9917-EE9D-4CA1-BBE8-FB49A8FC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E77E5-DE88-4AB8-BA8E-86762564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0982F-D7EA-4AF8-9178-47D20F4B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CF3-DDE9-4C26-BD8B-3ED90D99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0173-20A9-46EE-982E-42C10762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2A90-FEE3-4F09-A666-71CF511F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87FB-2727-4FBC-9B69-70D28FB3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DDADD-CA5A-4B58-AA5F-26F3202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F503-9B17-4C4A-9D2B-81DE2F2E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F0875-6746-4F38-9766-2DF260A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C574-9AA5-4C16-B677-5C3EC270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335D-7EE5-48DB-B16B-9C77EEF1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9960-B522-4614-AE0C-7AF164B2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1D0F-4B57-4535-BBB0-BA9AFD5C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39C-ED72-447F-AF59-0A3DE65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C4C5-A99B-4278-9C60-114DE4B5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4A2D7-F8C9-4350-81DE-991E5895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93B36-C509-46F1-ADEF-97727DF9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82FBC-3158-431D-8789-9328D0B8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9383-3F70-4BC7-B902-FEAF3D65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CE96-EEFF-4D8E-9489-F17A00E3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94F00-4820-4431-A2F6-E390CFF5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77FB-8DDE-443D-AB1C-6D12A89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6F6B5-6145-4084-8A2E-DCF63AF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DB371-8FCF-469B-A7C0-C7052F48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93A-1D96-4E6C-8DB9-12CD5968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7A47-FAFF-46C1-B206-036CA2B4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76CC6-7B80-4E2D-BC87-6AECB189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982A1-4A9C-491D-972F-5B290D63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B7319-8274-45FD-AEA7-A5C5C699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CCF66-B82D-4E52-8862-6965979F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2247A-4DB1-4550-935F-DC7E8A92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58BC0-6C38-4B6E-A616-0EB31932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80445-70F7-4ACC-85A2-C7B7011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DBEB8-08F4-44B8-A266-C73B127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8A9EE-3AFF-4E7C-8005-4043E3F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69D-C383-4FE8-B9A9-0B63E935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E81CE-E241-4AD6-BF6E-43B3B5A0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35702-3730-40FC-9B6C-FEDEBAF0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C246-5F0D-4A92-B18F-30FC2FC5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3D321-18CA-4027-8310-83A70EE7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9E0F-2A3A-4440-9FF3-1A3179D2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9B258-F3E7-473D-918F-AB058A09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EA2BC-2DB5-482A-93EC-03E2627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87A41-CDA2-4014-AEB4-E8296F6E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5B295-5219-45F1-9412-D222FA4B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EAFA6-5A7F-466A-8784-CCB4A698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BC5-1B3F-49A4-BC3F-B055EB40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F0F58-20C1-4EA6-A82C-EE64614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5C46C-D7E8-4EEB-B370-606E10D3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992CC-8379-448B-B219-7B0DCBD9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E7EC9-7FCA-408A-A664-7A0339F0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C9A46-434B-45DE-90E1-86BAA39F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BFD59-0061-4CB8-9846-F87D9E4B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3E059-234C-4F2F-AFDF-7CEA96C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ED014-E330-4F46-91C8-C2BB3E85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A65B-C42B-4B10-AFAA-14A2B04A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6C4DD-F702-41C6-9E2E-B506FB38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F35-3090-4EBD-8CB8-2CBD39B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02607-19E4-4FF0-BFDE-DC9BBCB9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EB483-B55D-42CE-B101-5384C87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FB5E4-45B5-4694-AB85-9F684A72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04954-3795-4F65-893D-6DB2BA17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B46CC-5BF0-45F9-AF72-2CE5ADA0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7AD5B-BE4C-4AD8-8463-F13841EB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F8823-0228-4CFD-8E02-263203EA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2B6DA-A66A-4BFE-BA80-9E99152A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12749-BBA6-4790-B5F0-01EA7F8B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E7879-9070-464A-83C8-D90EB837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16D0-E958-4334-9F57-CB06E34147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AACE-F9FD-4210-9026-7AE3E374C3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C352-6BD0-496A-9504-070C3F3CE3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CD22-92DB-43B7-B304-DDC9F3EA4D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C964-4DDA-4B45-AD09-8046C55FCF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F2A-F502-4B63-AC78-ADBF571536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B70C-D8DD-4133-BBF9-340ED2235E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6971-59AD-4B1D-875B-52FF99AD90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CFBB-CBD4-4473-94F7-820810BFD1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1" descr=""/>
          <p:cNvPicPr/>
          <p:nvPr/>
        </p:nvPicPr>
        <p:blipFill>
          <a:blip r:embed="rId1"/>
          <a:stretch/>
        </p:blipFill>
        <p:spPr>
          <a:xfrm>
            <a:off x="895320" y="2341440"/>
            <a:ext cx="7426440" cy="10969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4861080" y="4797360"/>
            <a:ext cx="430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МБДОУ д /с «Ручеё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хина З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Лента лицом вниз 10"/>
          <p:cNvSpPr/>
          <p:nvPr/>
        </p:nvSpPr>
        <p:spPr>
          <a:xfrm>
            <a:off x="900000" y="692280"/>
            <a:ext cx="6840720" cy="2160360"/>
          </a:xfrm>
          <a:custGeom>
            <a:avLst/>
            <a:gdLst>
              <a:gd name="textAreaLeft" fmla="*/ 1710000 w 6840720"/>
              <a:gd name="textAreaRight" fmla="*/ 5130720 w 6840720"/>
              <a:gd name="textAreaTop" fmla="*/ 360000 h 2160360"/>
              <a:gd name="textAreaBottom" fmla="*/ 216072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beec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Блок-схема: карточка 9"/>
          <p:cNvSpPr/>
          <p:nvPr/>
        </p:nvSpPr>
        <p:spPr>
          <a:xfrm>
            <a:off x="6372360" y="4076640"/>
            <a:ext cx="2447640" cy="2449440"/>
          </a:xfrm>
          <a:prstGeom prst="flowChartPunchedCard">
            <a:avLst/>
          </a:prstGeom>
          <a:solidFill>
            <a:srgbClr val="d9d5c7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Блок-схема: документ 8"/>
          <p:cNvSpPr/>
          <p:nvPr/>
        </p:nvSpPr>
        <p:spPr>
          <a:xfrm>
            <a:off x="2843280" y="3141720"/>
            <a:ext cx="3241440" cy="237636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ая выноска 7"/>
          <p:cNvSpPr/>
          <p:nvPr/>
        </p:nvSpPr>
        <p:spPr>
          <a:xfrm>
            <a:off x="324000" y="4221000"/>
            <a:ext cx="2160360" cy="21592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2771640" y="108792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Модели взаимодействия</a:t>
            </a:r>
            <a:r>
              <a:rPr b="0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взрослого 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468360" y="4598280"/>
            <a:ext cx="19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Модель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«невмешательства»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в жизнь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6516720" y="4750200"/>
            <a:ext cx="26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Учебно-дисциплинарная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модель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2987640" y="3207600"/>
            <a:ext cx="284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Личностно-ориентированная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модель взаимодействия взрослого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Прямая со стрелкой 12"/>
          <p:cNvCxnSpPr/>
          <p:nvPr/>
        </p:nvCxnSpPr>
        <p:spPr>
          <a:xfrm>
            <a:off x="6443640" y="2781360"/>
            <a:ext cx="1131120" cy="11311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10" name="Прямая со стрелкой 14"/>
          <p:cNvCxnSpPr/>
          <p:nvPr/>
        </p:nvCxnSpPr>
        <p:spPr>
          <a:xfrm flipH="1">
            <a:off x="1258560" y="2707920"/>
            <a:ext cx="937440" cy="136908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11" name="Прямая со стрелкой 18"/>
          <p:cNvCxnSpPr>
            <a:stCxn id="401" idx="2"/>
          </p:cNvCxnSpPr>
          <p:nvPr/>
        </p:nvCxnSpPr>
        <p:spPr>
          <a:xfrm flipH="1">
            <a:off x="4284000" y="2852640"/>
            <a:ext cx="37080" cy="2167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ятиугольник 14"/>
          <p:cNvSpPr/>
          <p:nvPr/>
        </p:nvSpPr>
        <p:spPr>
          <a:xfrm>
            <a:off x="250920" y="2852640"/>
            <a:ext cx="2449440" cy="23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1437" y="0"/>
                </a:lnTo>
                <a:lnTo>
                  <a:pt x="21600" y="10800"/>
                </a:lnTo>
                <a:lnTo>
                  <a:pt x="114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трелка вправо 9"/>
          <p:cNvSpPr/>
          <p:nvPr/>
        </p:nvSpPr>
        <p:spPr>
          <a:xfrm>
            <a:off x="755640" y="5013360"/>
            <a:ext cx="2303640" cy="13683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трелка вправо 8"/>
          <p:cNvSpPr/>
          <p:nvPr/>
        </p:nvSpPr>
        <p:spPr>
          <a:xfrm>
            <a:off x="2771640" y="3716280"/>
            <a:ext cx="1871640" cy="792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трелка вправо 7"/>
          <p:cNvSpPr/>
          <p:nvPr/>
        </p:nvSpPr>
        <p:spPr>
          <a:xfrm>
            <a:off x="2627280" y="2133720"/>
            <a:ext cx="2160720" cy="7905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6"/>
          <p:cNvSpPr/>
          <p:nvPr/>
        </p:nvSpPr>
        <p:spPr>
          <a:xfrm>
            <a:off x="1116000" y="476280"/>
            <a:ext cx="2016000" cy="115092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2d6c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250920" y="3357720"/>
            <a:ext cx="1873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л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невмешательтва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жизнь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1258920" y="83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2710080" y="234936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2845440" y="39337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кти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684360" y="5445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чностная пози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0"/>
          <p:cNvSpPr/>
          <p:nvPr/>
        </p:nvSpPr>
        <p:spPr>
          <a:xfrm>
            <a:off x="3348000" y="333360"/>
            <a:ext cx="5472000" cy="1008720"/>
          </a:xfrm>
          <a:prstGeom prst="rect">
            <a:avLst/>
          </a:prstGeom>
          <a:solidFill>
            <a:srgbClr val="ddc0b6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рослы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Я хочу чтобы меня оставили в поко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зунг: «Ничего, сам (сама) справит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1"/>
          <p:cNvSpPr/>
          <p:nvPr/>
        </p:nvSpPr>
        <p:spPr>
          <a:xfrm>
            <a:off x="4859280" y="1916280"/>
            <a:ext cx="4284720" cy="1008720"/>
          </a:xfrm>
          <a:prstGeom prst="rect">
            <a:avLst/>
          </a:prstGeom>
          <a:solidFill>
            <a:srgbClr val="ddc0b6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лодное наблюдение, реагирование на происходящее отстранением, ух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4788000" y="3860640"/>
            <a:ext cx="3816360" cy="703800"/>
          </a:xfrm>
          <a:prstGeom prst="rect">
            <a:avLst/>
          </a:prstGeom>
          <a:solidFill>
            <a:srgbClr val="ddc0b6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ядом, но не  вместе; мирное сущ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3203640" y="5229360"/>
            <a:ext cx="5940360" cy="703800"/>
          </a:xfrm>
          <a:prstGeom prst="rect">
            <a:avLst/>
          </a:prstGeom>
          <a:solidFill>
            <a:srgbClr val="ddc0b6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гляд на ребенка как на обузу, досадную помеху в решении собствен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6" descr="http://player.myshared.ru/17/1178355/slides/slide_5.jpg"/>
          <p:cNvPicPr/>
          <p:nvPr/>
        </p:nvPicPr>
        <p:blipFill>
          <a:blip r:embed="rId1"/>
          <a:srcRect l="4096" t="26104" r="48661" b="14683"/>
          <a:stretch/>
        </p:blipFill>
        <p:spPr>
          <a:xfrm>
            <a:off x="250920" y="1484280"/>
            <a:ext cx="1908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ятиугольник 14"/>
          <p:cNvSpPr/>
          <p:nvPr/>
        </p:nvSpPr>
        <p:spPr>
          <a:xfrm>
            <a:off x="0" y="2276640"/>
            <a:ext cx="2195640" cy="237636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6c78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трелка вправо с вырезом 12"/>
          <p:cNvSpPr/>
          <p:nvPr/>
        </p:nvSpPr>
        <p:spPr>
          <a:xfrm>
            <a:off x="468360" y="4797360"/>
            <a:ext cx="3743280" cy="1224000"/>
          </a:xfrm>
          <a:custGeom>
            <a:avLst/>
            <a:gdLst>
              <a:gd name="textAreaLeft" fmla="*/ 305640 w 3743280"/>
              <a:gd name="textAreaRight" fmla="*/ 3437640 w 374328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69" y="5400"/>
                </a:lnTo>
                <a:lnTo>
                  <a:pt x="18069" y="0"/>
                </a:lnTo>
                <a:lnTo>
                  <a:pt x="21600" y="10800"/>
                </a:lnTo>
                <a:lnTo>
                  <a:pt x="18069" y="21600"/>
                </a:lnTo>
                <a:lnTo>
                  <a:pt x="18069" y="16200"/>
                </a:lnTo>
                <a:lnTo>
                  <a:pt x="0" y="16200"/>
                </a:lnTo>
                <a:lnTo>
                  <a:pt x="17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право с вырезом 13"/>
          <p:cNvSpPr/>
          <p:nvPr/>
        </p:nvSpPr>
        <p:spPr>
          <a:xfrm>
            <a:off x="2195640" y="3573360"/>
            <a:ext cx="2305080" cy="916200"/>
          </a:xfrm>
          <a:custGeom>
            <a:avLst/>
            <a:gdLst>
              <a:gd name="textAreaLeft" fmla="*/ 228960 w 2305080"/>
              <a:gd name="textAreaRight" fmla="*/ 2076120 w 2305080"/>
              <a:gd name="textAreaTop" fmla="*/ 228960 h 916200"/>
              <a:gd name="textAreaBottom" fmla="*/ 687240 h 916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308" y="5400"/>
                </a:lnTo>
                <a:lnTo>
                  <a:pt x="17308" y="0"/>
                </a:lnTo>
                <a:lnTo>
                  <a:pt x="21600" y="10800"/>
                </a:lnTo>
                <a:lnTo>
                  <a:pt x="17308" y="21600"/>
                </a:lnTo>
                <a:lnTo>
                  <a:pt x="17308" y="16200"/>
                </a:lnTo>
                <a:lnTo>
                  <a:pt x="0" y="16200"/>
                </a:lnTo>
                <a:lnTo>
                  <a:pt x="21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право с вырезом 11"/>
          <p:cNvSpPr/>
          <p:nvPr/>
        </p:nvSpPr>
        <p:spPr>
          <a:xfrm>
            <a:off x="2195640" y="2205000"/>
            <a:ext cx="2376360" cy="917640"/>
          </a:xfrm>
          <a:custGeom>
            <a:avLst/>
            <a:gdLst>
              <a:gd name="textAreaLeft" fmla="*/ 229320 w 2376360"/>
              <a:gd name="textAreaRight" fmla="*/ 2147040 w 237636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30" y="5400"/>
                </a:lnTo>
                <a:lnTo>
                  <a:pt x="17430" y="0"/>
                </a:lnTo>
                <a:lnTo>
                  <a:pt x="21600" y="10800"/>
                </a:lnTo>
                <a:lnTo>
                  <a:pt x="17430" y="21600"/>
                </a:lnTo>
                <a:lnTo>
                  <a:pt x="17430" y="16200"/>
                </a:lnTo>
                <a:lnTo>
                  <a:pt x="0" y="16200"/>
                </a:lnTo>
                <a:lnTo>
                  <a:pt x="208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право с вырезом 10"/>
          <p:cNvSpPr/>
          <p:nvPr/>
        </p:nvSpPr>
        <p:spPr>
          <a:xfrm>
            <a:off x="1547640" y="836640"/>
            <a:ext cx="2592720" cy="915840"/>
          </a:xfrm>
          <a:custGeom>
            <a:avLst/>
            <a:gdLst>
              <a:gd name="textAreaLeft" fmla="*/ 228960 w 2592720"/>
              <a:gd name="textAreaRight" fmla="*/ 2363760 w 2592720"/>
              <a:gd name="textAreaTop" fmla="*/ 228960 h 915840"/>
              <a:gd name="textAreaBottom" fmla="*/ 686880 h 91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784" y="5400"/>
                </a:lnTo>
                <a:lnTo>
                  <a:pt x="17784" y="0"/>
                </a:lnTo>
                <a:lnTo>
                  <a:pt x="21600" y="10800"/>
                </a:lnTo>
                <a:lnTo>
                  <a:pt x="17784" y="21600"/>
                </a:lnTo>
                <a:lnTo>
                  <a:pt x="17784" y="16200"/>
                </a:lnTo>
                <a:lnTo>
                  <a:pt x="0" y="16200"/>
                </a:lnTo>
                <a:lnTo>
                  <a:pt x="19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"/>
          <p:cNvSpPr/>
          <p:nvPr/>
        </p:nvSpPr>
        <p:spPr>
          <a:xfrm>
            <a:off x="324000" y="2565360"/>
            <a:ext cx="143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бно-дисциплинарн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ль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2142000" y="11253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"/>
          <p:cNvSpPr/>
          <p:nvPr/>
        </p:nvSpPr>
        <p:spPr>
          <a:xfrm>
            <a:off x="2425680" y="378936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кти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"/>
          <p:cNvSpPr/>
          <p:nvPr/>
        </p:nvSpPr>
        <p:spPr>
          <a:xfrm>
            <a:off x="2361600" y="249228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900000" y="522936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чностная пози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7"/>
          <p:cNvSpPr/>
          <p:nvPr/>
        </p:nvSpPr>
        <p:spPr>
          <a:xfrm>
            <a:off x="4067280" y="549360"/>
            <a:ext cx="4752720" cy="1008720"/>
          </a:xfrm>
          <a:prstGeom prst="rect">
            <a:avLst/>
          </a:prstGeom>
          <a:solidFill>
            <a:srgbClr val="fcecd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оружить ребенка знаниями, умениями, навы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зунг: «Делай как 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4932360" y="2276640"/>
            <a:ext cx="3741840" cy="703800"/>
          </a:xfrm>
          <a:prstGeom prst="rect">
            <a:avLst/>
          </a:prstGeom>
          <a:solidFill>
            <a:srgbClr val="e7d6c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авление, разъяснение, угроза,  наказание, зап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>
            <a:off x="4859280" y="3716280"/>
            <a:ext cx="2448000" cy="398880"/>
          </a:xfrm>
          <a:prstGeom prst="rect">
            <a:avLst/>
          </a:prstGeom>
          <a:solidFill>
            <a:srgbClr val="f3eae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ктат или оп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0"/>
          <p:cNvSpPr/>
          <p:nvPr/>
        </p:nvSpPr>
        <p:spPr>
          <a:xfrm>
            <a:off x="4356000" y="4869000"/>
            <a:ext cx="4103640" cy="1008720"/>
          </a:xfrm>
          <a:prstGeom prst="rect">
            <a:avLst/>
          </a:prstGeom>
          <a:solidFill>
            <a:srgbClr val="ecea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ть требование руководства и контролирующих ин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7" descr="http://player.myshared.ru/17/1178355/slides/slide_4.jpg"/>
          <p:cNvPicPr/>
          <p:nvPr/>
        </p:nvPicPr>
        <p:blipFill>
          <a:blip r:embed="rId1"/>
          <a:stretch/>
        </p:blipFill>
        <p:spPr>
          <a:xfrm>
            <a:off x="179280" y="260280"/>
            <a:ext cx="1979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ятиугольник 14"/>
          <p:cNvSpPr/>
          <p:nvPr/>
        </p:nvSpPr>
        <p:spPr>
          <a:xfrm>
            <a:off x="0" y="1773360"/>
            <a:ext cx="3059280" cy="2808000"/>
          </a:xfrm>
          <a:custGeom>
            <a:avLst/>
            <a:gdLst>
              <a:gd name="textAreaLeft" fmla="*/ 0 w 3059280"/>
              <a:gd name="textAreaRight" fmla="*/ 3059640 w 3059280"/>
              <a:gd name="textAreaTop" fmla="*/ 0 h 2808000"/>
              <a:gd name="textAreaBottom" fmla="*/ 280836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86" y="0"/>
                </a:lnTo>
                <a:lnTo>
                  <a:pt x="21600" y="10800"/>
                </a:lnTo>
                <a:lnTo>
                  <a:pt x="116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право с вырезом 7"/>
          <p:cNvSpPr/>
          <p:nvPr/>
        </p:nvSpPr>
        <p:spPr>
          <a:xfrm>
            <a:off x="1258920" y="5084640"/>
            <a:ext cx="3673440" cy="936720"/>
          </a:xfrm>
          <a:custGeom>
            <a:avLst/>
            <a:gdLst>
              <a:gd name="textAreaLeft" fmla="*/ 234000 w 3673440"/>
              <a:gd name="textAreaRight" fmla="*/ 3439440 w 367344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46" y="5400"/>
                </a:ln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18846" y="16200"/>
                </a:lnTo>
                <a:lnTo>
                  <a:pt x="0" y="16200"/>
                </a:lnTo>
                <a:lnTo>
                  <a:pt x="13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трелка вправо с вырезом 8"/>
          <p:cNvSpPr/>
          <p:nvPr/>
        </p:nvSpPr>
        <p:spPr>
          <a:xfrm>
            <a:off x="3059280" y="3573360"/>
            <a:ext cx="2376360" cy="863640"/>
          </a:xfrm>
          <a:custGeom>
            <a:avLst/>
            <a:gdLst>
              <a:gd name="textAreaLeft" fmla="*/ 215640 w 2376360"/>
              <a:gd name="textAreaRight" fmla="*/ 2160720 w 2376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5" y="5400"/>
                </a:lnTo>
                <a:lnTo>
                  <a:pt x="17675" y="0"/>
                </a:lnTo>
                <a:lnTo>
                  <a:pt x="21600" y="10800"/>
                </a:lnTo>
                <a:lnTo>
                  <a:pt x="17675" y="21600"/>
                </a:lnTo>
                <a:lnTo>
                  <a:pt x="17675" y="16200"/>
                </a:lnTo>
                <a:lnTo>
                  <a:pt x="0" y="16200"/>
                </a:lnTo>
                <a:lnTo>
                  <a:pt x="19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трелка вправо с вырезом 9"/>
          <p:cNvSpPr/>
          <p:nvPr/>
        </p:nvSpPr>
        <p:spPr>
          <a:xfrm>
            <a:off x="2916360" y="1989000"/>
            <a:ext cx="2447640" cy="935280"/>
          </a:xfrm>
          <a:custGeom>
            <a:avLst/>
            <a:gdLst>
              <a:gd name="textAreaLeft" fmla="*/ 233640 w 2447640"/>
              <a:gd name="textAreaRight" fmla="*/ 2214000 w 244764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75" y="5400"/>
                </a:lnTo>
                <a:lnTo>
                  <a:pt x="17475" y="0"/>
                </a:lnTo>
                <a:lnTo>
                  <a:pt x="21600" y="10800"/>
                </a:lnTo>
                <a:lnTo>
                  <a:pt x="17475" y="21600"/>
                </a:lnTo>
                <a:lnTo>
                  <a:pt x="17475" y="16200"/>
                </a:lnTo>
                <a:lnTo>
                  <a:pt x="0" y="16200"/>
                </a:lnTo>
                <a:lnTo>
                  <a:pt x="20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трелка вправо с вырезом 6"/>
          <p:cNvSpPr/>
          <p:nvPr/>
        </p:nvSpPr>
        <p:spPr>
          <a:xfrm>
            <a:off x="1835280" y="333360"/>
            <a:ext cx="2592360" cy="1008000"/>
          </a:xfrm>
          <a:custGeom>
            <a:avLst/>
            <a:gdLst>
              <a:gd name="textAreaLeft" fmla="*/ 252000 w 2592360"/>
              <a:gd name="textAreaRight" fmla="*/ 2340360 w 259236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00" y="5400"/>
                </a:ln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17400" y="16200"/>
                </a:lnTo>
                <a:lnTo>
                  <a:pt x="0" y="16200"/>
                </a:lnTo>
                <a:lnTo>
                  <a:pt x="21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"/>
          <p:cNvSpPr/>
          <p:nvPr/>
        </p:nvSpPr>
        <p:spPr>
          <a:xfrm>
            <a:off x="108000" y="1989000"/>
            <a:ext cx="22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но – ориентированна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взаимодействия взрослого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2340000" y="62064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3059280" y="227664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3203640" y="38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1522440" y="537372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ая пози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0"/>
          <p:cNvSpPr/>
          <p:nvPr/>
        </p:nvSpPr>
        <p:spPr>
          <a:xfrm>
            <a:off x="5507640" y="3789360"/>
            <a:ext cx="2061360" cy="398880"/>
          </a:xfrm>
          <a:prstGeom prst="rect">
            <a:avLst/>
          </a:prstGeom>
          <a:solidFill>
            <a:srgbClr val="d9d5c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5148360" y="5013360"/>
            <a:ext cx="3600360" cy="1008720"/>
          </a:xfrm>
          <a:prstGeom prst="rect">
            <a:avLst/>
          </a:prstGeom>
          <a:solidFill>
            <a:srgbClr val="f5e3d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ы ребёнка. Взгляд на ребенка как на полноценного партн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5508720" y="1773360"/>
            <a:ext cx="3311280" cy="1008720"/>
          </a:xfrm>
          <a:prstGeom prst="rect">
            <a:avLst/>
          </a:prstGeom>
          <a:solidFill>
            <a:srgbClr val="fcecd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имание, признание и приятие личност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4572000" y="333360"/>
            <a:ext cx="4392720" cy="703800"/>
          </a:xfrm>
          <a:prstGeom prst="rect">
            <a:avLst/>
          </a:prstGeom>
          <a:solidFill>
            <a:srgbClr val="f5e3d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ребенку чувство психологической защищ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player.myshared.ru/17/1178355/slides/slide_2.jpg"/>
          <p:cNvPicPr/>
          <p:nvPr/>
        </p:nvPicPr>
        <p:blipFill>
          <a:blip r:embed="rId1"/>
          <a:srcRect l="15123" t="39061" r="17787" b="9279"/>
          <a:stretch/>
        </p:blipFill>
        <p:spPr>
          <a:xfrm>
            <a:off x="0" y="189000"/>
            <a:ext cx="226836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Облако 9"/>
          <p:cNvSpPr/>
          <p:nvPr/>
        </p:nvSpPr>
        <p:spPr>
          <a:xfrm>
            <a:off x="4284720" y="3213000"/>
            <a:ext cx="4859280" cy="3500640"/>
          </a:xfrm>
          <a:custGeom>
            <a:avLst/>
            <a:gdLst>
              <a:gd name="textAreaLeft" fmla="*/ 669600 w 4859280"/>
              <a:gd name="textAreaRight" fmla="*/ 3844080 w 4859280"/>
              <a:gd name="textAreaTop" fmla="*/ 528480 h 3500640"/>
              <a:gd name="textAreaBottom" fmla="*/ 2809800 h 3500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блако 8"/>
          <p:cNvSpPr/>
          <p:nvPr/>
        </p:nvSpPr>
        <p:spPr>
          <a:xfrm>
            <a:off x="0" y="3544920"/>
            <a:ext cx="4140360" cy="3313080"/>
          </a:xfrm>
          <a:custGeom>
            <a:avLst/>
            <a:gdLst>
              <a:gd name="textAreaLeft" fmla="*/ 570600 w 4140360"/>
              <a:gd name="textAreaRight" fmla="*/ 3275280 w 4140360"/>
              <a:gd name="textAreaTop" fmla="*/ 500040 h 3313080"/>
              <a:gd name="textAreaBottom" fmla="*/ 2659320 h 33130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олнце 7"/>
          <p:cNvSpPr/>
          <p:nvPr/>
        </p:nvSpPr>
        <p:spPr>
          <a:xfrm>
            <a:off x="1547640" y="0"/>
            <a:ext cx="4067280" cy="3780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TextBox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3110040" cy="165276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"/>
          <p:cNvSpPr/>
          <p:nvPr/>
        </p:nvSpPr>
        <p:spPr>
          <a:xfrm>
            <a:off x="5796000" y="3716280"/>
            <a:ext cx="2305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дел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невмешательтв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изнь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3"/>
          <p:cNvSpPr/>
          <p:nvPr/>
        </p:nvSpPr>
        <p:spPr>
          <a:xfrm>
            <a:off x="539640" y="4005360"/>
            <a:ext cx="28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ебно-дисциплинарна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дель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2843280" y="1125360"/>
            <a:ext cx="180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но – ориентирован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 взаимодействия взрослого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4606920" y="494172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ыв эмоциональных свя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нняя 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Жесто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рудности в создании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250920" y="49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ное отч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з инициати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мение жить по «двойному стандарту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0"/>
          <p:cNvSpPr/>
          <p:nvPr/>
        </p:nvSpPr>
        <p:spPr>
          <a:xfrm>
            <a:off x="5187960" y="260280"/>
            <a:ext cx="3956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 эмоционально защищ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витие познавательных и творческих спосо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являет уверенность, активность, 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ворческая 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1" descr=""/>
          <p:cNvPicPr/>
          <p:nvPr/>
        </p:nvPicPr>
        <p:blipFill>
          <a:blip r:embed="rId1"/>
          <a:stretch/>
        </p:blipFill>
        <p:spPr>
          <a:xfrm>
            <a:off x="2487600" y="676440"/>
            <a:ext cx="6284880" cy="1682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ÐÐ°ÑÑÐ¸Ð½ÐºÐ¸ Ð¿Ð¾ Ð·Ð°Ð¿ÑÐ¾ÑÑ Ð²Ð¾ÑÐ¿Ð¸ÑÐ°ÑÐµÐ»Ñ Ñ Ð´ÐµÑÑÐ¼Ð¸ ÐºÐ°ÑÑÐ¸Ð½ÐºÐ°"/>
          <p:cNvPicPr/>
          <p:nvPr/>
        </p:nvPicPr>
        <p:blipFill>
          <a:blip r:embed="rId2"/>
          <a:stretch/>
        </p:blipFill>
        <p:spPr>
          <a:xfrm>
            <a:off x="1835280" y="2781360"/>
            <a:ext cx="5329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17:44:56Z</dcterms:created>
  <dc:creator>Вован</dc:creator>
  <dc:description/>
  <dc:language>en-US</dc:language>
  <cp:lastModifiedBy>Вован</cp:lastModifiedBy>
  <dcterms:modified xsi:type="dcterms:W3CDTF">2022-04-03T16:45:19Z</dcterms:modified>
  <cp:revision>46</cp:revision>
  <dc:subject/>
  <dc:title>Слайд 1</dc:title>
</cp:coreProperties>
</file>