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.gif" ContentType="image/gif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png" ContentType="image/png"/>
  <Override PartName="/ppt/media/image10.png" ContentType="image/png"/>
  <Override PartName="/ppt/media/image7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12.png" ContentType="image/png"/>
  <Override PartName="/ppt/media/image20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271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9C7-99F5-472A-A507-7FD8E9E4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3D98-51EE-40DB-8213-B56773AC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992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E8B-AB0E-4B45-BCA6-EB67A83B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12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668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12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668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36B5-F632-488D-A630-4EC6FBCC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588C-35F0-41B3-9C7C-11C375F7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E0DC-4575-412A-A966-45B595C0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675C-ECA0-4F9E-B0EA-ED9814BF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A80B-5B50-463D-879C-E35C8D28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A757-937D-4A2D-AB2E-FE476B6A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-20880"/>
            <a:ext cx="822168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422A-9E8B-4547-90FD-3C94CFC4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37B6-6EDB-4E4B-A93D-446A2F49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C0B-1FD2-4548-8195-86ABFDFE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992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6097-984A-43C6-B7CF-D8EF0154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3A5D-63CD-4318-B882-EB34190C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8D29-22D0-476F-92E1-F6873EAD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992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A32D-B637-46B1-AC97-728A8F1B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712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1668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712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1668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4C4C-59E9-48A0-A42D-FBABACBD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CE277-3756-4989-B74F-626FC489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BCF54-ABDD-46A6-9918-66AE4E9F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D492F-ABD8-4E1E-B6BB-23832084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7438C-1AC6-4213-8324-2A15BD63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A677C-4DA0-4B18-AAEF-C6AFD793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D3D-2003-4150-B4A9-4E8DB009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-20880"/>
            <a:ext cx="822168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1F30A-F6D2-4C1B-B43B-3F08E07B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3438F-D2CD-424A-87BE-3240D981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992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4199C-41DB-43B6-8262-A48B44A5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09593-CB47-4478-90A5-F98FC084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36DD9-476A-4EF4-BF14-D5B8AD27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992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9FE3E-7232-46EC-AE5A-33FD88B2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712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1668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712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1668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A9EE3-116F-4854-81CB-B88C3AD6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300-EEA0-41B1-9C90-69E942A1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12F-6FE9-41D7-8870-28F73C6C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20880"/>
            <a:ext cx="822168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785-1701-4981-BDD7-20340DDC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850-2216-47C7-B035-E41823DD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992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8F6E-C81A-4B08-BE29-D9317506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10D-B76A-4D02-B297-1EE57CAD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37520" cy="6848640"/>
            <a:chOff x="0" y="0"/>
            <a:chExt cx="9137520" cy="6848640"/>
          </a:xfrm>
        </p:grpSpPr>
        <p:sp>
          <p:nvSpPr>
            <p:cNvPr id="1" name="Freeform 2"/>
            <p:cNvSpPr/>
            <p:nvPr/>
          </p:nvSpPr>
          <p:spPr>
            <a:xfrm>
              <a:off x="2876400" y="4462560"/>
              <a:ext cx="6261120" cy="238608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6389640" y="5757840"/>
              <a:ext cx="2747880" cy="109080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0"/>
              <a:ext cx="8852040" cy="546876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7845480" y="0"/>
              <a:ext cx="1292040" cy="43488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d5d5d5"/>
                </a:gs>
                <a:gs pos="50000">
                  <a:srgbClr val="cdcdcd"/>
                </a:gs>
                <a:gs pos="100000">
                  <a:srgbClr val="d5d5d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3149640"/>
              <a:ext cx="9137520" cy="332748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62000"/>
              <a:ext cx="3110040" cy="200484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0"/>
              <a:ext cx="7472520" cy="460224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0"/>
              <a:ext cx="5986440" cy="373680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0"/>
              <a:ext cx="4653000" cy="292752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81080" y="4519440"/>
              <a:ext cx="2367000" cy="32076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750960" y="4929120"/>
              <a:ext cx="360" cy="36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750960" y="4929120"/>
              <a:ext cx="360" cy="36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Group 14"/>
            <p:cNvGrpSpPr/>
            <p:nvPr/>
          </p:nvGrpSpPr>
          <p:grpSpPr>
            <a:xfrm>
              <a:off x="304920" y="3625920"/>
              <a:ext cx="1987560" cy="1461960"/>
              <a:chOff x="304920" y="3625920"/>
              <a:chExt cx="1987560" cy="1461960"/>
            </a:xfrm>
          </p:grpSpPr>
          <p:sp>
            <p:nvSpPr>
              <p:cNvPr id="14" name="Freeform 15"/>
              <p:cNvSpPr/>
              <p:nvPr/>
            </p:nvSpPr>
            <p:spPr>
              <a:xfrm>
                <a:off x="647640" y="4776840"/>
                <a:ext cx="71640" cy="61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6"/>
              <p:cNvSpPr/>
              <p:nvPr/>
            </p:nvSpPr>
            <p:spPr>
              <a:xfrm>
                <a:off x="1447920" y="3625920"/>
                <a:ext cx="511200" cy="25380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7"/>
              <p:cNvSpPr/>
              <p:nvPr/>
            </p:nvSpPr>
            <p:spPr>
              <a:xfrm>
                <a:off x="304920" y="3625920"/>
                <a:ext cx="1987560" cy="146196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8"/>
              <p:cNvSpPr/>
              <p:nvPr/>
            </p:nvSpPr>
            <p:spPr>
              <a:xfrm>
                <a:off x="1085760" y="4300560"/>
                <a:ext cx="71640" cy="12060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19"/>
              <p:cNvSpPr/>
              <p:nvPr/>
            </p:nvSpPr>
            <p:spPr>
              <a:xfrm>
                <a:off x="2038320" y="4083120"/>
                <a:ext cx="233280" cy="66204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0"/>
              <p:cNvSpPr/>
              <p:nvPr/>
            </p:nvSpPr>
            <p:spPr>
              <a:xfrm>
                <a:off x="1809720" y="3863880"/>
                <a:ext cx="262080" cy="21600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1"/>
              <p:cNvSpPr/>
              <p:nvPr/>
            </p:nvSpPr>
            <p:spPr>
              <a:xfrm>
                <a:off x="1504800" y="3673440"/>
                <a:ext cx="176400" cy="17784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>
                <a:off x="1781280" y="4092480"/>
                <a:ext cx="101520" cy="9216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>
                <a:off x="1495440" y="4245120"/>
                <a:ext cx="252360" cy="28080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>
                <a:off x="1170000" y="4386240"/>
                <a:ext cx="112680" cy="8244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990720" y="4586400"/>
                <a:ext cx="15840" cy="8244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781200" y="4795920"/>
                <a:ext cx="72720" cy="11088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693720" y="4805280"/>
                <a:ext cx="453960" cy="13032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1314360" y="4767120"/>
                <a:ext cx="101520" cy="16848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581040" y="4938840"/>
                <a:ext cx="119160" cy="633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790560" y="5024520"/>
                <a:ext cx="101520" cy="442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1333440" y="4633920"/>
                <a:ext cx="25560" cy="9216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866880" y="4795920"/>
                <a:ext cx="6120" cy="2520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847800" y="4672080"/>
                <a:ext cx="44280" cy="12060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857160" y="4824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Freeform 35"/>
              <p:cNvSpPr/>
              <p:nvPr/>
            </p:nvSpPr>
            <p:spPr>
              <a:xfrm>
                <a:off x="1271520" y="4255920"/>
                <a:ext cx="338040" cy="33984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36"/>
              <p:cNvSpPr/>
              <p:nvPr/>
            </p:nvSpPr>
            <p:spPr>
              <a:xfrm>
                <a:off x="851040" y="4302000"/>
                <a:ext cx="333360" cy="28116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7"/>
              <p:cNvSpPr/>
              <p:nvPr/>
            </p:nvSpPr>
            <p:spPr>
              <a:xfrm>
                <a:off x="1646280" y="4141800"/>
                <a:ext cx="98280" cy="12240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8"/>
              <p:cNvSpPr/>
              <p:nvPr/>
            </p:nvSpPr>
            <p:spPr>
              <a:xfrm>
                <a:off x="1376280" y="3922560"/>
                <a:ext cx="214560" cy="32544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9"/>
              <p:cNvSpPr/>
              <p:nvPr/>
            </p:nvSpPr>
            <p:spPr>
              <a:xfrm>
                <a:off x="1297080" y="3979800"/>
                <a:ext cx="100080" cy="34920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5B60D-503F-4AB2-B7E2-50C2FC165A8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"/>
          <p:cNvGrpSpPr/>
          <p:nvPr/>
        </p:nvGrpSpPr>
        <p:grpSpPr>
          <a:xfrm>
            <a:off x="0" y="0"/>
            <a:ext cx="9137520" cy="6848640"/>
            <a:chOff x="0" y="0"/>
            <a:chExt cx="9137520" cy="6848640"/>
          </a:xfrm>
        </p:grpSpPr>
        <p:sp>
          <p:nvSpPr>
            <p:cNvPr id="81" name="Freeform 2"/>
            <p:cNvSpPr/>
            <p:nvPr/>
          </p:nvSpPr>
          <p:spPr>
            <a:xfrm>
              <a:off x="2876400" y="4462560"/>
              <a:ext cx="6261120" cy="238608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3"/>
            <p:cNvSpPr/>
            <p:nvPr/>
          </p:nvSpPr>
          <p:spPr>
            <a:xfrm>
              <a:off x="6389640" y="5757840"/>
              <a:ext cx="2747880" cy="109080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0"/>
              <a:ext cx="8852040" cy="546876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7845480" y="0"/>
              <a:ext cx="1292040" cy="43488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d5d5d5"/>
                </a:gs>
                <a:gs pos="50000">
                  <a:srgbClr val="cdcdcd"/>
                </a:gs>
                <a:gs pos="100000">
                  <a:srgbClr val="d5d5d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0" y="3149640"/>
              <a:ext cx="9137520" cy="332748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162000"/>
              <a:ext cx="3110040" cy="200484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0" y="0"/>
              <a:ext cx="7472520" cy="460224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0" y="0"/>
              <a:ext cx="5986440" cy="373680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0"/>
              <a:ext cx="4653000" cy="292752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181080" y="4519440"/>
              <a:ext cx="2367000" cy="32076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12"/>
            <p:cNvSpPr/>
            <p:nvPr/>
          </p:nvSpPr>
          <p:spPr>
            <a:xfrm>
              <a:off x="750960" y="4929120"/>
              <a:ext cx="360" cy="36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13"/>
            <p:cNvSpPr/>
            <p:nvPr/>
          </p:nvSpPr>
          <p:spPr>
            <a:xfrm>
              <a:off x="750960" y="4929120"/>
              <a:ext cx="360" cy="36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4"/>
            <p:cNvGrpSpPr/>
            <p:nvPr/>
          </p:nvGrpSpPr>
          <p:grpSpPr>
            <a:xfrm>
              <a:off x="304920" y="3625920"/>
              <a:ext cx="1987560" cy="1461960"/>
              <a:chOff x="304920" y="3625920"/>
              <a:chExt cx="1987560" cy="1461960"/>
            </a:xfrm>
          </p:grpSpPr>
          <p:sp>
            <p:nvSpPr>
              <p:cNvPr id="94" name="Freeform 15"/>
              <p:cNvSpPr/>
              <p:nvPr/>
            </p:nvSpPr>
            <p:spPr>
              <a:xfrm>
                <a:off x="647640" y="4776840"/>
                <a:ext cx="71640" cy="61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6"/>
              <p:cNvSpPr/>
              <p:nvPr/>
            </p:nvSpPr>
            <p:spPr>
              <a:xfrm>
                <a:off x="1447920" y="3625920"/>
                <a:ext cx="511200" cy="25380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7"/>
              <p:cNvSpPr/>
              <p:nvPr/>
            </p:nvSpPr>
            <p:spPr>
              <a:xfrm>
                <a:off x="304920" y="3625920"/>
                <a:ext cx="1987560" cy="146196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8"/>
              <p:cNvSpPr/>
              <p:nvPr/>
            </p:nvSpPr>
            <p:spPr>
              <a:xfrm>
                <a:off x="1085760" y="4300560"/>
                <a:ext cx="71640" cy="12060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9"/>
              <p:cNvSpPr/>
              <p:nvPr/>
            </p:nvSpPr>
            <p:spPr>
              <a:xfrm>
                <a:off x="2038320" y="4083120"/>
                <a:ext cx="233280" cy="66204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20"/>
              <p:cNvSpPr/>
              <p:nvPr/>
            </p:nvSpPr>
            <p:spPr>
              <a:xfrm>
                <a:off x="1809720" y="3863880"/>
                <a:ext cx="262080" cy="21600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21"/>
              <p:cNvSpPr/>
              <p:nvPr/>
            </p:nvSpPr>
            <p:spPr>
              <a:xfrm>
                <a:off x="1504800" y="3673440"/>
                <a:ext cx="176400" cy="17784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22"/>
              <p:cNvSpPr/>
              <p:nvPr/>
            </p:nvSpPr>
            <p:spPr>
              <a:xfrm>
                <a:off x="1781280" y="4092480"/>
                <a:ext cx="101520" cy="9216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23"/>
              <p:cNvSpPr/>
              <p:nvPr/>
            </p:nvSpPr>
            <p:spPr>
              <a:xfrm>
                <a:off x="1495440" y="4245120"/>
                <a:ext cx="252360" cy="28080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24"/>
              <p:cNvSpPr/>
              <p:nvPr/>
            </p:nvSpPr>
            <p:spPr>
              <a:xfrm>
                <a:off x="1170000" y="4386240"/>
                <a:ext cx="112680" cy="8244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25"/>
              <p:cNvSpPr/>
              <p:nvPr/>
            </p:nvSpPr>
            <p:spPr>
              <a:xfrm>
                <a:off x="990720" y="4586400"/>
                <a:ext cx="15840" cy="8244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6"/>
              <p:cNvSpPr/>
              <p:nvPr/>
            </p:nvSpPr>
            <p:spPr>
              <a:xfrm>
                <a:off x="781200" y="4795920"/>
                <a:ext cx="72720" cy="11088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7"/>
              <p:cNvSpPr/>
              <p:nvPr/>
            </p:nvSpPr>
            <p:spPr>
              <a:xfrm>
                <a:off x="693720" y="4805280"/>
                <a:ext cx="453960" cy="13032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8"/>
              <p:cNvSpPr/>
              <p:nvPr/>
            </p:nvSpPr>
            <p:spPr>
              <a:xfrm>
                <a:off x="1314360" y="4767120"/>
                <a:ext cx="101520" cy="16848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9"/>
              <p:cNvSpPr/>
              <p:nvPr/>
            </p:nvSpPr>
            <p:spPr>
              <a:xfrm>
                <a:off x="581040" y="4938840"/>
                <a:ext cx="119160" cy="633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30"/>
              <p:cNvSpPr/>
              <p:nvPr/>
            </p:nvSpPr>
            <p:spPr>
              <a:xfrm>
                <a:off x="790560" y="5024520"/>
                <a:ext cx="101520" cy="442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1"/>
              <p:cNvSpPr/>
              <p:nvPr/>
            </p:nvSpPr>
            <p:spPr>
              <a:xfrm>
                <a:off x="1333440" y="4633920"/>
                <a:ext cx="25560" cy="9216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2"/>
              <p:cNvSpPr/>
              <p:nvPr/>
            </p:nvSpPr>
            <p:spPr>
              <a:xfrm>
                <a:off x="866880" y="4795920"/>
                <a:ext cx="6120" cy="2520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3"/>
              <p:cNvSpPr/>
              <p:nvPr/>
            </p:nvSpPr>
            <p:spPr>
              <a:xfrm>
                <a:off x="847800" y="4672080"/>
                <a:ext cx="44280" cy="12060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4"/>
              <p:cNvSpPr/>
              <p:nvPr/>
            </p:nvSpPr>
            <p:spPr>
              <a:xfrm>
                <a:off x="857160" y="4824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5"/>
              <p:cNvSpPr/>
              <p:nvPr/>
            </p:nvSpPr>
            <p:spPr>
              <a:xfrm>
                <a:off x="1271520" y="4255920"/>
                <a:ext cx="338040" cy="33984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6"/>
              <p:cNvSpPr/>
              <p:nvPr/>
            </p:nvSpPr>
            <p:spPr>
              <a:xfrm>
                <a:off x="851040" y="4302000"/>
                <a:ext cx="333360" cy="28116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37"/>
              <p:cNvSpPr/>
              <p:nvPr/>
            </p:nvSpPr>
            <p:spPr>
              <a:xfrm>
                <a:off x="1646280" y="4141800"/>
                <a:ext cx="98280" cy="12240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38"/>
              <p:cNvSpPr/>
              <p:nvPr/>
            </p:nvSpPr>
            <p:spPr>
              <a:xfrm>
                <a:off x="1376280" y="3922560"/>
                <a:ext cx="214560" cy="32544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39"/>
              <p:cNvSpPr/>
              <p:nvPr/>
            </p:nvSpPr>
            <p:spPr>
              <a:xfrm>
                <a:off x="1297080" y="3979800"/>
                <a:ext cx="100080" cy="34920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C36C7-7518-4E3B-9A35-EB9B9BD5141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00F80C-56D6-4B66-9BA6-AAD78C6520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очему греки покидали Грецию и отправлялись жить в заморских страна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акими особенностями отличались те места, где греки основывали колон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ак складывались отношения греков-колонистов с местным насел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* Найдите на карте 5 греческих колоний. Расскажите о колонии Ольвия и царе скифов Ски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пподром – место для проведения конных состяз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835200" y="1440000"/>
            <a:ext cx="762444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мпионик – победитель на Олимпийских иг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854600" y="1341360"/>
            <a:ext cx="3798720" cy="5256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50532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лимпийские симв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3274920" cy="2458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854520" cy="2297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3"/>
          <a:stretch/>
        </p:blipFill>
        <p:spPr>
          <a:xfrm>
            <a:off x="2987640" y="3500280"/>
            <a:ext cx="381960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17604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ставить пропущенные слова в текст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лимпийские игры”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ервые Олимпийские игры состоялись в _______    году до н.э. Они посвящались богу  _______        Со всех концов Греции спешили люди на великолепное зрелище, которое проводилось только раз в ________       года. Проводились Олимпийские игры в ______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 время игр запрещалось _________    Виновные в нарушении правил платили большой штраф. Атлеты должны были предварительно записаться в списки участников и тренироваться около года у себя на родине и еще месяц в _____ Рабов, чужеземцев и _____           на игры не допускали. Празднества продолжались ____       дней. На стадионе состязались в пятиборье, на ипподроме –  в_______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качестве награды они получали _________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Награждение проходило перед храмом Зевса, где находилась знаменитая статуя работы Фидия, признанная одним из _______ чудес свет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равьте оши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шло четыре года, и у меня появилась возможность увидеть Олимпийские игры. Как всегда, они проходили на высокой горе Олимп. В течение недели я наслаждался захватывающими состязаниями пятиборце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7093080" y="4680000"/>
            <a:ext cx="184140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равьте оши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метании ядра и диска отличился атлет из Финикии, а в прыжках в длину – венок из ветвей винограда  достался юной участнице из Спарты. Наибольший интерес у зрителей вызвали гонки на колесницах. В заключительный день мы восторженно приветствовали олимпийцев. “Слава победителям!” - кричали все. Очень интересно было наблюдать мирные состязания между атлетами многих стран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7715160" y="5400720"/>
            <a:ext cx="1428840" cy="14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араграф 33 прочитать, пункт. 3 пересказ, записи в тетради вы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исунок по теме Олимпийские игры в древности (по желанию для выставки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вая тема зашифрована в ребус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Объект 7" descr=""/>
          <p:cNvPicPr/>
          <p:nvPr/>
        </p:nvPicPr>
        <p:blipFill>
          <a:blip r:embed="rId1"/>
          <a:stretch/>
        </p:blipFill>
        <p:spPr>
          <a:xfrm>
            <a:off x="4643280" y="2276640"/>
            <a:ext cx="3546720" cy="33130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9"/>
          <p:cNvSpPr/>
          <p:nvPr/>
        </p:nvSpPr>
        <p:spPr>
          <a:xfrm>
            <a:off x="1028880" y="551664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импия – город в Южной Греции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4932360" y="5732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уны. Рисунок на древнегреческой ваз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люс 11"/>
          <p:cNvSpPr/>
          <p:nvPr/>
        </p:nvSpPr>
        <p:spPr>
          <a:xfrm>
            <a:off x="4067280" y="3365640"/>
            <a:ext cx="504720" cy="792000"/>
          </a:xfrm>
          <a:custGeom>
            <a:avLst/>
            <a:gdLst/>
            <a:ahLst/>
            <a:rect l="l" t="t" r="r" b="b"/>
            <a:pathLst>
              <a:path w="504825" h="792163">
                <a:moveTo>
                  <a:pt x="66915" y="336714"/>
                </a:moveTo>
                <a:lnTo>
                  <a:pt x="193045" y="336714"/>
                </a:lnTo>
                <a:lnTo>
                  <a:pt x="193045" y="105001"/>
                </a:lnTo>
                <a:lnTo>
                  <a:pt x="311780" y="105001"/>
                </a:lnTo>
                <a:lnTo>
                  <a:pt x="311780" y="336714"/>
                </a:lnTo>
                <a:lnTo>
                  <a:pt x="437910" y="336714"/>
                </a:lnTo>
                <a:lnTo>
                  <a:pt x="437910" y="455449"/>
                </a:lnTo>
                <a:lnTo>
                  <a:pt x="311780" y="455449"/>
                </a:lnTo>
                <a:lnTo>
                  <a:pt x="311780" y="687162"/>
                </a:lnTo>
                <a:lnTo>
                  <a:pt x="193045" y="687162"/>
                </a:lnTo>
                <a:lnTo>
                  <a:pt x="193045" y="455449"/>
                </a:lnTo>
                <a:lnTo>
                  <a:pt x="66915" y="455449"/>
                </a:lnTo>
                <a:lnTo>
                  <a:pt x="66915" y="33671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Равно 12"/>
          <p:cNvSpPr/>
          <p:nvPr/>
        </p:nvSpPr>
        <p:spPr>
          <a:xfrm>
            <a:off x="8459640" y="3465360"/>
            <a:ext cx="576360" cy="576360"/>
          </a:xfrm>
          <a:custGeom>
            <a:avLst/>
            <a:gdLst/>
            <a:ahLst/>
            <a:rect l="l" t="t" r="r" b="b"/>
            <a:pathLst>
              <a:path w="576262" h="576262">
                <a:moveTo>
                  <a:pt x="76384" y="118710"/>
                </a:moveTo>
                <a:lnTo>
                  <a:pt x="499878" y="118710"/>
                </a:lnTo>
                <a:lnTo>
                  <a:pt x="499878" y="254247"/>
                </a:lnTo>
                <a:lnTo>
                  <a:pt x="76384" y="254247"/>
                </a:lnTo>
                <a:lnTo>
                  <a:pt x="76384" y="118710"/>
                </a:lnTo>
                <a:close/>
                <a:moveTo>
                  <a:pt x="76384" y="322015"/>
                </a:moveTo>
                <a:lnTo>
                  <a:pt x="499878" y="322015"/>
                </a:lnTo>
                <a:lnTo>
                  <a:pt x="499878" y="457552"/>
                </a:lnTo>
                <a:lnTo>
                  <a:pt x="76384" y="457552"/>
                </a:lnTo>
                <a:lnTo>
                  <a:pt x="76384" y="32201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Объект 14" descr=""/>
          <p:cNvPicPr/>
          <p:nvPr/>
        </p:nvPicPr>
        <p:blipFill>
          <a:blip r:embed="rId2"/>
          <a:stretch/>
        </p:blipFill>
        <p:spPr>
          <a:xfrm>
            <a:off x="347760" y="2565360"/>
            <a:ext cx="3647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10920" y="4436640"/>
            <a:ext cx="7777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лимпийские игры в древно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7586640" y="4941720"/>
            <a:ext cx="1060560" cy="1916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179280" y="0"/>
            <a:ext cx="395928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лимпия – город в Южной Греции, место проведения  игр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5580000" cy="5931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5448240" y="620640"/>
            <a:ext cx="369576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74304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9152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776 г. до н.э. –первые Олимпийские игр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лись 1 раз в 4 го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ли посвящены богу Зевс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сутствовать и участвовать могли только мужчи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тлет – участник соревнований, человек крепкого телосложения, сила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1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. 3 читаем, выписываем в схему виды спорта, в которых состязались на олимпийских игра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178920"/>
            <a:ext cx="8228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ять незабываемых д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252080"/>
            <a:ext cx="8228160" cy="52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0" indent="-334800" algn="ctr"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ff00"/>
                </a:solidFill>
                <a:latin typeface="Verdana"/>
              </a:rPr>
              <a:t>Первый день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4800" indent="0" algn="ctr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жертвоприношение богам, клятва судей, знакомство участников  с судьями и друг с друг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 algn="ctr"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ff00"/>
                </a:solidFill>
                <a:latin typeface="Verdana"/>
              </a:rPr>
              <a:t>Последующие три дня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4800" indent="0" algn="ctr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остязания атле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 algn="ctr"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ff00"/>
                </a:solidFill>
                <a:latin typeface="Verdana"/>
              </a:rPr>
              <a:t>Пятый день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4800" indent="0" algn="ctr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награждение победителей (олимпиоников) перед            храмом Зевс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4800" indent="0" algn="ctr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11120" y="360000"/>
            <a:ext cx="82281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иборье — главное состязание Олимпийских игр, которое состояло из соревнований по пяти видам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0" y="1619280"/>
            <a:ext cx="8280360" cy="3959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0" y="5040360"/>
            <a:ext cx="1619280" cy="1114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3"/>
          <a:stretch/>
        </p:blipFill>
        <p:spPr>
          <a:xfrm>
            <a:off x="1979640" y="5040360"/>
            <a:ext cx="949320" cy="1079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4"/>
          <a:stretch/>
        </p:blipFill>
        <p:spPr>
          <a:xfrm>
            <a:off x="3419640" y="4859280"/>
            <a:ext cx="2879640" cy="126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5"/>
          <a:stretch/>
        </p:blipFill>
        <p:spPr>
          <a:xfrm>
            <a:off x="6480000" y="4859280"/>
            <a:ext cx="2519640" cy="1260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6"/>
          <a:stretch/>
        </p:blipFill>
        <p:spPr>
          <a:xfrm>
            <a:off x="6993000" y="1712880"/>
            <a:ext cx="19447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дион – место, где проводились соревно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748720" cy="551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9:23:28Z</dcterms:created>
  <dc:creator>наташа</dc:creator>
  <dc:description/>
  <cp:keywords/>
  <dc:language>en-US</dc:language>
  <cp:lastModifiedBy>User</cp:lastModifiedBy>
  <dcterms:modified xsi:type="dcterms:W3CDTF">2022-01-27T09:40:18Z</dcterms:modified>
  <cp:revision>16</cp:revision>
  <dc:subject/>
  <dc:title>                                  28.02.14</dc:title>
</cp:coreProperties>
</file>