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8BF-89B1-417F-84BC-9A843613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84C-71FA-4EE3-9B05-15A8F02E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FFD-EA9C-4B1B-B5E7-01C0B38A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1DC-BE3F-4C9A-A450-27A8AF65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F76-58E4-44A9-B245-F5AF9283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A81-047A-44B2-9D0D-F79858F2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A41-AC3C-410F-92B9-C4AA3C5C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217-87BD-4FBA-96F5-5AD7002B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C94-2DE7-4562-9E4B-D43A04A4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64C-5E01-4302-BC0A-BF4AAE9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6E9-CFDE-4E33-86F4-5AA6354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7FD-B324-4630-8610-EDD81ACE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EBD-C05F-4B1D-ACDD-2710BBEA7A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31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293"/>
                </a:solidFill>
                <a:latin typeface="Arial"/>
              </a:rPr>
              <a:t>Жизнь и деятельность </a:t>
            </a:r>
            <a:br>
              <a:rPr sz="4800"/>
            </a:br>
            <a:r>
              <a:rPr b="0" lang="ru-RU" sz="4800" spc="-1" strike="noStrike">
                <a:solidFill>
                  <a:srgbClr val="dfd293"/>
                </a:solidFill>
                <a:latin typeface="Arial"/>
              </a:rPr>
              <a:t>святителя Иннокентия Московского </a:t>
            </a:r>
            <a:br>
              <a:rPr sz="4800"/>
            </a:br>
            <a:br>
              <a:rPr sz="4000"/>
            </a:b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(1797 – 1879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637680" y="61722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узаков А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Алеуты в национальной одежде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9" name="Picture 3" descr="aleut2"/>
          <p:cNvPicPr/>
          <p:nvPr/>
        </p:nvPicPr>
        <p:blipFill>
          <a:blip r:embed="rId1"/>
          <a:stretch/>
        </p:blipFill>
        <p:spPr>
          <a:xfrm>
            <a:off x="838080" y="685800"/>
            <a:ext cx="3324240" cy="487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0_1740b_1e90f11f_L"/>
          <p:cNvPicPr/>
          <p:nvPr/>
        </p:nvPicPr>
        <p:blipFill>
          <a:blip r:embed="rId2"/>
          <a:stretch/>
        </p:blipFill>
        <p:spPr>
          <a:xfrm>
            <a:off x="5029200" y="685800"/>
            <a:ext cx="335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Индейцы - колош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2" name="Picture 4" descr="колоши3"/>
          <p:cNvPicPr/>
          <p:nvPr/>
        </p:nvPicPr>
        <p:blipFill>
          <a:blip r:embed="rId1"/>
          <a:stretch/>
        </p:blipFill>
        <p:spPr>
          <a:xfrm>
            <a:off x="5181480" y="609480"/>
            <a:ext cx="3206880" cy="470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олоши2"/>
          <p:cNvPicPr/>
          <p:nvPr/>
        </p:nvPicPr>
        <p:blipFill>
          <a:blip r:embed="rId2"/>
          <a:stretch/>
        </p:blipFill>
        <p:spPr>
          <a:xfrm>
            <a:off x="533520" y="1219320"/>
            <a:ext cx="38098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Туземцы встречают святителя Иннокент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5" name="Picture 3" descr="алеуты и священник"/>
          <p:cNvPicPr/>
          <p:nvPr/>
        </p:nvPicPr>
        <p:blipFill>
          <a:blip r:embed="rId1"/>
          <a:stretch/>
        </p:blipFill>
        <p:spPr>
          <a:xfrm>
            <a:off x="2362320" y="533520"/>
            <a:ext cx="4043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Алфавит алеутского язык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Picture 3" descr="алфавит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Евангелие на алеутском языке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" name="Picture 3" descr="первая страничка Евангелия"/>
          <p:cNvPicPr/>
          <p:nvPr/>
        </p:nvPicPr>
        <p:blipFill>
          <a:blip r:embed="rId1"/>
          <a:stretch/>
        </p:blipFill>
        <p:spPr>
          <a:xfrm>
            <a:off x="2895480" y="457200"/>
            <a:ext cx="32623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Отец Иннокентий, архиепископ Камчатский, Курильский, Алеутский и Северо-Американский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3" descr="97-19"/>
          <p:cNvPicPr/>
          <p:nvPr/>
        </p:nvPicPr>
        <p:blipFill>
          <a:blip r:embed="rId1"/>
          <a:stretch/>
        </p:blipFill>
        <p:spPr>
          <a:xfrm>
            <a:off x="2590920" y="609480"/>
            <a:ext cx="39369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293"/>
                </a:solidFill>
                <a:latin typeface="Arial"/>
              </a:rPr>
              <a:t>Путешествия святителя Иннокентия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" name="Picture 3" descr="Российская Империя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арад на Дворцовой площад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5" name="Picture 4" descr="парад!"/>
          <p:cNvPicPr/>
          <p:nvPr/>
        </p:nvPicPr>
        <p:blipFill>
          <a:blip r:embed="rId1"/>
          <a:stretch/>
        </p:blipFill>
        <p:spPr>
          <a:xfrm>
            <a:off x="838080" y="838080"/>
            <a:ext cx="74487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5790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Крымская война. Оборона Севасто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y_f65905d0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90920" y="57146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орское сра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y_1109ba79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562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оссийская империя в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800px-Imperio_Ruso_zenith"/>
          <p:cNvPicPr/>
          <p:nvPr/>
        </p:nvPicPr>
        <p:blipFill>
          <a:blip r:embed="rId1"/>
          <a:stretch/>
        </p:blipFill>
        <p:spPr>
          <a:xfrm>
            <a:off x="380880" y="1095480"/>
            <a:ext cx="83822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с Москва 3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Крестный ход в Москве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2" name="Picture 3" descr="с Москва крестный ход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Алеуты и другие американские народности до сих пор свято хранят православие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4" name="Picture 3" descr="21111"/>
          <p:cNvPicPr/>
          <p:nvPr/>
        </p:nvPicPr>
        <p:blipFill>
          <a:blip r:embed="rId1"/>
          <a:stretch/>
        </p:blipFill>
        <p:spPr>
          <a:xfrm>
            <a:off x="2971800" y="6094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293"/>
                </a:solidFill>
                <a:latin typeface="Arial"/>
              </a:rPr>
              <a:t>Святитель Иннокентий Московский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6" name="Picture 3" descr="031009_pub_200"/>
          <p:cNvPicPr/>
          <p:nvPr/>
        </p:nvPicPr>
        <p:blipFill>
          <a:blip r:embed="rId1"/>
          <a:stretch/>
        </p:blipFill>
        <p:spPr>
          <a:xfrm>
            <a:off x="2514600" y="685800"/>
            <a:ext cx="4064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400" y="5562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ркутск в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irkutsk-trade-06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Занятия в церковно-приходской школе (19 век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" name="Picture 3" descr="школа"/>
          <p:cNvPicPr/>
          <p:nvPr/>
        </p:nvPicPr>
        <p:blipFill>
          <a:blip r:embed="rId1"/>
          <a:stretch/>
        </p:blipFill>
        <p:spPr>
          <a:xfrm>
            <a:off x="1295280" y="838080"/>
            <a:ext cx="64389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Портрет священника о. Иоанна Вениаминова в молодост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Picture 3" descr="veniaminov"/>
          <p:cNvPicPr/>
          <p:nvPr/>
        </p:nvPicPr>
        <p:blipFill>
          <a:blip r:embed="rId1"/>
          <a:stretch/>
        </p:blipFill>
        <p:spPr>
          <a:xfrm>
            <a:off x="2590920" y="685800"/>
            <a:ext cx="3924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Карта Сибири, Дальнего Востока и Русской Америк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2" name="Picture 3" descr="a30"/>
          <p:cNvPicPr/>
          <p:nvPr/>
        </p:nvPicPr>
        <p:blipFill>
          <a:blip r:embed="rId1"/>
          <a:stretch/>
        </p:blipFill>
        <p:spPr>
          <a:xfrm>
            <a:off x="1219320" y="304920"/>
            <a:ext cx="675324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рирода Алеутских острово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4" name="Picture 3" descr="oPt7pG2zJo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Алеуты на байдарках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Picture 4" descr="km03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leut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22-04-04T11:55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