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BC0-6B20-4159-82D9-D7DF779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CB4-3295-476F-88EA-D514BC7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650-DC2A-49EF-AFCA-610AB2A1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65A-9D50-4B3A-8F42-0C618E2F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0FA-F4FE-41A2-BDD6-C307AC7A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48E-0B84-43AE-9600-328AF1B9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E08-AED8-4EC4-926D-E9D4EF10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6BAC-B7E2-4928-98A0-6A2EB2B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1E3-0146-4E0B-9172-64E85B77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BD0-04EB-415D-9DEC-C647689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BA4-1462-47FD-B8C1-F273175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802-CBE9-4F82-A471-1D6342E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D3D-4C41-4FE4-8897-C880AF2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85B2-FCBA-40AF-96F2-04F2BC88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E52-B186-45C5-B3E0-B7573B7B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64F5-F95E-4F06-9FA7-D0816D4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EDA6-1EAA-405F-8BFB-B537766A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4435-4E32-4C53-B528-131D147B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4090-FF66-46F9-B17A-A9E88CCF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C29F-4CD0-4F7C-976F-252DE8C4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391B-A345-4911-8722-1DF19471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DF2C-4B02-4F77-A9B8-5659B30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FB7-BDFA-4CA9-AD8A-FE72769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9C67-615E-4552-9A5B-2F8D55B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9D09-2645-446F-B468-8A16792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ED81-97BE-4E16-AF00-4F6E3E2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7FE7-4270-4922-AC07-9583DC5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4A38-D4A8-4A73-89BF-AF2CDAC1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805F-4ADD-4177-BCE2-E0E72C90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B3B0-775F-462E-A5F8-6F44C53E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9547-6216-45DA-9EC7-61B224F7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948B-2F0E-4819-B12B-D0F390D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1603-4218-4B65-A71C-A04EC1E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5D3-345C-4D1D-91FB-B47DCA3C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8835-20CB-492F-8340-A59E6E0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00FA-7D7A-40A3-93BE-71C395F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01F5-49E6-4BB7-9CF6-CB86F17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96B1-EDDE-44EE-8ABC-CE87C18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01B4-331D-4300-B179-F89D0E9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19A7-4613-4287-82F1-7E1C65D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CDB9-A9C2-4651-8AE8-9F28178C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BEC5-99CE-45D5-98E0-D87010F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3697-B10E-4DEF-8111-60DA3E24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75D5-FE5F-4E48-9208-7BF28CE6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789-8C87-4276-A269-96236D2F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7319-A90D-4330-BBFA-5F17158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470B-E8C9-4EAD-B415-36229DC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34E0-3DA4-474E-B3E1-96B954C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F44C-8FAB-4CF7-AE66-7D27DBF6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E758-C5AD-46CD-A80A-FF7AB343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C53C-9A52-44EA-9990-980D804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5F93-B3DB-486E-8283-3030833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1216-2013-4E9A-9781-0837A4E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F804-9375-4F27-B831-4D240A24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6BED-E8EE-4B3B-907F-740DC432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70B-0295-4DA4-AE45-F158C933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AFDA-FA2E-43BC-BDCD-6C36127D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8471-8718-4964-AC69-A06F80C0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7CAB-3045-4A12-B6AF-B677395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806D-32EF-4A12-95D9-86809AE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81B7-4885-4BA6-9221-A6CFEF8C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02261-4B7E-4ADB-88B1-BE7AB29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AADC-986D-4410-9385-1AC65A3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1DE8-84B2-4816-A6E3-A81058B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2390-1FD3-44F4-8047-03D7B98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20818-F086-4D0A-8367-F51D60C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9ED-1C18-41F1-897E-DFBF806C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BA4E-E27C-4483-911F-C0244E3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D1EE-8F3B-465C-A2AA-9C55CFC1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A142-235E-4E65-A280-F2E32684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5A0-6743-4AEF-951F-5D7DB1C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758-0DD7-46E9-9A15-337F7E2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00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7AA-634F-4500-B536-110F5BE072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140a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140a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853-2C63-40EA-A406-32112051DE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6000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6000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6000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6000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4AA-A3F5-45A6-8D56-8243118FF1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6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7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00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030-68F0-4444-AB20-EA8CD30E989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140a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140a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BE8-2099-45AE-B2AB-6EE42A89C2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6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6000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6000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6000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6000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C89-450D-4FEE-9EB6-74332FFEED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ом из Поморской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ой стороны»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амов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ёдор Александрович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240" y="44956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року  родная литература 3 класс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лавельская средняя школа №3»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ниченко Л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какой деревне родился Ф. Абрамов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ником какой блокады был Федор Абрамов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стремился попасть писатель, хотя бы раз в год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ая основная тема в произведениях Ф.А.Абрамов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стигли ли мы цели урока, которую поставили в начале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&amp;dcy;&amp;iecy;&amp;rcy;&amp;iecy;&amp;vcy;&amp;ncy;&amp;yacy; &amp;vcy;&amp;iecy;&amp;rcy;&amp;kcy;&amp;ocy;&amp;lcy;&amp;acy;"/>
          <p:cNvPicPr/>
          <p:nvPr/>
        </p:nvPicPr>
        <p:blipFill>
          <a:blip r:embed="rId1"/>
          <a:stretch/>
        </p:blipFill>
        <p:spPr>
          <a:xfrm>
            <a:off x="228600" y="735120"/>
            <a:ext cx="8915400" cy="5946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76320" y="7920"/>
            <a:ext cx="9067680" cy="1872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Ф.А.Абрамов родился 29 февраля 1920 года в деревне Веркола Пинежского  района Архангельской  области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 крестьянской семье. Жили трудно,         в  постоянных   заботах о куске хлеба,     вдоволь   хлебнули  крестьянского               лиха,   испытали нужду  и ли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Глава   семьи   Александр Степанович  Абрамов умер рано, в 1921  году, оставив многодетной    семье, как вспоминал впоследствии сам писатель,        «пол  -   избы  и коровенку», Федору тогда исполнилось 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2173320" y="380880"/>
            <a:ext cx="4797360" cy="64771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6"/>
          <p:cNvSpPr/>
          <p:nvPr/>
        </p:nvSpPr>
        <p:spPr>
          <a:xfrm>
            <a:off x="0" y="-60480"/>
            <a:ext cx="9144000" cy="13251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1000"/>
              </a:lnSpc>
              <a:spcBef>
                <a:spcPts val="499"/>
              </a:spcBef>
              <a:spcAft>
                <a:spcPts val="142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 — 1938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ды  обучения  в Веркольской начальной школе  и   в Карпогорской  средней школе. В 1938 году Федор Абрамов окончил с отличием школу и осенью того же года был зачислен без экзаменов на филологический факультет ленинградского универс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6"/>
          <p:cNvSpPr/>
          <p:nvPr/>
        </p:nvSpPr>
        <p:spPr>
          <a:xfrm>
            <a:off x="0" y="15840"/>
            <a:ext cx="9144000" cy="3832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гда   началась    Великая Отечественная война, Ф.Абрамов, как и многие студенты, добровольцем ушел в ряды    ополченцев. В боях под Ленинградом   он    получил первое ранение    и    несколько    месяцев пролежал в госпитале. Зимой 1942 года он снова в рядах защитников города принимает участие в сражениях на Пулковских высотах. И здесь снова ранение,    на    этот    раз  тяжелое, разрывными    пулями    в ногу. По Ладожской «дороге жизни» в числе многих   других раненых бойцов и блокадников Ф.Абрамов был вывезен из города. Он  попал на излечение в архангельский госпи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380880" y="3543480"/>
            <a:ext cx="2519640" cy="288288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" descr=""/>
          <p:cNvPicPr/>
          <p:nvPr/>
        </p:nvPicPr>
        <p:blipFill>
          <a:blip r:embed="rId2"/>
          <a:stretch/>
        </p:blipFill>
        <p:spPr>
          <a:xfrm>
            <a:off x="6248520" y="3543480"/>
            <a:ext cx="2517480" cy="31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42a9d4ed"/>
          <p:cNvPicPr/>
          <p:nvPr/>
        </p:nvPicPr>
        <p:blipFill>
          <a:blip r:embed="rId1"/>
          <a:stretch/>
        </p:blipFill>
        <p:spPr>
          <a:xfrm>
            <a:off x="3352680" y="152280"/>
            <a:ext cx="5639040" cy="4110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457200" y="4343400"/>
            <a:ext cx="8458200" cy="25308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сле демобилизации в сентябре 1945г. Ф. Абрамов возвращается в  Ленинградский университет продолжать прерванную учебу.  На старших курсах  он проявляет особое пристрастие к  советской литературе и поступает в аспиран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66ec97b779a33d1aecc67e42ed6ec14f"/>
          <p:cNvPicPr/>
          <p:nvPr/>
        </p:nvPicPr>
        <p:blipFill>
          <a:blip r:embed="rId1"/>
          <a:stretch/>
        </p:blipFill>
        <p:spPr>
          <a:xfrm>
            <a:off x="2286000" y="0"/>
            <a:ext cx="6394320" cy="6067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6"/>
          <p:cNvSpPr/>
          <p:nvPr/>
        </p:nvSpPr>
        <p:spPr>
          <a:xfrm>
            <a:off x="0" y="4789440"/>
            <a:ext cx="8686800" cy="1861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 литературную деятельность Абрамов начал в 1949 году. Он хорошо знал крестьянскую жизнь и постоянно обращался к этой теме. Родные края для него становятся источником вдохнов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&amp;mcy;&amp;ocy;&amp;gcy;&amp;icy;&amp;lcy;&amp;acy; &amp;Fcy;&amp;iecy;&amp;dcy;&amp;ocy;&amp;rcy;&amp;acy; &amp;Acy;&amp;bcy;&amp;rcy;&amp;acy;&amp;mcy;&amp;ocy;&amp;vcy;&amp;acy; &amp;vcy; &amp;Vcy;&amp;iecy;&amp;rcy;&amp;kcy;&amp;ocy;&amp;lcy;&amp;iecy;"/>
          <p:cNvPicPr/>
          <p:nvPr/>
        </p:nvPicPr>
        <p:blipFill>
          <a:blip r:embed="rId1"/>
          <a:stretch/>
        </p:blipFill>
        <p:spPr>
          <a:xfrm>
            <a:off x="228600" y="2895480"/>
            <a:ext cx="4038480" cy="34448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"/>
          <p:cNvSpPr/>
          <p:nvPr/>
        </p:nvSpPr>
        <p:spPr>
          <a:xfrm>
            <a:off x="457200" y="244440"/>
            <a:ext cx="8153280" cy="1385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ая 1983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яжелой операции скончался Ф.А.Абра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ронен 19 мая в родном селе Верк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419720" y="1981080"/>
            <a:ext cx="4190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хоронах огромное количество народу замерло, услышав над Пинегой курлыканье пары журавлей. Разглядывая, как птицы, словно прощаясь с Федором Александровичем, сделали круг над полями, люди переговаривались: "журавли провожают только праведников"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&amp;Fcy;&amp;rcy;&amp;acy;&amp;gcy;&amp;mcy;&amp;iecy;&amp;ncy;&amp;tcy; &amp;ecy;&amp;kcy;&amp;scy;&amp;pcy;&amp;ocy;&amp;zcy;&amp;icy;&amp;tscy;&amp;icy;&amp;icy;  "/>
          <p:cNvPicPr/>
          <p:nvPr/>
        </p:nvPicPr>
        <p:blipFill>
          <a:blip r:embed="rId1"/>
          <a:stretch/>
        </p:blipFill>
        <p:spPr>
          <a:xfrm>
            <a:off x="228600" y="5335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0" y="4952880"/>
            <a:ext cx="670572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Веркола находится музей им. Ф.А.Абра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6"/>
          <p:cNvSpPr/>
          <p:nvPr/>
        </p:nvSpPr>
        <p:spPr>
          <a:xfrm>
            <a:off x="914400" y="58672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0" y="4038480"/>
            <a:ext cx="4800600" cy="25311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с.Карпогоры в 2021 году установлен памятник писа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C:\Users\Любаня\Desktop\Урок Абрамов\i.jpg"/>
          <p:cNvPicPr/>
          <p:nvPr/>
        </p:nvPicPr>
        <p:blipFill>
          <a:blip r:embed="rId1"/>
          <a:stretch/>
        </p:blipFill>
        <p:spPr>
          <a:xfrm>
            <a:off x="4952880" y="27432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C:\Users\Любаня\Desktop\Урок Абрамов\6167165fba522.jpg"/>
          <p:cNvPicPr/>
          <p:nvPr/>
        </p:nvPicPr>
        <p:blipFill>
          <a:blip r:embed="rId2"/>
          <a:stretch/>
        </p:blipFill>
        <p:spPr>
          <a:xfrm>
            <a:off x="228600" y="533520"/>
            <a:ext cx="43768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аня</cp:lastModifiedBy>
  <dcterms:modified xsi:type="dcterms:W3CDTF">2021-10-21T11:19:4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