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65F-387F-4892-BEB4-1F4EA550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F7F-E1E2-4D39-AAA9-36A6E533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16B-D13A-40F9-898C-287892AF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1E2-9B9F-40F8-8BDB-C19C0522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5A5-72EC-4BB8-B574-8375719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239-15F8-43A6-9306-2115E1AF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294-4CDD-4567-8A1C-8DD94E0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EEA-E3C2-49B3-9FA5-970B0F2C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829-F8A9-471D-8293-17183D7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B8B-107A-4D4E-B7CB-8B29C64B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75B-05D4-4D67-AE2C-815FB45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A71-B1A7-45FB-BA64-964B5179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7CC-4A34-4A4C-A9D7-A42CBBF8F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оектно-изобретательная работа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Тема: «Изготовление тест полос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5000" y="5181120"/>
            <a:ext cx="561672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Научный сотрудник: Суслопарова Соф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Ассистент: воспитатель подготовительной группы Трухина Зинаида Анатольев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3000" y="826920"/>
            <a:ext cx="621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тский сад «Ручеё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76280" y="111600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Ц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роектной работы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домашних условиях изготовить индикаторные поло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levisova.ru/img/p/11941-12588-thickbox.jpg"/>
          <p:cNvPicPr/>
          <p:nvPr/>
        </p:nvPicPr>
        <p:blipFill>
          <a:blip r:embed="rId1"/>
          <a:srcRect l="20088" t="28580" r="20775" b="29858"/>
          <a:stretch/>
        </p:blipFill>
        <p:spPr>
          <a:xfrm>
            <a:off x="1125360" y="5003640"/>
            <a:ext cx="38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://www.govorrusha.ru/wp-content/uploads/2013/02/3495254536_3676a18463.jpg"/>
          <p:cNvPicPr/>
          <p:nvPr/>
        </p:nvPicPr>
        <p:blipFill>
          <a:blip r:embed="rId1"/>
          <a:stretch/>
        </p:blipFill>
        <p:spPr>
          <a:xfrm>
            <a:off x="1268280" y="5076720"/>
            <a:ext cx="5354640" cy="345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uploads.likengo.ru/uploads/albums/69/69/48f1b4ec94a79805fc4251335334.jpg"/>
          <p:cNvPicPr/>
          <p:nvPr/>
        </p:nvPicPr>
        <p:blipFill>
          <a:blip r:embed="rId2"/>
          <a:stretch/>
        </p:blipFill>
        <p:spPr>
          <a:xfrm>
            <a:off x="4005360" y="250920"/>
            <a:ext cx="2376360" cy="1368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2060640" y="82692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6280" y="611280"/>
            <a:ext cx="547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мощи изготовленных индикаторных полосок определить среду разных раст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полученных исслед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http://sunny7.ua/tinymce/files/Ermolaev%20Alexander%20%D0%9A%D0%BE%D0%B3%D0%B4%D0%B0%20%D0%B8%20%D0%BA%D0%B0%D0%BA%20%D0%B4%D0%B0%D0%B2%D0%B0%D1%82%D1%8C%20%D1%80%D0%B5%D0%B1%D0%B5%D0%BD%D0%BA%D1%83%20%D1%87%D0%B0%D0%B9_1.jpg"/>
          <p:cNvPicPr/>
          <p:nvPr/>
        </p:nvPicPr>
        <p:blipFill>
          <a:blip r:embed="rId1"/>
          <a:stretch/>
        </p:blipFill>
        <p:spPr>
          <a:xfrm>
            <a:off x="189000" y="108000"/>
            <a:ext cx="2879640" cy="183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static8.depositphotos.com/1526816/1063/v/450/depositphotos_10630740-experiment.jpg"/>
          <p:cNvPicPr/>
          <p:nvPr/>
        </p:nvPicPr>
        <p:blipFill>
          <a:blip r:embed="rId2"/>
          <a:stretch/>
        </p:blipFill>
        <p:spPr>
          <a:xfrm>
            <a:off x="2205000" y="5796000"/>
            <a:ext cx="3844800" cy="30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medvoice.ru/wp-content/uploads/2013/03/chai_s_limonom_pri_beremennosti2.jpg"/>
          <p:cNvPicPr/>
          <p:nvPr/>
        </p:nvPicPr>
        <p:blipFill>
          <a:blip r:embed="rId3"/>
          <a:stretch/>
        </p:blipFill>
        <p:spPr>
          <a:xfrm>
            <a:off x="3573360" y="468360"/>
            <a:ext cx="2853000" cy="2016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33360" y="1042920"/>
            <a:ext cx="522288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простудных заболеваний нам предлагают пить чай с лимоном. И я заметила, что он меняет цвет с коричневого на жел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же еще вещества могут поменять ц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919440" y="75564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Материалы и 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go4.imgsmail.ru/imgpreview?key=7f77828edfa0206c&amp;mb=imgdb_preview_1940"/>
          <p:cNvPicPr/>
          <p:nvPr/>
        </p:nvPicPr>
        <p:blipFill>
          <a:blip r:embed="rId1"/>
          <a:stretch/>
        </p:blipFill>
        <p:spPr>
          <a:xfrm>
            <a:off x="476280" y="1763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4.bp.blogspot.com/-2bmds4tkJ5o/VUnxu972RHI/AAAAAAAAHn8/4mIb6iW0azA/s1600/913.png"/>
          <p:cNvPicPr/>
          <p:nvPr/>
        </p:nvPicPr>
        <p:blipFill>
          <a:blip r:embed="rId2"/>
          <a:stretch/>
        </p:blipFill>
        <p:spPr>
          <a:xfrm>
            <a:off x="3645000" y="1763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ruebrands.ru/img_lib/2014/11/1415797711_6611.jpg"/>
          <p:cNvPicPr/>
          <p:nvPr/>
        </p:nvPicPr>
        <p:blipFill>
          <a:blip r:embed="rId3"/>
          <a:stretch/>
        </p:blipFill>
        <p:spPr>
          <a:xfrm>
            <a:off x="3500280" y="5435640"/>
            <a:ext cx="2563920" cy="15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megalaiv.ucoz.org/_ld/8/99810614.png"/>
          <p:cNvPicPr/>
          <p:nvPr/>
        </p:nvPicPr>
        <p:blipFill>
          <a:blip r:embed="rId4"/>
          <a:stretch/>
        </p:blipFill>
        <p:spPr>
          <a:xfrm>
            <a:off x="115920" y="3635280"/>
            <a:ext cx="4176720" cy="3529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1211760" y="781200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ля приготовления сир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pop-ask.ru/wp-content/uploads/2013/10/soda_pischevaya.jpg"/>
          <p:cNvPicPr/>
          <p:nvPr/>
        </p:nvPicPr>
        <p:blipFill>
          <a:blip r:embed="rId1"/>
          <a:srcRect l="18746" t="0" r="15635" b="0"/>
          <a:stretch/>
        </p:blipFill>
        <p:spPr>
          <a:xfrm>
            <a:off x="1916280" y="1258920"/>
            <a:ext cx="1512720" cy="126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ru.all.biz/img/ru/catalog/3025936.jpeg"/>
          <p:cNvPicPr/>
          <p:nvPr/>
        </p:nvPicPr>
        <p:blipFill>
          <a:blip r:embed="rId2"/>
          <a:stretch/>
        </p:blipFill>
        <p:spPr>
          <a:xfrm>
            <a:off x="549360" y="324000"/>
            <a:ext cx="2736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856600" y="324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www.ru.all.biz/img/ru/catalog/3025936.jpeg"/>
          <p:cNvPicPr/>
          <p:nvPr/>
        </p:nvPicPr>
        <p:blipFill>
          <a:blip r:embed="rId1"/>
          <a:stretch/>
        </p:blipFill>
        <p:spPr>
          <a:xfrm>
            <a:off x="476280" y="1042920"/>
            <a:ext cx="2736720" cy="129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noginskmama.ru/download/file.php?id=2259"/>
          <p:cNvPicPr/>
          <p:nvPr/>
        </p:nvPicPr>
        <p:blipFill>
          <a:blip r:embed="rId2"/>
          <a:stretch/>
        </p:blipFill>
        <p:spPr>
          <a:xfrm>
            <a:off x="476280" y="2484360"/>
            <a:ext cx="3417840" cy="170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pop-ask.ru/wp-content/uploads/2013/10/soda_pischevaya.jpg"/>
          <p:cNvPicPr/>
          <p:nvPr/>
        </p:nvPicPr>
        <p:blipFill>
          <a:blip r:embed="rId3"/>
          <a:srcRect l="18746" t="0" r="15635" b="0"/>
          <a:stretch/>
        </p:blipFill>
        <p:spPr>
          <a:xfrm>
            <a:off x="4869000" y="1042920"/>
            <a:ext cx="1512720" cy="12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sunhi.ru/wp-content/uploads/2012/06/klyukva.jpg"/>
          <p:cNvPicPr/>
          <p:nvPr/>
        </p:nvPicPr>
        <p:blipFill>
          <a:blip r:embed="rId4"/>
          <a:stretch/>
        </p:blipFill>
        <p:spPr>
          <a:xfrm>
            <a:off x="4005360" y="2627280"/>
            <a:ext cx="2235240" cy="18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ttp://shoubiz.com.ua/uploads/posts/2014-05/1400062605_resize.jpg"/>
          <p:cNvPicPr/>
          <p:nvPr/>
        </p:nvPicPr>
        <p:blipFill>
          <a:blip r:embed="rId5"/>
          <a:stretch/>
        </p:blipFill>
        <p:spPr>
          <a:xfrm>
            <a:off x="836640" y="4284720"/>
            <a:ext cx="2195640" cy="1460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1068840" y="745164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умение нарезать бумагу поло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493640" y="75564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шаг в достижении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Вован\Pictures\соня\SAM_1344.JPG"/>
          <p:cNvPicPr/>
          <p:nvPr/>
        </p:nvPicPr>
        <p:blipFill>
          <a:blip r:embed="rId1"/>
          <a:srcRect l="17903" t="6483" r="18419" b="0"/>
          <a:stretch/>
        </p:blipFill>
        <p:spPr>
          <a:xfrm>
            <a:off x="260280" y="2050920"/>
            <a:ext cx="3240000" cy="386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Вован\Pictures\соня\SAM_1325.JPG"/>
          <p:cNvPicPr/>
          <p:nvPr/>
        </p:nvPicPr>
        <p:blipFill>
          <a:blip r:embed="rId2"/>
          <a:srcRect l="14669" t="12791" r="34671" b="14098"/>
          <a:stretch/>
        </p:blipFill>
        <p:spPr>
          <a:xfrm>
            <a:off x="3716280" y="5219640"/>
            <a:ext cx="273708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339840" y="644364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ищебл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ольный от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756960" y="3851280"/>
            <a:ext cx="30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тали отва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у и разлож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с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Вован\Pictures\соня\SAM_1328.JPG"/>
          <p:cNvPicPr/>
          <p:nvPr/>
        </p:nvPicPr>
        <p:blipFill>
          <a:blip r:embed="rId1"/>
          <a:srcRect l="6299" t="0" r="25384" b="3798"/>
          <a:stretch/>
        </p:blipFill>
        <p:spPr>
          <a:xfrm>
            <a:off x="115920" y="539640"/>
            <a:ext cx="4465440" cy="471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Вован\Pictures\соня\SAM_1334.JPG"/>
          <p:cNvPicPr/>
          <p:nvPr/>
        </p:nvPicPr>
        <p:blipFill>
          <a:blip r:embed="rId2"/>
          <a:srcRect l="8336" t="0" r="0" b="1498"/>
          <a:stretch/>
        </p:blipFill>
        <p:spPr>
          <a:xfrm>
            <a:off x="2637000" y="5759280"/>
            <a:ext cx="3960720" cy="3384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4581360" y="197964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ез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125360" y="6227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4T12:45:15Z</dcterms:created>
  <dc:creator>Вован</dc:creator>
  <dc:description/>
  <dc:language>en-US</dc:language>
  <cp:lastModifiedBy>Вован</cp:lastModifiedBy>
  <dcterms:modified xsi:type="dcterms:W3CDTF">2016-03-27T03:17:25Z</dcterms:modified>
  <cp:revision>17</cp:revision>
  <dc:subject/>
  <dc:title>Проектно-изобретательная работа   Тема: «Изготовление тест полоски»</dc:title>
</cp:coreProperties>
</file>