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F93-9D89-4764-8433-428332EE3CB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10B6-1383-4AEE-95A5-F8F246D71067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38C-CAC8-460E-8A1A-CFE892CF666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893-4406-43AA-90CB-0C215881FA1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DE3-070C-4138-A52A-A365FDF0984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CDEC-8F7C-416A-A97F-8548FBCC696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EC2-909B-484E-926B-1A53DB67FC9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5B1-6D0D-49AA-89EE-79F3C450126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6D5-25F3-4269-AD72-A550A386690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019-D279-49FD-B7F8-2DCEA1276C3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90B9-91A3-456E-A5A7-6062B8BDF66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FF6-DEC5-45A6-B38E-9E8E5004CEE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EA6-9E61-430F-A897-4658C2DE4FE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0188-9E8F-40DB-90B7-9CC74F1FCEB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BB0-A5F1-4703-8265-6DCE9880EFB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B4E-4094-426F-B66F-202BD0CD5EF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CC1-6CAC-4B9B-9776-F4C69611DE0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AB99-6639-4D00-8897-61C736281AF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FB7-0394-43EB-AD39-AAC5274AB0B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CABE-9CEC-430D-AC7A-250458D165A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BF47-9464-419E-B88E-6EA031A02C9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BC6-1428-4F38-8F58-49E8BEEBFE0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E111-B585-4F9E-A598-9382C5A9D15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F2B8-0014-487D-9CF0-9459CB18EB5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F6C2-F200-49DE-972C-87CD7A837FD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B03-82BC-4E34-AC59-85E1857F545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2EF-440F-41C6-AF64-D825BA2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C9F-24D9-4ABE-9C73-4A8B810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8A4-F118-4809-93BA-31A86CF4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72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72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9F7-99C8-4FE3-B910-20B23E4A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ACDC-A7BF-4C3C-8F46-CCD5B021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248DA-7CE1-4D7A-B0B4-C85B96C4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FBF1-C81D-4449-9B41-33C16CB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F32E-4BF3-484F-99BA-378A90D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031DF-F452-46D1-9BAB-460E93FF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91960"/>
            <a:ext cx="10969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4B6CE-62A9-4C96-90A5-DBE7FF9F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49D99-8C9D-4F5B-BA63-BD46192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7B1-D062-4D72-9B25-485D749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A0E44-F61D-4E52-B028-0374F29A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8BC4-A0F2-4BB7-A6A7-F8A2596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1BC09-F7FB-4134-83C1-37A4D56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ECC1-16EC-4D93-890D-B09D07D4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72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72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0A2BB-3F53-479C-9CF2-F5C7C6DB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408-D1EA-41EF-A642-4520ECA5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55B-D7D4-424E-9A3E-3F5D75A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394-4527-44EC-B035-48DA99D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91960"/>
            <a:ext cx="10969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F5C-A606-40E7-BF62-A89E7B4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165-DBBB-4C7C-9AE1-46C0BEF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F43-8495-4A7B-86B6-FB7EC27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0EE-9F09-4B94-A500-7211E2A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A3A-BBAD-4C4D-B61C-B4D53300A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380880" y="2803680"/>
            <a:ext cx="180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FB51-CBC3-4BFC-9F7D-3E93244C00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25360" y="1699920"/>
            <a:ext cx="626436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новозрастная группа детей со сложной структурой дефекта</a:t>
            </a:r>
            <a:br>
              <a:rPr sz="2200"/>
            </a:br>
            <a:br>
              <a:rPr sz="22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9 детей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_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5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писочная численность воспитанник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57720" y="4868640"/>
            <a:ext cx="66484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бцова Ольга Петров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тел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ДОУ «Детский сад комбинированного ви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№167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 Воронеж/Совет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83de"/>
                </a:solidFill>
                <a:latin typeface="Tahoma"/>
              </a:rPr>
              <a:t>2021-2022 учебный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9" descr="DSC_0372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:\ФОТО М\IMG_0651.JPG"/>
          <p:cNvPicPr/>
          <p:nvPr/>
        </p:nvPicPr>
        <p:blipFill>
          <a:blip r:embed="rId2"/>
          <a:stretch/>
        </p:blipFill>
        <p:spPr>
          <a:xfrm>
            <a:off x="6670800" y="549360"/>
            <a:ext cx="4321080" cy="331128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222800" y="4869000"/>
            <a:ext cx="6951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6 Центр безопасности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одержат в себе макет светофора, плакаты, правила движения, дорожные знаки, службы экстренной помощи, правила безопасности, правила поведения при пожаре, правила пожарной безопасности, а также различные дидактические игры и иллюстрации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2"/>
          <p:cNvSpPr/>
          <p:nvPr/>
        </p:nvSpPr>
        <p:spPr>
          <a:xfrm>
            <a:off x="477720" y="515772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af2d4"/>
                </a:solidFill>
                <a:latin typeface="Cambria"/>
              </a:rPr>
              <a:t>Рабочая зона для занятий с детьми представлена магнитной доской, фланелеграфом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9" descr="DSC_0363"/>
          <p:cNvPicPr/>
          <p:nvPr/>
        </p:nvPicPr>
        <p:blipFill>
          <a:blip r:embed="rId1"/>
          <a:stretch/>
        </p:blipFill>
        <p:spPr>
          <a:xfrm>
            <a:off x="262080" y="12794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рабочая зона"/>
          <p:cNvPicPr/>
          <p:nvPr/>
        </p:nvPicPr>
        <p:blipFill>
          <a:blip r:embed="rId2"/>
          <a:stretch/>
        </p:blipFill>
        <p:spPr>
          <a:xfrm>
            <a:off x="6094440" y="1268280"/>
            <a:ext cx="5391000" cy="3033720"/>
          </a:xfrm>
          <a:prstGeom prst="rect">
            <a:avLst/>
          </a:prstGeom>
          <a:ln w="0">
            <a:noFill/>
          </a:ln>
        </p:spPr>
      </p:pic>
      <p:sp>
        <p:nvSpPr>
          <p:cNvPr id="146" name="Заголовок 2"/>
          <p:cNvSpPr/>
          <p:nvPr/>
        </p:nvSpPr>
        <p:spPr>
          <a:xfrm>
            <a:off x="5518080" y="5013360"/>
            <a:ext cx="61214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Рабочая з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Хранение методических пособий, раздаточного материала.(Стол воспитателя и шкаф с метод. пособиями расположены в спальн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000" y="587664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тивный уголок </a:t>
            </a:r>
            <a:br>
              <a:rPr sz="18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еляется в игровой зоне. Из предметов в общем доступе — мячи различных размеров, кегли, обручи, скакалки, кольцеброс, ступеньки, горка и друг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6886440" y="836640"/>
            <a:ext cx="432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двигательной активности включает оборудование и атрибуты для организации подвижных игр, для организации самостоятельной двигательной деятельности воспитанников. Содержание активного сектора соответствует интересам мальчиков и девочек, периодически изменяется, варьируется, постоянно обогаща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6" descr="DSC_0373"/>
          <p:cNvPicPr/>
          <p:nvPr/>
        </p:nvPicPr>
        <p:blipFill>
          <a:blip r:embed="rId1"/>
          <a:stretch/>
        </p:blipFill>
        <p:spPr>
          <a:xfrm>
            <a:off x="693720" y="836640"/>
            <a:ext cx="5727600" cy="3819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горка"/>
          <p:cNvPicPr/>
          <p:nvPr/>
        </p:nvPicPr>
        <p:blipFill>
          <a:blip r:embed="rId2"/>
          <a:stretch/>
        </p:blipFill>
        <p:spPr>
          <a:xfrm>
            <a:off x="6599160" y="4005360"/>
            <a:ext cx="4608720" cy="259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Заголовок 2"/>
          <p:cNvSpPr/>
          <p:nvPr/>
        </p:nvSpPr>
        <p:spPr>
          <a:xfrm>
            <a:off x="0" y="4653000"/>
            <a:ext cx="11088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700" spc="-1" strike="noStrike">
                <a:solidFill>
                  <a:srgbClr val="ffffff"/>
                </a:solidFill>
                <a:latin typeface="Tahoma"/>
              </a:rPr>
              <a:t>театральном уголке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азмещаются ширма, маски сказочных персонажей,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азличные виды театра - кукольный, пальчиковый, настольный,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теневой, би-ба-бо.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ядом расположен </a:t>
            </a:r>
            <a:r>
              <a:rPr b="1" lang="ru-RU" sz="700" spc="-1" strike="noStrike">
                <a:solidFill>
                  <a:srgbClr val="ffffff"/>
                </a:solidFill>
                <a:latin typeface="Tahoma"/>
              </a:rPr>
              <a:t>уголок Ряжения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Мы вместе с воспитанниками готовим костюмы, атрибуты и декорации к маленьким представлениям. Дети – большие артисты, поэтому с радостью участвуют в постановках и с удовольствием выступают в роли зрителей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DSC_0343"/>
          <p:cNvPicPr/>
          <p:nvPr/>
        </p:nvPicPr>
        <p:blipFill>
          <a:blip r:embed="rId1"/>
          <a:stretch/>
        </p:blipFill>
        <p:spPr>
          <a:xfrm>
            <a:off x="117360" y="836640"/>
            <a:ext cx="6035760" cy="37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театр2"/>
          <p:cNvPicPr/>
          <p:nvPr/>
        </p:nvPicPr>
        <p:blipFill>
          <a:blip r:embed="rId2"/>
          <a:stretch/>
        </p:blipFill>
        <p:spPr>
          <a:xfrm>
            <a:off x="7246800" y="2997360"/>
            <a:ext cx="4550040" cy="256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театр4"/>
          <p:cNvPicPr/>
          <p:nvPr/>
        </p:nvPicPr>
        <p:blipFill>
          <a:blip r:embed="rId3"/>
          <a:stretch/>
        </p:blipFill>
        <p:spPr>
          <a:xfrm>
            <a:off x="7246800" y="692280"/>
            <a:ext cx="455292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40068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голок музыки и звук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есь есть гармошка, барабаны, бубны, маракасы, ложки, дудочки, диски с записями музыкальных произведений, игры и др. Музыкальные занятия способствуют разностороннему развитию детей: совершенствуются слуховое восприятие и навык устной речи, пополняется словарный запас. Атмосфера и содержание уголка побуждают воспитанников к самостоятельному изучению музыкальных инструментов, проявлению творческих способностей в танце, пении, сочинении мелод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DSC_0344"/>
          <p:cNvPicPr/>
          <p:nvPr/>
        </p:nvPicPr>
        <p:blipFill>
          <a:blip r:embed="rId1"/>
          <a:stretch/>
        </p:blipFill>
        <p:spPr>
          <a:xfrm>
            <a:off x="4006800" y="620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муз2"/>
          <p:cNvPicPr/>
          <p:nvPr/>
        </p:nvPicPr>
        <p:blipFill>
          <a:blip r:embed="rId2"/>
          <a:stretch/>
        </p:blipFill>
        <p:spPr>
          <a:xfrm>
            <a:off x="7894800" y="549360"/>
            <a:ext cx="3974760" cy="2981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муз"/>
          <p:cNvPicPr/>
          <p:nvPr/>
        </p:nvPicPr>
        <p:blipFill>
          <a:blip r:embed="rId3"/>
          <a:stretch/>
        </p:blipFill>
        <p:spPr>
          <a:xfrm>
            <a:off x="7894800" y="3573360"/>
            <a:ext cx="3974760" cy="265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9720" y="4149360"/>
            <a:ext cx="46735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группе есть зона для мальчиков. В уголке стоят машинки разных направлений, форм и размеров. Так же уголок используется как ПД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DSC_0334"/>
          <p:cNvPicPr/>
          <p:nvPr/>
        </p:nvPicPr>
        <p:blipFill>
          <a:blip r:embed="rId1"/>
          <a:stretch/>
        </p:blipFill>
        <p:spPr>
          <a:xfrm>
            <a:off x="909720" y="54936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для мальчиков"/>
          <p:cNvPicPr/>
          <p:nvPr/>
        </p:nvPicPr>
        <p:blipFill>
          <a:blip r:embed="rId2"/>
          <a:stretch/>
        </p:blipFill>
        <p:spPr>
          <a:xfrm>
            <a:off x="5518080" y="620640"/>
            <a:ext cx="5129280" cy="2886120"/>
          </a:xfrm>
          <a:prstGeom prst="rect">
            <a:avLst/>
          </a:prstGeom>
          <a:ln w="0">
            <a:noFill/>
          </a:ln>
        </p:spPr>
      </p:pic>
      <p:sp>
        <p:nvSpPr>
          <p:cNvPr id="166" name="Заголовок 2"/>
          <p:cNvSpPr/>
          <p:nvPr/>
        </p:nvSpPr>
        <p:spPr>
          <a:xfrm>
            <a:off x="5518080" y="5661000"/>
            <a:ext cx="4673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есь же лежат атрибуты для сюжетно – ролевых игр по ПДД и «Полици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34080" y="5300640"/>
            <a:ext cx="489744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зоне для девочек размещены куклы, кукольная посуда, коляска, детская кухня и др. Девочки играют в сюжетно – ролевые игры «Семья», «Кухня», «Кафе». Здесь же расположены атрибуты для сюжетных игр «Почта», «Ателье», «Магазин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DSC_0336"/>
          <p:cNvPicPr/>
          <p:nvPr/>
        </p:nvPicPr>
        <p:blipFill>
          <a:blip r:embed="rId1"/>
          <a:stretch/>
        </p:blipFill>
        <p:spPr>
          <a:xfrm>
            <a:off x="1270080" y="47628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омната"/>
          <p:cNvPicPr/>
          <p:nvPr/>
        </p:nvPicPr>
        <p:blipFill>
          <a:blip r:embed="rId2"/>
          <a:stretch/>
        </p:blipFill>
        <p:spPr>
          <a:xfrm>
            <a:off x="5518080" y="836640"/>
            <a:ext cx="5319720" cy="299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5157720"/>
            <a:ext cx="46735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 – ролевая игра «Парикмахерск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31160" y="5300640"/>
            <a:ext cx="3124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 – ролевая игра «Доктор», «Поликлини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7" descr="DSC_0360"/>
          <p:cNvPicPr/>
          <p:nvPr/>
        </p:nvPicPr>
        <p:blipFill>
          <a:blip r:embed="rId1"/>
          <a:stretch/>
        </p:blipFill>
        <p:spPr>
          <a:xfrm>
            <a:off x="262080" y="1341360"/>
            <a:ext cx="5111640" cy="32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доктор"/>
          <p:cNvPicPr/>
          <p:nvPr/>
        </p:nvPicPr>
        <p:blipFill>
          <a:blip r:embed="rId2"/>
          <a:stretch/>
        </p:blipFill>
        <p:spPr>
          <a:xfrm>
            <a:off x="5950080" y="1341360"/>
            <a:ext cx="53197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57360" y="5805360"/>
            <a:ext cx="914400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нтр конструирования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особствует развитию детского творчества, конструкторских способностей. Центр может быть достаточно мобилен. Практичность его состоит в том, что любой конструктор легко перемещаются в любое место. Содержимое строительного уголка (конструкторы разного вида, кубики, крупный и мелкий деревянный строительный материал, схемы и чертежи построек) позволяет организовать конструктивную деятельность с большой группой воспитанников, подгруппой и индивидуально, развернуть строительство на ковре либо на стол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7" descr="конструирование"/>
          <p:cNvPicPr/>
          <p:nvPr/>
        </p:nvPicPr>
        <p:blipFill>
          <a:blip r:embed="rId1"/>
          <a:stretch/>
        </p:blipFill>
        <p:spPr>
          <a:xfrm>
            <a:off x="4365720" y="765000"/>
            <a:ext cx="3978360" cy="2238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G_20181126_175050"/>
          <p:cNvPicPr/>
          <p:nvPr/>
        </p:nvPicPr>
        <p:blipFill>
          <a:blip r:embed="rId2"/>
          <a:stretch/>
        </p:blipFill>
        <p:spPr>
          <a:xfrm>
            <a:off x="8255160" y="620640"/>
            <a:ext cx="3616200" cy="203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IMG_20181126_175105"/>
          <p:cNvPicPr/>
          <p:nvPr/>
        </p:nvPicPr>
        <p:blipFill>
          <a:blip r:embed="rId3"/>
          <a:stretch/>
        </p:blipFill>
        <p:spPr>
          <a:xfrm>
            <a:off x="8255160" y="2565360"/>
            <a:ext cx="3616200" cy="203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DSC_0348"/>
          <p:cNvPicPr/>
          <p:nvPr/>
        </p:nvPicPr>
        <p:blipFill>
          <a:blip r:embed="rId4"/>
          <a:stretch/>
        </p:blipFill>
        <p:spPr>
          <a:xfrm>
            <a:off x="0" y="981000"/>
            <a:ext cx="4681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Текст 3"/>
          <p:cNvSpPr/>
          <p:nvPr/>
        </p:nvSpPr>
        <p:spPr>
          <a:xfrm>
            <a:off x="1846440" y="5084640"/>
            <a:ext cx="806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шумном пространстве игровой комнаты есть островок тишины и спокойствия - уголок уединения, который располагает к созерцательному наблюдению, мечтам и тихим беседам. Ребенок чувствует себя здесь спокойно и уютн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единиться можно в домике или на мягком диванч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9" descr="DSC_0349"/>
          <p:cNvPicPr/>
          <p:nvPr/>
        </p:nvPicPr>
        <p:blipFill>
          <a:blip r:embed="rId1"/>
          <a:stretch/>
        </p:blipFill>
        <p:spPr>
          <a:xfrm>
            <a:off x="549360" y="1484280"/>
            <a:ext cx="4752720" cy="3143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домик"/>
          <p:cNvPicPr/>
          <p:nvPr/>
        </p:nvPicPr>
        <p:blipFill>
          <a:blip r:embed="rId2"/>
          <a:stretch/>
        </p:blipFill>
        <p:spPr>
          <a:xfrm>
            <a:off x="6238800" y="1484280"/>
            <a:ext cx="4824360" cy="31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22440" y="6237360"/>
            <a:ext cx="38163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ход в группу, пра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Текст 3"/>
          <p:cNvSpPr/>
          <p:nvPr/>
        </p:nvSpPr>
        <p:spPr>
          <a:xfrm>
            <a:off x="4438800" y="2997360"/>
            <a:ext cx="3122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Текст 3"/>
          <p:cNvSpPr/>
          <p:nvPr/>
        </p:nvSpPr>
        <p:spPr>
          <a:xfrm>
            <a:off x="8470800" y="476280"/>
            <a:ext cx="3718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БДОУ «Детский сад комбинированного вида № 167» ходят дети со сложной структурой дефек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здании развивающей предметной среды в инклюзивной группе с одной стороны необходимо сохранение общепедагогических требований, а с другой важно учитывать особенности детей с проблемами в развитии: структуру дефекта, степень его выраженности, характер и особенности психофизического разви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руппе я попыталась создать уютную естественную обстановку, где много развивающих зон и уголков, каждый несет свои цели и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141120" y="328680"/>
            <a:ext cx="4172040" cy="2778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4387680" y="328680"/>
            <a:ext cx="405144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264960" y="3573360"/>
            <a:ext cx="4048200" cy="2697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4"/>
          <a:stretch/>
        </p:blipFill>
        <p:spPr>
          <a:xfrm>
            <a:off x="4346640" y="3573360"/>
            <a:ext cx="4051080" cy="269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4222800" y="54936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ижный уголо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озданный в нашей группе является ступенью в мероприятиях для детей и родителей по приобщению к художественному чтению, формированию запаса литературных, художественных впечатлений, развитию литературной речи. Здесь собраны книги на различную тематику, портреты детских писателей, поэ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DSC_0342"/>
          <p:cNvPicPr/>
          <p:nvPr/>
        </p:nvPicPr>
        <p:blipFill>
          <a:blip r:embed="rId1"/>
          <a:stretch/>
        </p:blipFill>
        <p:spPr>
          <a:xfrm>
            <a:off x="333360" y="620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настольные игры"/>
          <p:cNvPicPr/>
          <p:nvPr/>
        </p:nvPicPr>
        <p:blipFill>
          <a:blip r:embed="rId2"/>
          <a:stretch/>
        </p:blipFill>
        <p:spPr>
          <a:xfrm>
            <a:off x="5230800" y="3284640"/>
            <a:ext cx="5472000" cy="3168720"/>
          </a:xfrm>
          <a:prstGeom prst="rect">
            <a:avLst/>
          </a:prstGeom>
          <a:ln w="0">
            <a:noFill/>
          </a:ln>
        </p:spPr>
      </p:pic>
      <p:sp>
        <p:nvSpPr>
          <p:cNvPr id="190" name="Заголовок 2"/>
          <p:cNvSpPr/>
          <p:nvPr/>
        </p:nvSpPr>
        <p:spPr>
          <a:xfrm>
            <a:off x="6022800" y="2781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стольные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8615520" y="907920"/>
            <a:ext cx="3359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«Продуктивная деятельность» стимулирует детей к реализации творческих способностей, способствует формированию эстетического восприятия, воображения, художественно-творческих способностей, самостоятельности, активности. В центре «художественного творчества» краски, кисточки, баночки для воды, бумага и другие материалы находятся в доступных для воспитанников местах. Обязательно организуется выставка детских раб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9" descr="DSC_0351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DSC_0396"/>
          <p:cNvPicPr/>
          <p:nvPr/>
        </p:nvPicPr>
        <p:blipFill>
          <a:blip r:embed="rId2"/>
          <a:stretch/>
        </p:blipFill>
        <p:spPr>
          <a:xfrm>
            <a:off x="4208400" y="1909800"/>
            <a:ext cx="397692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2"/>
          <p:cNvSpPr/>
          <p:nvPr/>
        </p:nvSpPr>
        <p:spPr>
          <a:xfrm>
            <a:off x="3933720" y="44280"/>
            <a:ext cx="406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ahoma"/>
              </a:rPr>
              <a:t>2. Демонстрация практики трансформации сре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Заголовок 2"/>
          <p:cNvSpPr/>
          <p:nvPr/>
        </p:nvSpPr>
        <p:spPr>
          <a:xfrm>
            <a:off x="2278080" y="5445000"/>
            <a:ext cx="6769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мик, машина, горка – мобильны и устанавливаются в любом уголке группы. А так же их можно разобрать и сложить освобождая простран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7" descr="горка"/>
          <p:cNvPicPr/>
          <p:nvPr/>
        </p:nvPicPr>
        <p:blipFill>
          <a:blip r:embed="rId1"/>
          <a:stretch/>
        </p:blipFill>
        <p:spPr>
          <a:xfrm>
            <a:off x="333360" y="1654200"/>
            <a:ext cx="5702400" cy="3208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MG_20181228_093222"/>
          <p:cNvPicPr/>
          <p:nvPr/>
        </p:nvPicPr>
        <p:blipFill>
          <a:blip r:embed="rId2"/>
          <a:stretch/>
        </p:blipFill>
        <p:spPr>
          <a:xfrm>
            <a:off x="7031160" y="1700280"/>
            <a:ext cx="47512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для мальчиков"/>
          <p:cNvPicPr/>
          <p:nvPr/>
        </p:nvPicPr>
        <p:blipFill>
          <a:blip r:embed="rId3"/>
          <a:stretch/>
        </p:blipFill>
        <p:spPr>
          <a:xfrm>
            <a:off x="3718080" y="907920"/>
            <a:ext cx="50418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3933720" y="44280"/>
            <a:ext cx="406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ahoma"/>
              </a:rPr>
              <a:t>2. Демонстрация практики трансформации сре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Заголовок 2"/>
          <p:cNvSpPr/>
          <p:nvPr/>
        </p:nvSpPr>
        <p:spPr>
          <a:xfrm>
            <a:off x="6211800" y="5931000"/>
            <a:ext cx="54770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Многофункциональный стол используется для дидактических игр «Кто где живет?», игр ПДД, для настольного теат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Заголовок 2"/>
          <p:cNvSpPr/>
          <p:nvPr/>
        </p:nvSpPr>
        <p:spPr>
          <a:xfrm>
            <a:off x="538200" y="5940360"/>
            <a:ext cx="5040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мик используется детьми как уголок для уединения, так и для игры в «Дочки – матер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домик"/>
          <p:cNvPicPr/>
          <p:nvPr/>
        </p:nvPicPr>
        <p:blipFill>
          <a:blip r:embed="rId1"/>
          <a:stretch/>
        </p:blipFill>
        <p:spPr>
          <a:xfrm>
            <a:off x="333360" y="1654200"/>
            <a:ext cx="5702400" cy="3208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природы"/>
          <p:cNvPicPr/>
          <p:nvPr/>
        </p:nvPicPr>
        <p:blipFill>
          <a:blip r:embed="rId2"/>
          <a:stretch/>
        </p:blipFill>
        <p:spPr>
          <a:xfrm>
            <a:off x="6211800" y="16938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7031160" y="5229360"/>
            <a:ext cx="410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Приёмная используется, как информационный, консультативный центр для родителей, где они могут ознакомиться с организацией педагогического процесса в ДОУ, результатами продуктивной деятельности детей, меню и т.д. Такая среда обеспечивает максимальную реализацию образовательного потенциала группы, способствует развитию у детей навыков сотрудничества в совместной деятельности как со сверстниками, так и со взрослыми, обеспечивает своевременную смену деятельности и является условием сохранения и укрепления психического и физического здоровья каждого ребенка в группе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9" descr="DSC_0375"/>
          <p:cNvPicPr/>
          <p:nvPr/>
        </p:nvPicPr>
        <p:blipFill>
          <a:blip r:embed="rId1"/>
          <a:stretch/>
        </p:blipFill>
        <p:spPr>
          <a:xfrm>
            <a:off x="1414440" y="51444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SC_0382"/>
          <p:cNvPicPr/>
          <p:nvPr/>
        </p:nvPicPr>
        <p:blipFill>
          <a:blip r:embed="rId2"/>
          <a:stretch/>
        </p:blipFill>
        <p:spPr>
          <a:xfrm>
            <a:off x="1414440" y="36576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2"/>
          <p:cNvSpPr/>
          <p:nvPr/>
        </p:nvSpPr>
        <p:spPr>
          <a:xfrm>
            <a:off x="-88920" y="60310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1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 информационный  цент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Заголовок 2"/>
          <p:cNvSpPr/>
          <p:nvPr/>
        </p:nvSpPr>
        <p:spPr>
          <a:xfrm>
            <a:off x="8085240" y="5969160"/>
            <a:ext cx="410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3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практический центр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Заголовок 2"/>
          <p:cNvSpPr/>
          <p:nvPr/>
        </p:nvSpPr>
        <p:spPr>
          <a:xfrm>
            <a:off x="4164120" y="5867280"/>
            <a:ext cx="41655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2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консультационный  цент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DSC_0389"/>
          <p:cNvPicPr/>
          <p:nvPr/>
        </p:nvPicPr>
        <p:blipFill>
          <a:blip r:embed="rId1"/>
          <a:stretch/>
        </p:blipFill>
        <p:spPr>
          <a:xfrm>
            <a:off x="262080" y="476280"/>
            <a:ext cx="3978000" cy="2652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DSC_0385"/>
          <p:cNvPicPr/>
          <p:nvPr/>
        </p:nvPicPr>
        <p:blipFill>
          <a:blip r:embed="rId2"/>
          <a:stretch/>
        </p:blipFill>
        <p:spPr>
          <a:xfrm>
            <a:off x="190440" y="3141720"/>
            <a:ext cx="3978360" cy="26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DSC_0397"/>
          <p:cNvPicPr/>
          <p:nvPr/>
        </p:nvPicPr>
        <p:blipFill>
          <a:blip r:embed="rId3"/>
          <a:stretch/>
        </p:blipFill>
        <p:spPr>
          <a:xfrm>
            <a:off x="4257720" y="39996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_0395"/>
          <p:cNvPicPr/>
          <p:nvPr/>
        </p:nvPicPr>
        <p:blipFill>
          <a:blip r:embed="rId4"/>
          <a:stretch/>
        </p:blipFill>
        <p:spPr>
          <a:xfrm>
            <a:off x="8039160" y="47628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DSC_0387"/>
          <p:cNvPicPr/>
          <p:nvPr/>
        </p:nvPicPr>
        <p:blipFill>
          <a:blip r:embed="rId5"/>
          <a:stretch/>
        </p:blipFill>
        <p:spPr>
          <a:xfrm>
            <a:off x="8039160" y="3141720"/>
            <a:ext cx="3978360" cy="265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805360"/>
            <a:ext cx="4608720" cy="3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 из центра группы на  вход в помещ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26080" y="5589360"/>
            <a:ext cx="446256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 из центра группы в противоположном входу напр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Заголовок 2"/>
          <p:cNvSpPr/>
          <p:nvPr/>
        </p:nvSpPr>
        <p:spPr>
          <a:xfrm flipV="1">
            <a:off x="122400" y="3375000"/>
            <a:ext cx="3551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Текст 3"/>
          <p:cNvSpPr/>
          <p:nvPr/>
        </p:nvSpPr>
        <p:spPr>
          <a:xfrm>
            <a:off x="3357720" y="333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DSC_0329"/>
          <p:cNvPicPr/>
          <p:nvPr/>
        </p:nvPicPr>
        <p:blipFill>
          <a:blip r:embed="rId1"/>
          <a:stretch/>
        </p:blipFill>
        <p:spPr>
          <a:xfrm>
            <a:off x="406440" y="1557360"/>
            <a:ext cx="5543640" cy="369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_0328"/>
          <p:cNvPicPr/>
          <p:nvPr/>
        </p:nvPicPr>
        <p:blipFill>
          <a:blip r:embed="rId2"/>
          <a:stretch/>
        </p:blipFill>
        <p:spPr>
          <a:xfrm>
            <a:off x="6238800" y="1557360"/>
            <a:ext cx="5329440" cy="369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22800" y="1052280"/>
            <a:ext cx="544680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buClr>
                <a:srgbClr val="00cc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66"/>
                </a:solidFill>
                <a:latin typeface="Tahoma"/>
              </a:rPr>
              <a:t>Рабочий сектор </a:t>
            </a:r>
            <a:br>
              <a:rPr sz="2200"/>
            </a:br>
            <a:br>
              <a:rPr sz="1600"/>
            </a:br>
            <a:br>
              <a:rPr sz="1600"/>
            </a:br>
            <a:br>
              <a:rPr sz="2700"/>
            </a:br>
            <a:r>
              <a:rPr b="0" lang="ru-RU" sz="27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ющая предметная среда имеет свою специфику и обеспечивает условия для полноценного развития всех видов детской 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метная среда организуется так, чтобы стимулировать восприятие детей, способствовать развитию анализаторов, «подсказывать» способы обследования действий, активизировать речевую деятельность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DSC_0327"/>
          <p:cNvPicPr/>
          <p:nvPr/>
        </p:nvPicPr>
        <p:blipFill>
          <a:blip r:embed="rId1"/>
          <a:stretch/>
        </p:blipFill>
        <p:spPr>
          <a:xfrm>
            <a:off x="622440" y="1197000"/>
            <a:ext cx="53989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333360" y="5157720"/>
            <a:ext cx="79930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лемам природы, желание и стремление разрешить некоторые из экологических пробл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ыми ребенку – дошкольнику средствами.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центре имеется оборудование  для ухода за растениями, природный и бросовый материал, имеются книги, игры, игрушки связанные с природой, календарь природы, дневник наблюдени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1" descr="DSC_0369"/>
          <p:cNvPicPr/>
          <p:nvPr/>
        </p:nvPicPr>
        <p:blipFill>
          <a:blip r:embed="rId1"/>
          <a:stretch/>
        </p:blipFill>
        <p:spPr>
          <a:xfrm>
            <a:off x="117360" y="1197000"/>
            <a:ext cx="5040360" cy="33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DSC_0354"/>
          <p:cNvPicPr/>
          <p:nvPr/>
        </p:nvPicPr>
        <p:blipFill>
          <a:blip r:embed="rId2"/>
          <a:stretch/>
        </p:blipFill>
        <p:spPr>
          <a:xfrm>
            <a:off x="8319960" y="482760"/>
            <a:ext cx="3759480" cy="5638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278080" y="260280"/>
            <a:ext cx="561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1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Модуль Экологическое воспит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Заголовок 2"/>
          <p:cNvSpPr/>
          <p:nvPr/>
        </p:nvSpPr>
        <p:spPr>
          <a:xfrm>
            <a:off x="5157720" y="1700280"/>
            <a:ext cx="316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нтр живой и неживой приро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ужит не только украшением группы, но и местом для саморазвития дошкольников. У детей формируются предпосылки экологического сознания, развивается экологическая культура, познавательный интерес к экологи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2"/>
          <p:cNvSpPr/>
          <p:nvPr/>
        </p:nvSpPr>
        <p:spPr>
          <a:xfrm>
            <a:off x="622440" y="5877000"/>
            <a:ext cx="1087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центре экспериментирования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ети могут проводить опыты и эксперименты с природными и другими материалами, играть с песком, водой, красками. Здесь находятся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лупы, мензурки, колбы, мерные стаканчики, пипетки, магниты, лейки, весы, бросовый материал, коллекция камней, коллекция ракушек. Все материалы  располагаются в контейнерах.  Набор для экспериментирования с водой (плавающие и тонущие игрушки и предметы). Набор для экспериментирования с песком (формочки, совочки, грабельки, мелкие игрушки  для игрового сюжета)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9" descr="DSC_0357"/>
          <p:cNvPicPr/>
          <p:nvPr/>
        </p:nvPicPr>
        <p:blipFill>
          <a:blip r:embed="rId1"/>
          <a:stretch/>
        </p:blipFill>
        <p:spPr>
          <a:xfrm>
            <a:off x="549360" y="812880"/>
            <a:ext cx="5040360" cy="336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эксперементирование4"/>
          <p:cNvPicPr/>
          <p:nvPr/>
        </p:nvPicPr>
        <p:blipFill>
          <a:blip r:embed="rId2"/>
          <a:stretch/>
        </p:blipFill>
        <p:spPr>
          <a:xfrm>
            <a:off x="6526080" y="824040"/>
            <a:ext cx="48974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3933720" y="2276640"/>
            <a:ext cx="41767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есь собраны игры и пособия для формирования правильной речи, размещены предметы и пособия для развития речевого дыхания, игры с буквами и словами, Азбука и проч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Заголовок 2"/>
          <p:cNvSpPr/>
          <p:nvPr/>
        </p:nvSpPr>
        <p:spPr>
          <a:xfrm>
            <a:off x="4149720" y="1341360"/>
            <a:ext cx="3673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2 Моду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своение родн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0" descr="DSC_0338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DSC_0339"/>
          <p:cNvPicPr/>
          <p:nvPr/>
        </p:nvPicPr>
        <p:blipFill>
          <a:blip r:embed="rId2"/>
          <a:stretch/>
        </p:blipFill>
        <p:spPr>
          <a:xfrm>
            <a:off x="8110440" y="404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развитие речи"/>
          <p:cNvPicPr/>
          <p:nvPr/>
        </p:nvPicPr>
        <p:blipFill>
          <a:blip r:embed="rId3"/>
          <a:stretch/>
        </p:blipFill>
        <p:spPr>
          <a:xfrm>
            <a:off x="4006800" y="4221000"/>
            <a:ext cx="4032360" cy="21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981000" y="5084640"/>
            <a:ext cx="95061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1.3 Модуль Математическое развити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Центр математики - это специально отведенное, тематически оснащенное играми, пособиями и материалами место. Детям предоставляется возможность в свободное от занятий время выбрать интересующую их игру, пособие математического содержания и играть индивидуально или совместно с другими детьми. Здесь собраны цифры, геометрические фигуры, игры Воскобовича, палочки Кюизенера и др.</a:t>
            </a:r>
            <a:r>
              <a:rPr b="0" lang="ru-RU" sz="1700" spc="-1" strike="noStrike">
                <a:solidFill>
                  <a:srgbClr val="92d05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DSC_0365"/>
          <p:cNvPicPr/>
          <p:nvPr/>
        </p:nvPicPr>
        <p:blipFill>
          <a:blip r:embed="rId1"/>
          <a:stretch/>
        </p:blipFill>
        <p:spPr>
          <a:xfrm>
            <a:off x="0" y="981000"/>
            <a:ext cx="5405400" cy="360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математический уголок"/>
          <p:cNvPicPr/>
          <p:nvPr/>
        </p:nvPicPr>
        <p:blipFill>
          <a:blip r:embed="rId2"/>
          <a:stretch/>
        </p:blipFill>
        <p:spPr>
          <a:xfrm>
            <a:off x="5518080" y="476280"/>
            <a:ext cx="4824360" cy="2714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8326440" y="2351160"/>
            <a:ext cx="386244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2"/>
          <p:cNvSpPr/>
          <p:nvPr/>
        </p:nvSpPr>
        <p:spPr>
          <a:xfrm>
            <a:off x="0" y="4762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4 Модуль сенсорного разви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Заголовок 2"/>
          <p:cNvSpPr/>
          <p:nvPr/>
        </p:nvSpPr>
        <p:spPr>
          <a:xfrm>
            <a:off x="0" y="4869000"/>
            <a:ext cx="75614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обходим для стимуляции сенсорных функций (зрение, осязание, слух, обоняние и т. д.); развития мелкой моторики, стимуляции двигательной активности.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имеются разнообразные виды мозаик, лото различные по форме, цвету и материалу, пирамидки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0" descr="DSC_0358"/>
          <p:cNvPicPr/>
          <p:nvPr/>
        </p:nvPicPr>
        <p:blipFill>
          <a:blip r:embed="rId1"/>
          <a:stretch/>
        </p:blipFill>
        <p:spPr>
          <a:xfrm>
            <a:off x="112680" y="190800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_0342"/>
          <p:cNvPicPr/>
          <p:nvPr/>
        </p:nvPicPr>
        <p:blipFill>
          <a:blip r:embed="rId2"/>
          <a:stretch/>
        </p:blipFill>
        <p:spPr>
          <a:xfrm>
            <a:off x="8182080" y="33336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2"/>
          <p:cNvSpPr/>
          <p:nvPr/>
        </p:nvSpPr>
        <p:spPr>
          <a:xfrm>
            <a:off x="4149720" y="765000"/>
            <a:ext cx="3959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1.5 Моду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Нравственно – патриотического вос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078440" y="191628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нтре патриотического уголка размещены государственная символика, текст гимна,  материал о родном городе и его памятных местах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ме прочего имеются игры на патриотическую тематику: «Найди флаг стран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Достопримеча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ронеж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2-04-04T07:22:5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70000000000010291210207f7000400038000</vt:lpwstr>
  </property>
</Properties>
</file>