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38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35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12188825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309600" cy="70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27328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27328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A299-030E-4EB7-9A73-B04B699A90BF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781A-7DCF-4F5F-A864-DFC3E9101276}" type="slidenum">
              <a:rPr b="0" lang="en-US" sz="12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FEDD-23B9-41BE-B174-B3F1C807A811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D07B-1B1D-4AB1-9B03-7ED9D0AC585C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9ED0-F57A-4D37-93AA-5D101499ADB2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B2C0-07DD-4CDE-A642-82F15D9960CE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93DD-A2EC-4AFB-BF38-5513CE745778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88DE-A9D1-41CD-BF41-8CC8E60B07C9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6580-67FB-446E-82A8-A6ED6965A8FA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85FD-570A-4DB7-94B8-B36ADF673E61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5A10-9FE1-4CF5-93D7-53A541A14301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6C51-3D28-4148-9B1A-2623096D8FEA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A38D-CBED-4DCC-AC6E-3E4A387E6686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B907-98A0-40CF-A871-646661E45FE0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9182-0B87-4E13-AAF1-B7D07EB2EC1A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116E-1C06-4590-831E-57E4D54D9808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4AA8-747E-468C-A3CD-B018DF1A3B32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6AD2-3AA1-42F5-92E1-4C6A07ABC06B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1EB8-8BAB-4D6C-935D-E406D8A24024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0787-436C-4838-A338-9E4047582B58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BCD4-D64D-4B86-8B07-8C29D03C6CB4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FA40-7401-476E-B2C8-0A70AEB14EBD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756F-19F4-49DE-8A24-46A43B98AD9A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6AF2-E096-4443-B964-7A7CF7B3AA34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9DD6-62CD-4D8D-B0DB-A679ADA7ABFE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EA57-FD43-48D6-82D7-98886750BEB7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89C-66AA-417D-B953-99D3205D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1096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054680"/>
            <a:ext cx="1096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2147-9D80-47C8-9567-77E42F0F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0880" y="190512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05468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0880" y="405468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78DB-A70B-4940-B49B-1D4D2F8A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53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8560" y="1905120"/>
            <a:ext cx="353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7280" y="1905120"/>
            <a:ext cx="353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054680"/>
            <a:ext cx="353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8560" y="4054680"/>
            <a:ext cx="353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7280" y="4054680"/>
            <a:ext cx="353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2588-6532-48A1-BDD3-4418969A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67002-FD36-44B7-AB75-BAE0FD04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905120"/>
            <a:ext cx="1096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FA441-DAA9-4810-90D2-72DF079A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1096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451FE-C779-4F54-942C-D8EEF81A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35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0880" y="1905120"/>
            <a:ext cx="535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5DD66-980C-41D1-BAB6-D19E6873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58F8F-4BCF-4008-B3A5-6A250EEE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291960"/>
            <a:ext cx="1096992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44DE8-C229-426E-AABC-B4CCD3E2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0880" y="1905120"/>
            <a:ext cx="535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405468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18652-6821-4E26-8D47-53F4E6DF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905120"/>
            <a:ext cx="1096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B47-961A-4CE6-ACF1-4286BC14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35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0880" y="190512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30880" y="405468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2ADF8-3ED8-4F1E-A54B-D5F654ED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0880" y="190512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4054680"/>
            <a:ext cx="1096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C373E-6FED-417C-B5E6-D7396D17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1096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4054680"/>
            <a:ext cx="1096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F0400-C243-46D3-A238-E73A22AF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0880" y="190512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405468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30880" y="405468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8C12D-4092-4A69-ADF7-50560943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53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8560" y="1905120"/>
            <a:ext cx="353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27280" y="1905120"/>
            <a:ext cx="353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4054680"/>
            <a:ext cx="353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8560" y="4054680"/>
            <a:ext cx="353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27280" y="4054680"/>
            <a:ext cx="353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6F271-53A9-4741-B2F9-D08A4354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1096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927-203B-4326-AB15-FCC0C57D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35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0880" y="1905120"/>
            <a:ext cx="535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5F3-E634-444F-AF66-AB13A36E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C24-037C-423A-B17E-CFA43E14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91960"/>
            <a:ext cx="1096992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04B-FE72-45F7-9F31-A966F632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0880" y="1905120"/>
            <a:ext cx="535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05468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631-2A5C-4B25-8CC4-125B8374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35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0880" y="190512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0880" y="405468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6A36-B213-4720-A6AA-1609962B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0880" y="1905120"/>
            <a:ext cx="5353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054680"/>
            <a:ext cx="1096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FF84-9035-40F1-AE47-FECB7025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05120"/>
            <a:ext cx="1096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B8B2-1D31-41C1-84C7-936A251D5C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380880" y="2803680"/>
            <a:ext cx="180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91960"/>
            <a:ext cx="109699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905120"/>
            <a:ext cx="1096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4164120" y="624492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873612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A163-5850-40E9-9DD4-AA9D206841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609480" y="6244920"/>
            <a:ext cx="28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25360" y="1699920"/>
            <a:ext cx="626436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Разновозрастная группа детей со сложной структурой дефекта</a:t>
            </a:r>
            <a:br>
              <a:rPr sz="2200"/>
            </a:br>
            <a:br>
              <a:rPr sz="2200"/>
            </a:b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9 детей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_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5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списочная численность воспитанник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157720" y="4868640"/>
            <a:ext cx="664848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убцова Ольга Петровн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итатель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БДОУ «Детский сад комбинированного вид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№167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од Воронеж/Советский рай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022200" y="477360"/>
            <a:ext cx="63356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8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e83de"/>
                </a:solidFill>
                <a:latin typeface="Tahoma"/>
              </a:rPr>
              <a:t>2021-2022 учебный г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f4"/>
                </a:solidFill>
                <a:latin typeface="Tahom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9" descr="DSC_0372"/>
          <p:cNvPicPr/>
          <p:nvPr/>
        </p:nvPicPr>
        <p:blipFill>
          <a:blip r:embed="rId1"/>
          <a:stretch/>
        </p:blipFill>
        <p:spPr>
          <a:xfrm>
            <a:off x="222120" y="415800"/>
            <a:ext cx="3759480" cy="5639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I:\ФОТО М\IMG_0651.JPG"/>
          <p:cNvPicPr/>
          <p:nvPr/>
        </p:nvPicPr>
        <p:blipFill>
          <a:blip r:embed="rId2"/>
          <a:stretch/>
        </p:blipFill>
        <p:spPr>
          <a:xfrm>
            <a:off x="6670800" y="549360"/>
            <a:ext cx="4321080" cy="3311280"/>
          </a:xfrm>
          <a:prstGeom prst="rect">
            <a:avLst/>
          </a:prstGeom>
          <a:ln w="0">
            <a:noFill/>
          </a:ln>
        </p:spPr>
      </p:pic>
      <p:sp>
        <p:nvSpPr>
          <p:cNvPr id="141" name="Заголовок 2"/>
          <p:cNvSpPr/>
          <p:nvPr/>
        </p:nvSpPr>
        <p:spPr>
          <a:xfrm>
            <a:off x="4222800" y="4869000"/>
            <a:ext cx="6951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1.6 Центр безопасности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одержат в себе макет светофора, плакаты, правила движения, дорожные знаки, службы экстренной помощи, правила безопасности, правила поведения при пожаре, правила пожарной безопасности, а также различные дидактические игры и иллюстрации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Заголовок 2"/>
          <p:cNvSpPr/>
          <p:nvPr/>
        </p:nvSpPr>
        <p:spPr>
          <a:xfrm>
            <a:off x="477720" y="5157720"/>
            <a:ext cx="4060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af2d4"/>
                </a:solidFill>
                <a:latin typeface="Cambria"/>
              </a:rPr>
              <a:t>Рабочая зона для занятий с детьми представлена магнитной доской, фланелеграфом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f4"/>
                </a:solidFill>
                <a:latin typeface="Tahom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9" descr="DSC_0363"/>
          <p:cNvPicPr/>
          <p:nvPr/>
        </p:nvPicPr>
        <p:blipFill>
          <a:blip r:embed="rId1"/>
          <a:stretch/>
        </p:blipFill>
        <p:spPr>
          <a:xfrm>
            <a:off x="262080" y="1279440"/>
            <a:ext cx="4608360" cy="3073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рабочая зона"/>
          <p:cNvPicPr/>
          <p:nvPr/>
        </p:nvPicPr>
        <p:blipFill>
          <a:blip r:embed="rId2"/>
          <a:stretch/>
        </p:blipFill>
        <p:spPr>
          <a:xfrm>
            <a:off x="6094440" y="1268280"/>
            <a:ext cx="5391000" cy="3033720"/>
          </a:xfrm>
          <a:prstGeom prst="rect">
            <a:avLst/>
          </a:prstGeom>
          <a:ln w="0">
            <a:noFill/>
          </a:ln>
        </p:spPr>
      </p:pic>
      <p:sp>
        <p:nvSpPr>
          <p:cNvPr id="146" name="Заголовок 2"/>
          <p:cNvSpPr/>
          <p:nvPr/>
        </p:nvSpPr>
        <p:spPr>
          <a:xfrm>
            <a:off x="5518080" y="5013360"/>
            <a:ext cx="61214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2d4"/>
                </a:solidFill>
                <a:latin typeface="Cambria"/>
              </a:rPr>
              <a:t>Рабочая зо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2d4"/>
                </a:solidFill>
                <a:latin typeface="Cambria"/>
              </a:rPr>
              <a:t>Хранение методических пособий, раздаточного материала.(Стол воспитателя и шкаф с метод. пособиями расположены в спальне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1000" y="5876640"/>
            <a:ext cx="4537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ортивный уголок </a:t>
            </a:r>
            <a:br>
              <a:rPr sz="18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деляется в игровой зоне. Из предметов в общем доступе — мячи различных размеров, кегли, обручи, скакалки, кольцеброс, ступеньки, горка и друго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ahom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Прямоугольник 1"/>
          <p:cNvSpPr/>
          <p:nvPr/>
        </p:nvSpPr>
        <p:spPr>
          <a:xfrm>
            <a:off x="6886440" y="836640"/>
            <a:ext cx="432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тр двигательной активности включает оборудование и атрибуты для организации подвижных игр, для организации самостоятельной двигательной деятельности воспитанников. Содержание активного сектора соответствует интересам мальчиков и девочек, периодически изменяется, варьируется, постоянно обогащает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6" descr="DSC_0373"/>
          <p:cNvPicPr/>
          <p:nvPr/>
        </p:nvPicPr>
        <p:blipFill>
          <a:blip r:embed="rId1"/>
          <a:stretch/>
        </p:blipFill>
        <p:spPr>
          <a:xfrm>
            <a:off x="693720" y="836640"/>
            <a:ext cx="5727600" cy="3819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горка"/>
          <p:cNvPicPr/>
          <p:nvPr/>
        </p:nvPicPr>
        <p:blipFill>
          <a:blip r:embed="rId2"/>
          <a:stretch/>
        </p:blipFill>
        <p:spPr>
          <a:xfrm>
            <a:off x="6599160" y="4005360"/>
            <a:ext cx="4608720" cy="2593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Заголовок 2"/>
          <p:cNvSpPr/>
          <p:nvPr/>
        </p:nvSpPr>
        <p:spPr>
          <a:xfrm>
            <a:off x="3933720" y="260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ahom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Заголовок 2"/>
          <p:cNvSpPr/>
          <p:nvPr/>
        </p:nvSpPr>
        <p:spPr>
          <a:xfrm>
            <a:off x="0" y="4653000"/>
            <a:ext cx="110887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700" spc="-1" strike="noStrike">
                <a:solidFill>
                  <a:srgbClr val="ffffff"/>
                </a:solidFill>
                <a:latin typeface="Tahoma"/>
              </a:rPr>
              <a:t>театральном уголке</a:t>
            </a: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размещаются ширма, маски сказочных персонажей, 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различные виды театра - кукольный, пальчиковый, настольный, 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теневой, би-ба-бо. 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Рядом расположен </a:t>
            </a:r>
            <a:r>
              <a:rPr b="1" lang="ru-RU" sz="700" spc="-1" strike="noStrike">
                <a:solidFill>
                  <a:srgbClr val="ffffff"/>
                </a:solidFill>
                <a:latin typeface="Tahoma"/>
              </a:rPr>
              <a:t>уголок Ряжения.</a:t>
            </a: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Мы вместе с воспитанниками готовим костюмы, атрибуты и декорации к маленьким представлениям. Дети – большие артисты, поэтому с радостью участвуют в постановках и с удовольствием выступают в роли зрителей.</a:t>
            </a: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7" descr="DSC_0343"/>
          <p:cNvPicPr/>
          <p:nvPr/>
        </p:nvPicPr>
        <p:blipFill>
          <a:blip r:embed="rId1"/>
          <a:stretch/>
        </p:blipFill>
        <p:spPr>
          <a:xfrm>
            <a:off x="117360" y="836640"/>
            <a:ext cx="6035760" cy="37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театр2"/>
          <p:cNvPicPr/>
          <p:nvPr/>
        </p:nvPicPr>
        <p:blipFill>
          <a:blip r:embed="rId2"/>
          <a:stretch/>
        </p:blipFill>
        <p:spPr>
          <a:xfrm>
            <a:off x="7246800" y="2997360"/>
            <a:ext cx="4550040" cy="2560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театр4"/>
          <p:cNvPicPr/>
          <p:nvPr/>
        </p:nvPicPr>
        <p:blipFill>
          <a:blip r:embed="rId3"/>
          <a:stretch/>
        </p:blipFill>
        <p:spPr>
          <a:xfrm>
            <a:off x="7246800" y="692280"/>
            <a:ext cx="455292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4868640"/>
            <a:ext cx="40068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голок музыки и звук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десь есть гармошка, барабаны, бубны, маракасы, ложки, дудочки, диски с записями музыкальных произведений, игры и др. Музыкальные занятия способствуют разностороннему развитию детей: совершенствуются слуховое восприятие и навык устной речи, пополняется словарный запас. Атмосфера и содержание уголка побуждают воспитанников к самостоятельному изучению музыкальных инструментов, проявлению творческих способностей в танце, пении, сочинении мелод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ahom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DSC_0344"/>
          <p:cNvPicPr/>
          <p:nvPr/>
        </p:nvPicPr>
        <p:blipFill>
          <a:blip r:embed="rId1"/>
          <a:stretch/>
        </p:blipFill>
        <p:spPr>
          <a:xfrm>
            <a:off x="4006800" y="620640"/>
            <a:ext cx="3759120" cy="5639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муз2"/>
          <p:cNvPicPr/>
          <p:nvPr/>
        </p:nvPicPr>
        <p:blipFill>
          <a:blip r:embed="rId2"/>
          <a:stretch/>
        </p:blipFill>
        <p:spPr>
          <a:xfrm>
            <a:off x="7894800" y="549360"/>
            <a:ext cx="3974760" cy="2981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муз"/>
          <p:cNvPicPr/>
          <p:nvPr/>
        </p:nvPicPr>
        <p:blipFill>
          <a:blip r:embed="rId3"/>
          <a:stretch/>
        </p:blipFill>
        <p:spPr>
          <a:xfrm>
            <a:off x="7894800" y="3573360"/>
            <a:ext cx="3974760" cy="2651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589720" y="4149360"/>
            <a:ext cx="467352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группе есть зона для мальчиков. В уголке стоят машинки разных направлений, форм и размеров. Так же уголок используется как ПД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ahom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7" descr="DSC_0334"/>
          <p:cNvPicPr/>
          <p:nvPr/>
        </p:nvPicPr>
        <p:blipFill>
          <a:blip r:embed="rId1"/>
          <a:stretch/>
        </p:blipFill>
        <p:spPr>
          <a:xfrm>
            <a:off x="909720" y="549360"/>
            <a:ext cx="3759120" cy="5638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для мальчиков"/>
          <p:cNvPicPr/>
          <p:nvPr/>
        </p:nvPicPr>
        <p:blipFill>
          <a:blip r:embed="rId2"/>
          <a:stretch/>
        </p:blipFill>
        <p:spPr>
          <a:xfrm>
            <a:off x="5518080" y="620640"/>
            <a:ext cx="5129280" cy="2886120"/>
          </a:xfrm>
          <a:prstGeom prst="rect">
            <a:avLst/>
          </a:prstGeom>
          <a:ln w="0">
            <a:noFill/>
          </a:ln>
        </p:spPr>
      </p:pic>
      <p:sp>
        <p:nvSpPr>
          <p:cNvPr id="166" name="Заголовок 2"/>
          <p:cNvSpPr/>
          <p:nvPr/>
        </p:nvSpPr>
        <p:spPr>
          <a:xfrm>
            <a:off x="5518080" y="5661000"/>
            <a:ext cx="46735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десь же лежат атрибуты для сюжетно – ролевых игр по ПДД и «Полиция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34080" y="5300640"/>
            <a:ext cx="489744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зоне для девочек размещены куклы, кукольная посуда, коляска, детская кухня и др. Девочки играют в сюжетно – ролевые игры «Семья», «Кухня», «Кафе». Здесь же расположены атрибуты для сюжетных игр «Почта», «Ателье», «Магазин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ahom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7" descr="DSC_0336"/>
          <p:cNvPicPr/>
          <p:nvPr/>
        </p:nvPicPr>
        <p:blipFill>
          <a:blip r:embed="rId1"/>
          <a:stretch/>
        </p:blipFill>
        <p:spPr>
          <a:xfrm>
            <a:off x="1270080" y="476280"/>
            <a:ext cx="3759120" cy="5638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комната"/>
          <p:cNvPicPr/>
          <p:nvPr/>
        </p:nvPicPr>
        <p:blipFill>
          <a:blip r:embed="rId2"/>
          <a:stretch/>
        </p:blipFill>
        <p:spPr>
          <a:xfrm>
            <a:off x="5518080" y="836640"/>
            <a:ext cx="5319720" cy="299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5157720"/>
            <a:ext cx="467352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южетно – ролевая игра «Парикмахерская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031160" y="5300640"/>
            <a:ext cx="312408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южетно – ролевая игра «Доктор», «Поликлиник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ahom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7" descr="DSC_0360"/>
          <p:cNvPicPr/>
          <p:nvPr/>
        </p:nvPicPr>
        <p:blipFill>
          <a:blip r:embed="rId1"/>
          <a:stretch/>
        </p:blipFill>
        <p:spPr>
          <a:xfrm>
            <a:off x="262080" y="1341360"/>
            <a:ext cx="5111640" cy="327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доктор"/>
          <p:cNvPicPr/>
          <p:nvPr/>
        </p:nvPicPr>
        <p:blipFill>
          <a:blip r:embed="rId2"/>
          <a:stretch/>
        </p:blipFill>
        <p:spPr>
          <a:xfrm>
            <a:off x="5950080" y="1341360"/>
            <a:ext cx="5319720" cy="3208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57360" y="5805360"/>
            <a:ext cx="914400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Центр конструирования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пособствует развитию детского творчества, конструкторских способностей. Центр может быть достаточно мобилен. Практичность его состоит в том, что любой конструктор легко перемещаются в любое место. Содержимое строительного уголка (конструкторы разного вида, кубики, крупный и мелкий деревянный строительный материал, схемы и чертежи построек) позволяет организовать конструктивную деятельность с большой группой воспитанников, подгруппой и индивидуально, развернуть строительство на ковре либо на стол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ahom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7" descr="конструирование"/>
          <p:cNvPicPr/>
          <p:nvPr/>
        </p:nvPicPr>
        <p:blipFill>
          <a:blip r:embed="rId1"/>
          <a:stretch/>
        </p:blipFill>
        <p:spPr>
          <a:xfrm>
            <a:off x="4365720" y="765000"/>
            <a:ext cx="3978360" cy="2238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IMG_20181126_175050"/>
          <p:cNvPicPr/>
          <p:nvPr/>
        </p:nvPicPr>
        <p:blipFill>
          <a:blip r:embed="rId2"/>
          <a:stretch/>
        </p:blipFill>
        <p:spPr>
          <a:xfrm>
            <a:off x="8255160" y="620640"/>
            <a:ext cx="3616200" cy="2033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IMG_20181126_175105"/>
          <p:cNvPicPr/>
          <p:nvPr/>
        </p:nvPicPr>
        <p:blipFill>
          <a:blip r:embed="rId3"/>
          <a:stretch/>
        </p:blipFill>
        <p:spPr>
          <a:xfrm>
            <a:off x="8255160" y="2565360"/>
            <a:ext cx="3616200" cy="2033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DSC_0348"/>
          <p:cNvPicPr/>
          <p:nvPr/>
        </p:nvPicPr>
        <p:blipFill>
          <a:blip r:embed="rId4"/>
          <a:stretch/>
        </p:blipFill>
        <p:spPr>
          <a:xfrm>
            <a:off x="0" y="981000"/>
            <a:ext cx="46814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3. СПОКОЙ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Текст 3"/>
          <p:cNvSpPr/>
          <p:nvPr/>
        </p:nvSpPr>
        <p:spPr>
          <a:xfrm>
            <a:off x="1846440" y="5084640"/>
            <a:ext cx="806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шумном пространстве игровой комнаты есть островок тишины и спокойствия - уголок уединения, который располагает к созерцательному наблюдению, мечтам и тихим беседам. Ребенок чувствует себя здесь спокойно и уютно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единиться можно в домике или на мягком диванчик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9" descr="DSC_0349"/>
          <p:cNvPicPr/>
          <p:nvPr/>
        </p:nvPicPr>
        <p:blipFill>
          <a:blip r:embed="rId1"/>
          <a:stretch/>
        </p:blipFill>
        <p:spPr>
          <a:xfrm>
            <a:off x="549360" y="1484280"/>
            <a:ext cx="4752720" cy="3143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домик"/>
          <p:cNvPicPr/>
          <p:nvPr/>
        </p:nvPicPr>
        <p:blipFill>
          <a:blip r:embed="rId2"/>
          <a:stretch/>
        </p:blipFill>
        <p:spPr>
          <a:xfrm>
            <a:off x="6238800" y="1484280"/>
            <a:ext cx="4824360" cy="315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2920" y="6237000"/>
            <a:ext cx="3962520" cy="39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ход в группу, нижняя левая точ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22440" y="6237360"/>
            <a:ext cx="38163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ход в группу, правая точ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Заголовок 2"/>
          <p:cNvSpPr/>
          <p:nvPr/>
        </p:nvSpPr>
        <p:spPr>
          <a:xfrm>
            <a:off x="122400" y="2981160"/>
            <a:ext cx="35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хняя левая точ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Текст 3"/>
          <p:cNvSpPr/>
          <p:nvPr/>
        </p:nvSpPr>
        <p:spPr>
          <a:xfrm>
            <a:off x="4438800" y="2997360"/>
            <a:ext cx="31226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хняя правая точ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Текст 3"/>
          <p:cNvSpPr/>
          <p:nvPr/>
        </p:nvSpPr>
        <p:spPr>
          <a:xfrm>
            <a:off x="8470800" y="476280"/>
            <a:ext cx="371808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рупповое помещ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МБДОУ «Детский сад комбинированного вида № 167» ходят дети со сложной структурой дефек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создании развивающей предметной среды в инклюзивной группе с одной стороны необходимо сохранение общепедагогических требований, а с другой важно учитывать особенности детей с проблемами в развитии: структуру дефекта, степень его выраженности, характер и особенности психофизического развит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группе я попыталась создать уютную естественную обстановку, где много развивающих зон и уголков, каждый несет свои цели и задач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141120" y="328680"/>
            <a:ext cx="4172040" cy="27781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"/>
          <p:cNvPicPr/>
          <p:nvPr/>
        </p:nvPicPr>
        <p:blipFill>
          <a:blip r:embed="rId2"/>
          <a:stretch/>
        </p:blipFill>
        <p:spPr>
          <a:xfrm>
            <a:off x="4387680" y="328680"/>
            <a:ext cx="4051440" cy="27734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"/>
          <p:cNvPicPr/>
          <p:nvPr/>
        </p:nvPicPr>
        <p:blipFill>
          <a:blip r:embed="rId3"/>
          <a:stretch/>
        </p:blipFill>
        <p:spPr>
          <a:xfrm>
            <a:off x="264960" y="3573360"/>
            <a:ext cx="4048200" cy="26971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"/>
          <p:cNvPicPr/>
          <p:nvPr/>
        </p:nvPicPr>
        <p:blipFill>
          <a:blip r:embed="rId4"/>
          <a:stretch/>
        </p:blipFill>
        <p:spPr>
          <a:xfrm>
            <a:off x="4346640" y="3573360"/>
            <a:ext cx="4051080" cy="269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3. СПОКОЙ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Прямоугольник 5"/>
          <p:cNvSpPr/>
          <p:nvPr/>
        </p:nvSpPr>
        <p:spPr>
          <a:xfrm>
            <a:off x="4222800" y="549360"/>
            <a:ext cx="64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нижный уголо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созданный в нашей группе является ступенью в мероприятиях для детей и родителей по приобщению к художественному чтению, формированию запаса литературных, художественных впечатлений, развитию литературной речи. Здесь собраны книги на различную тематику, портреты детских писателей, поэт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8" descr="DSC_0342"/>
          <p:cNvPicPr/>
          <p:nvPr/>
        </p:nvPicPr>
        <p:blipFill>
          <a:blip r:embed="rId1"/>
          <a:stretch/>
        </p:blipFill>
        <p:spPr>
          <a:xfrm>
            <a:off x="333360" y="620640"/>
            <a:ext cx="3759120" cy="5639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настольные игры"/>
          <p:cNvPicPr/>
          <p:nvPr/>
        </p:nvPicPr>
        <p:blipFill>
          <a:blip r:embed="rId2"/>
          <a:stretch/>
        </p:blipFill>
        <p:spPr>
          <a:xfrm>
            <a:off x="5230800" y="3284640"/>
            <a:ext cx="5472000" cy="3168720"/>
          </a:xfrm>
          <a:prstGeom prst="rect">
            <a:avLst/>
          </a:prstGeom>
          <a:ln w="0">
            <a:noFill/>
          </a:ln>
        </p:spPr>
      </p:pic>
      <p:sp>
        <p:nvSpPr>
          <p:cNvPr id="190" name="Заголовок 2"/>
          <p:cNvSpPr/>
          <p:nvPr/>
        </p:nvSpPr>
        <p:spPr>
          <a:xfrm>
            <a:off x="6022800" y="2781360"/>
            <a:ext cx="396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Настольные иг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3. СПОКОЙНЫ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Прямоугольник 5"/>
          <p:cNvSpPr/>
          <p:nvPr/>
        </p:nvSpPr>
        <p:spPr>
          <a:xfrm>
            <a:off x="8615520" y="907920"/>
            <a:ext cx="3359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тр «Продуктивная деятельность» стимулирует детей к реализации творческих способностей, способствует формированию эстетического восприятия, воображения, художественно-творческих способностей, самостоятельности, активности. В центре «художественного творчества» краски, кисточки, баночки для воды, бумага и другие материалы находятся в доступных для воспитанников местах. Обязательно организуется выставка детских рабо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9" descr="DSC_0351"/>
          <p:cNvPicPr/>
          <p:nvPr/>
        </p:nvPicPr>
        <p:blipFill>
          <a:blip r:embed="rId1"/>
          <a:stretch/>
        </p:blipFill>
        <p:spPr>
          <a:xfrm>
            <a:off x="222120" y="415800"/>
            <a:ext cx="3759480" cy="5639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DSC_0396"/>
          <p:cNvPicPr/>
          <p:nvPr/>
        </p:nvPicPr>
        <p:blipFill>
          <a:blip r:embed="rId2"/>
          <a:stretch/>
        </p:blipFill>
        <p:spPr>
          <a:xfrm>
            <a:off x="4208400" y="1909800"/>
            <a:ext cx="3976920" cy="2651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Заголовок 2"/>
          <p:cNvSpPr/>
          <p:nvPr/>
        </p:nvSpPr>
        <p:spPr>
          <a:xfrm>
            <a:off x="3933720" y="44280"/>
            <a:ext cx="406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ahoma"/>
              </a:rPr>
              <a:t>2. Демонстрация практики трансформации сред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Заголовок 2"/>
          <p:cNvSpPr/>
          <p:nvPr/>
        </p:nvSpPr>
        <p:spPr>
          <a:xfrm>
            <a:off x="2278080" y="5445000"/>
            <a:ext cx="67690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Домик, машина, горка – мобильны и устанавливаются в любом уголке группы. А так же их можно разобрать и сложить освобождая пространств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7" descr="горка"/>
          <p:cNvPicPr/>
          <p:nvPr/>
        </p:nvPicPr>
        <p:blipFill>
          <a:blip r:embed="rId1"/>
          <a:stretch/>
        </p:blipFill>
        <p:spPr>
          <a:xfrm>
            <a:off x="333360" y="1654200"/>
            <a:ext cx="5702400" cy="3208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IMG_20181228_093222"/>
          <p:cNvPicPr/>
          <p:nvPr/>
        </p:nvPicPr>
        <p:blipFill>
          <a:blip r:embed="rId2"/>
          <a:stretch/>
        </p:blipFill>
        <p:spPr>
          <a:xfrm>
            <a:off x="7031160" y="1700280"/>
            <a:ext cx="4751280" cy="3168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для мальчиков"/>
          <p:cNvPicPr/>
          <p:nvPr/>
        </p:nvPicPr>
        <p:blipFill>
          <a:blip r:embed="rId3"/>
          <a:stretch/>
        </p:blipFill>
        <p:spPr>
          <a:xfrm>
            <a:off x="3718080" y="907920"/>
            <a:ext cx="504180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Заголовок 2"/>
          <p:cNvSpPr/>
          <p:nvPr/>
        </p:nvSpPr>
        <p:spPr>
          <a:xfrm>
            <a:off x="3933720" y="44280"/>
            <a:ext cx="406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ahoma"/>
              </a:rPr>
              <a:t>2. Демонстрация практики трансформации сред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Заголовок 2"/>
          <p:cNvSpPr/>
          <p:nvPr/>
        </p:nvSpPr>
        <p:spPr>
          <a:xfrm>
            <a:off x="6211800" y="5931000"/>
            <a:ext cx="54770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Многофункциональный стол используется для дидактических игр «Кто где живет?», игр ПДД, для настольного театр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Заголовок 2"/>
          <p:cNvSpPr/>
          <p:nvPr/>
        </p:nvSpPr>
        <p:spPr>
          <a:xfrm>
            <a:off x="538200" y="5940360"/>
            <a:ext cx="50403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Домик используется детьми как уголок для уединения, так и для игры в «Дочки – матер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5" descr="домик"/>
          <p:cNvPicPr/>
          <p:nvPr/>
        </p:nvPicPr>
        <p:blipFill>
          <a:blip r:embed="rId1"/>
          <a:stretch/>
        </p:blipFill>
        <p:spPr>
          <a:xfrm>
            <a:off x="333360" y="1654200"/>
            <a:ext cx="5702400" cy="3208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природы"/>
          <p:cNvPicPr/>
          <p:nvPr/>
        </p:nvPicPr>
        <p:blipFill>
          <a:blip r:embed="rId2"/>
          <a:stretch/>
        </p:blipFill>
        <p:spPr>
          <a:xfrm>
            <a:off x="6211800" y="1693800"/>
            <a:ext cx="571500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Заголовок 2"/>
          <p:cNvSpPr/>
          <p:nvPr/>
        </p:nvSpPr>
        <p:spPr>
          <a:xfrm>
            <a:off x="7031160" y="5229360"/>
            <a:ext cx="4108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Приёмная используется, как информационный, консультативный центр для родителей, где они могут ознакомиться с организацией педагогического процесса в ДОУ, результатами продуктивной деятельности детей, меню и т.д. Такая среда обеспечивает максимальную реализацию образовательного потенциала группы, способствует развитию у детей навыков сотрудничества в совместной деятельности как со сверстниками, так и со взрослыми, обеспечивает своевременную смену деятельности и является условием сохранения и укрепления психического и физического здоровья каждого ребенка в группе.</a:t>
            </a: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Заголовок 2"/>
          <p:cNvSpPr/>
          <p:nvPr/>
        </p:nvSpPr>
        <p:spPr>
          <a:xfrm>
            <a:off x="3502080" y="44280"/>
            <a:ext cx="58323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Cambria"/>
              </a:rPr>
              <a:t>4. </a:t>
            </a:r>
            <a:r>
              <a:rPr b="1" lang="ru-RU" sz="1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Организация среды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9" descr="DSC_0375"/>
          <p:cNvPicPr/>
          <p:nvPr/>
        </p:nvPicPr>
        <p:blipFill>
          <a:blip r:embed="rId1"/>
          <a:stretch/>
        </p:blipFill>
        <p:spPr>
          <a:xfrm>
            <a:off x="1414440" y="514440"/>
            <a:ext cx="4680000" cy="3119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DSC_0382"/>
          <p:cNvPicPr/>
          <p:nvPr/>
        </p:nvPicPr>
        <p:blipFill>
          <a:blip r:embed="rId2"/>
          <a:stretch/>
        </p:blipFill>
        <p:spPr>
          <a:xfrm>
            <a:off x="1414440" y="3657600"/>
            <a:ext cx="4680000" cy="311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Заголовок 2"/>
          <p:cNvSpPr/>
          <p:nvPr/>
        </p:nvSpPr>
        <p:spPr>
          <a:xfrm>
            <a:off x="-88920" y="6031080"/>
            <a:ext cx="4060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4.1. Среда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( информационный  центр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Заголовок 2"/>
          <p:cNvSpPr/>
          <p:nvPr/>
        </p:nvSpPr>
        <p:spPr>
          <a:xfrm>
            <a:off x="8085240" y="5969160"/>
            <a:ext cx="4108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4.3. Среда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(практический центр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Заголовок 2"/>
          <p:cNvSpPr/>
          <p:nvPr/>
        </p:nvSpPr>
        <p:spPr>
          <a:xfrm>
            <a:off x="4164120" y="5867280"/>
            <a:ext cx="41655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4.2. Среда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(консультационный  центр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Заголовок 2"/>
          <p:cNvSpPr/>
          <p:nvPr/>
        </p:nvSpPr>
        <p:spPr>
          <a:xfrm>
            <a:off x="3502080" y="44280"/>
            <a:ext cx="58323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Cambria"/>
              </a:rPr>
              <a:t>4. </a:t>
            </a:r>
            <a:r>
              <a:rPr b="1" lang="ru-RU" sz="1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Организация среды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9" descr="DSC_0389"/>
          <p:cNvPicPr/>
          <p:nvPr/>
        </p:nvPicPr>
        <p:blipFill>
          <a:blip r:embed="rId1"/>
          <a:stretch/>
        </p:blipFill>
        <p:spPr>
          <a:xfrm>
            <a:off x="262080" y="476280"/>
            <a:ext cx="3978000" cy="2652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DSC_0385"/>
          <p:cNvPicPr/>
          <p:nvPr/>
        </p:nvPicPr>
        <p:blipFill>
          <a:blip r:embed="rId2"/>
          <a:stretch/>
        </p:blipFill>
        <p:spPr>
          <a:xfrm>
            <a:off x="190440" y="3141720"/>
            <a:ext cx="3978360" cy="2652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2" descr="DSC_0397"/>
          <p:cNvPicPr/>
          <p:nvPr/>
        </p:nvPicPr>
        <p:blipFill>
          <a:blip r:embed="rId3"/>
          <a:stretch/>
        </p:blipFill>
        <p:spPr>
          <a:xfrm>
            <a:off x="4257720" y="399960"/>
            <a:ext cx="3759120" cy="5639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DSC_0395"/>
          <p:cNvPicPr/>
          <p:nvPr/>
        </p:nvPicPr>
        <p:blipFill>
          <a:blip r:embed="rId4"/>
          <a:stretch/>
        </p:blipFill>
        <p:spPr>
          <a:xfrm>
            <a:off x="8039160" y="476280"/>
            <a:ext cx="3978360" cy="2652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5" descr="DSC_0387"/>
          <p:cNvPicPr/>
          <p:nvPr/>
        </p:nvPicPr>
        <p:blipFill>
          <a:blip r:embed="rId5"/>
          <a:stretch/>
        </p:blipFill>
        <p:spPr>
          <a:xfrm>
            <a:off x="8039160" y="3141720"/>
            <a:ext cx="3978360" cy="2652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5805360"/>
            <a:ext cx="4608720" cy="39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д из центра группы на  вход в помещ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26080" y="5589360"/>
            <a:ext cx="4462560" cy="6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д из центра группы в противоположном входу направл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Заголовок 2"/>
          <p:cNvSpPr/>
          <p:nvPr/>
        </p:nvSpPr>
        <p:spPr>
          <a:xfrm flipV="1">
            <a:off x="122400" y="3375000"/>
            <a:ext cx="355104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Текст 3"/>
          <p:cNvSpPr/>
          <p:nvPr/>
        </p:nvSpPr>
        <p:spPr>
          <a:xfrm>
            <a:off x="3357720" y="333360"/>
            <a:ext cx="532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упповое помещ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8" descr="DSC_0329"/>
          <p:cNvPicPr/>
          <p:nvPr/>
        </p:nvPicPr>
        <p:blipFill>
          <a:blip r:embed="rId1"/>
          <a:stretch/>
        </p:blipFill>
        <p:spPr>
          <a:xfrm>
            <a:off x="406440" y="1557360"/>
            <a:ext cx="5543640" cy="3695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DSC_0328"/>
          <p:cNvPicPr/>
          <p:nvPr/>
        </p:nvPicPr>
        <p:blipFill>
          <a:blip r:embed="rId2"/>
          <a:stretch/>
        </p:blipFill>
        <p:spPr>
          <a:xfrm>
            <a:off x="6238800" y="1557360"/>
            <a:ext cx="5329440" cy="3697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22800" y="1052280"/>
            <a:ext cx="5446800" cy="41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 algn="ctr">
              <a:buClr>
                <a:srgbClr val="00cc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cc66"/>
                </a:solidFill>
                <a:latin typeface="Tahoma"/>
              </a:rPr>
              <a:t>Рабочий сектор </a:t>
            </a:r>
            <a:br>
              <a:rPr sz="2200"/>
            </a:br>
            <a:br>
              <a:rPr sz="1600"/>
            </a:br>
            <a:br>
              <a:rPr sz="1600"/>
            </a:br>
            <a:br>
              <a:rPr sz="2700"/>
            </a:br>
            <a:r>
              <a:rPr b="0" lang="ru-RU" sz="2700" spc="-1" strike="noStrike">
                <a:solidFill>
                  <a:srgbClr val="00cc66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звивающая предметная среда имеет свою специфику и обеспечивает условия для полноценного развития всех видов детской деятельности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дметная среда организуется так, чтобы стимулировать восприятие детей, способствовать развитию анализаторов, «подсказывать» способы обследования действий, активизировать речевую деятельность дет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DSC_0327"/>
          <p:cNvPicPr/>
          <p:nvPr/>
        </p:nvPicPr>
        <p:blipFill>
          <a:blip r:embed="rId1"/>
          <a:stretch/>
        </p:blipFill>
        <p:spPr>
          <a:xfrm>
            <a:off x="622440" y="1197000"/>
            <a:ext cx="539892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Заголовок 2"/>
          <p:cNvSpPr/>
          <p:nvPr/>
        </p:nvSpPr>
        <p:spPr>
          <a:xfrm>
            <a:off x="333360" y="5157720"/>
            <a:ext cx="79930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блемам природы, желание и стремление разрешить некоторые из экологических пробле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ными ребенку – дошкольнику средствами.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центре имеется оборудование  для ухода за растениями, природный и бросовый материал, имеются книги, игры, игрушки связанные с природой, календарь природы, дневник наблюдени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f4"/>
                </a:solidFill>
                <a:latin typeface="Tahom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11" descr="DSC_0369"/>
          <p:cNvPicPr/>
          <p:nvPr/>
        </p:nvPicPr>
        <p:blipFill>
          <a:blip r:embed="rId1"/>
          <a:stretch/>
        </p:blipFill>
        <p:spPr>
          <a:xfrm>
            <a:off x="117360" y="1197000"/>
            <a:ext cx="5040360" cy="335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DSC_0354"/>
          <p:cNvPicPr/>
          <p:nvPr/>
        </p:nvPicPr>
        <p:blipFill>
          <a:blip r:embed="rId2"/>
          <a:stretch/>
        </p:blipFill>
        <p:spPr>
          <a:xfrm>
            <a:off x="8319960" y="482760"/>
            <a:ext cx="3759480" cy="56386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2278080" y="260280"/>
            <a:ext cx="5616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1 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Модуль Экологическое воспит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Заголовок 2"/>
          <p:cNvSpPr/>
          <p:nvPr/>
        </p:nvSpPr>
        <p:spPr>
          <a:xfrm>
            <a:off x="5157720" y="1700280"/>
            <a:ext cx="3168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Центр живой и неживой природ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ужит не только украшением группы, но и местом для саморазвития дошкольников. У детей формируются предпосылки экологического сознания, развивается экологическая культура, познавательный интерес к экологии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Заголовок 2"/>
          <p:cNvSpPr/>
          <p:nvPr/>
        </p:nvSpPr>
        <p:spPr>
          <a:xfrm>
            <a:off x="622440" y="5877000"/>
            <a:ext cx="10872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В центре экспериментирования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дети могут проводить опыты и эксперименты с природными и другими материалами, играть с песком, водой, красками. Здесь находятся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лупы, мензурки, колбы, мерные стаканчики, пипетки, магниты, лейки, весы, бросовый материал, коллекция камней, коллекция ракушек. Все материалы  располагаются в контейнерах.  Набор для экспериментирования с водой (плавающие и тонущие игрушки и предметы). Набор для экспериментирования с песком (формочки, совочки, грабельки, мелкие игрушки  для игрового сюжета)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f4"/>
                </a:solidFill>
                <a:latin typeface="Tahom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9" descr="DSC_0357"/>
          <p:cNvPicPr/>
          <p:nvPr/>
        </p:nvPicPr>
        <p:blipFill>
          <a:blip r:embed="rId1"/>
          <a:stretch/>
        </p:blipFill>
        <p:spPr>
          <a:xfrm>
            <a:off x="549360" y="812880"/>
            <a:ext cx="5040360" cy="336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эксперементирование4"/>
          <p:cNvPicPr/>
          <p:nvPr/>
        </p:nvPicPr>
        <p:blipFill>
          <a:blip r:embed="rId2"/>
          <a:stretch/>
        </p:blipFill>
        <p:spPr>
          <a:xfrm>
            <a:off x="6526080" y="824040"/>
            <a:ext cx="4897440" cy="332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Заголовок 2"/>
          <p:cNvSpPr/>
          <p:nvPr/>
        </p:nvSpPr>
        <p:spPr>
          <a:xfrm>
            <a:off x="3933720" y="2276640"/>
            <a:ext cx="417672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десь собраны игры и пособия для формирования правильной речи, размещены предметы и пособия для развития речевого дыхания, игры с буквами и словами, Азбука и проче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f4"/>
                </a:solidFill>
                <a:latin typeface="Tahom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Заголовок 2"/>
          <p:cNvSpPr/>
          <p:nvPr/>
        </p:nvSpPr>
        <p:spPr>
          <a:xfrm>
            <a:off x="4149720" y="1341360"/>
            <a:ext cx="3673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1.2 Модул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своение родного языка и литератур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10" descr="DSC_0338"/>
          <p:cNvPicPr/>
          <p:nvPr/>
        </p:nvPicPr>
        <p:blipFill>
          <a:blip r:embed="rId1"/>
          <a:stretch/>
        </p:blipFill>
        <p:spPr>
          <a:xfrm>
            <a:off x="222120" y="415800"/>
            <a:ext cx="3759480" cy="563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DSC_0339"/>
          <p:cNvPicPr/>
          <p:nvPr/>
        </p:nvPicPr>
        <p:blipFill>
          <a:blip r:embed="rId2"/>
          <a:stretch/>
        </p:blipFill>
        <p:spPr>
          <a:xfrm>
            <a:off x="8110440" y="404640"/>
            <a:ext cx="3759120" cy="5639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развитие речи"/>
          <p:cNvPicPr/>
          <p:nvPr/>
        </p:nvPicPr>
        <p:blipFill>
          <a:blip r:embed="rId3"/>
          <a:stretch/>
        </p:blipFill>
        <p:spPr>
          <a:xfrm>
            <a:off x="4006800" y="4221000"/>
            <a:ext cx="4032360" cy="216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f4"/>
                </a:solidFill>
                <a:latin typeface="Tahom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Заголовок 2"/>
          <p:cNvSpPr/>
          <p:nvPr/>
        </p:nvSpPr>
        <p:spPr>
          <a:xfrm>
            <a:off x="981000" y="5084640"/>
            <a:ext cx="95061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1.3 Модуль Математическое развитие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Центр математики - это специально отведенное, тематически оснащенное играми, пособиями и материалами место. Детям предоставляется возможность в свободное от занятий время выбрать интересующую их игру, пособие математического содержания и играть индивидуально или совместно с другими детьми. Здесь собраны цифры, геометрические фигуры, игры Воскобовича, палочки Кюизенера и др.</a:t>
            </a:r>
            <a:r>
              <a:rPr b="0" lang="ru-RU" sz="1700" spc="-1" strike="noStrike">
                <a:solidFill>
                  <a:srgbClr val="92d050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10" descr="DSC_0365"/>
          <p:cNvPicPr/>
          <p:nvPr/>
        </p:nvPicPr>
        <p:blipFill>
          <a:blip r:embed="rId1"/>
          <a:stretch/>
        </p:blipFill>
        <p:spPr>
          <a:xfrm>
            <a:off x="0" y="981000"/>
            <a:ext cx="5405400" cy="3603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математический уголок"/>
          <p:cNvPicPr/>
          <p:nvPr/>
        </p:nvPicPr>
        <p:blipFill>
          <a:blip r:embed="rId2"/>
          <a:stretch/>
        </p:blipFill>
        <p:spPr>
          <a:xfrm>
            <a:off x="5518080" y="476280"/>
            <a:ext cx="4824360" cy="27147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" descr=""/>
          <p:cNvPicPr/>
          <p:nvPr/>
        </p:nvPicPr>
        <p:blipFill>
          <a:blip r:embed="rId3"/>
          <a:stretch/>
        </p:blipFill>
        <p:spPr>
          <a:xfrm>
            <a:off x="8326440" y="2351160"/>
            <a:ext cx="3862440" cy="2676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Заголовок 2"/>
          <p:cNvSpPr/>
          <p:nvPr/>
        </p:nvSpPr>
        <p:spPr>
          <a:xfrm>
            <a:off x="0" y="476280"/>
            <a:ext cx="4060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4 Модуль сенсорного разви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1f4"/>
                </a:solidFill>
                <a:latin typeface="Tahom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Заголовок 2"/>
          <p:cNvSpPr/>
          <p:nvPr/>
        </p:nvSpPr>
        <p:spPr>
          <a:xfrm>
            <a:off x="0" y="4869000"/>
            <a:ext cx="756144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обходим для стимуляции сенсорных функций (зрение, осязание, слух, обоняние и т. д.); развития мелкой моторики, стимуляции двигательной активности.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этого имеются разнообразные виды мозаик, лото различные по форме, цвету и материалу, пирамидки и т.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10" descr="DSC_0358"/>
          <p:cNvPicPr/>
          <p:nvPr/>
        </p:nvPicPr>
        <p:blipFill>
          <a:blip r:embed="rId1"/>
          <a:stretch/>
        </p:blipFill>
        <p:spPr>
          <a:xfrm>
            <a:off x="112680" y="1908000"/>
            <a:ext cx="3978360" cy="2652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DSC_0342"/>
          <p:cNvPicPr/>
          <p:nvPr/>
        </p:nvPicPr>
        <p:blipFill>
          <a:blip r:embed="rId2"/>
          <a:stretch/>
        </p:blipFill>
        <p:spPr>
          <a:xfrm>
            <a:off x="8182080" y="333360"/>
            <a:ext cx="3759120" cy="5638680"/>
          </a:xfrm>
          <a:prstGeom prst="rect">
            <a:avLst/>
          </a:prstGeom>
          <a:ln w="0">
            <a:noFill/>
          </a:ln>
        </p:spPr>
      </p:pic>
      <p:sp>
        <p:nvSpPr>
          <p:cNvPr id="136" name="Заголовок 2"/>
          <p:cNvSpPr/>
          <p:nvPr/>
        </p:nvSpPr>
        <p:spPr>
          <a:xfrm>
            <a:off x="4149720" y="765000"/>
            <a:ext cx="39592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af2d4"/>
                </a:solidFill>
                <a:latin typeface="Cambria"/>
              </a:rPr>
              <a:t>1.5 Моду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af2d4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af2d4"/>
                </a:solidFill>
                <a:latin typeface="Cambria"/>
              </a:rPr>
              <a:t>Нравственно – патриотического воспит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4078440" y="1916280"/>
            <a:ext cx="41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центре патриотического уголка размещены государственная символика, текст гимна,  материал о родном городе и его памятных местах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оме прочего имеются игры на патриотическую тематику: «Найди флаг страны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Достопримеча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ронеж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2-04-04T07:22:5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170000000000010291210207f7000400038000</vt:lpwstr>
  </property>
</Properties>
</file>