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95DA-A04D-4FC7-A9DF-C7C2B5D2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6C4-BC45-4251-9FE1-C9B83813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E3B9-8F9E-4CB5-BD02-E0FF9BF2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B45-4CB3-4459-8018-781D793D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3A3F-4E00-44FE-9CBC-E5B8B678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4817-945E-4C44-9522-21751849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DC7D-3CD6-45D0-868D-CC6BCAC7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3423-A7C3-461E-A5A5-97F00D46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A851-BD45-4320-9E65-7145C9B5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8D2F-3233-4FCC-A3F3-F8D385F5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2DDC-1783-4319-BE97-63D89485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B52-4A6D-4856-A74C-854C3E1B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0F11-CBC1-4D7D-8F46-BEB9586D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140D-7828-477E-8EC8-6805ED9A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E502-77DB-486A-8A89-63F312E2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23D0-4346-463C-8078-EEE36074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EA9C-97AA-4F01-920B-F48FB998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A7B42-9A44-4770-990A-221D20C2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686B0-42A6-4C94-82BD-F8161B3A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BBB26-CF35-4C1B-B903-78C68C3A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32266-821D-4BCA-9E36-E551EEC1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D05C3-1692-4ED7-8901-C687BF34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FD3-15A6-408D-98BB-18A22005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3093F-17E8-4377-BB14-04E71219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8E555-5975-458F-8A16-41B14C88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7D295-FD12-45CF-B883-21BEA14F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3AB01-3442-42FB-897F-937E83D1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1823A-0475-4BD3-A6DD-8283BB9D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68A4-7D2F-4293-9739-305A4D32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9A39E-410B-47FD-92F4-77EB8393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ACD-95A9-446D-A800-599A1BBC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72B-E8ED-41AB-A8F2-FE617DD0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CBF-E5E7-4527-9EEC-35F25B8B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B77C-A2C9-4E83-9A1E-F481CA0F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9AA-235D-4D8E-8438-2D0653AD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BAE-5817-402D-8EB6-EE540FC7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7B1D-742A-4D49-8619-AF6BAC02160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3924-2EF1-4674-BF5B-535D4F04F9B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8 Imagen" descr="blue_binary_code_1024_768 copi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E8A5-3A92-463E-A7D3-75DE9537AB1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36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eece1"/>
                </a:solidFill>
                <a:latin typeface="Calibri"/>
              </a:rPr>
              <a:t>Влияние Интернета на детей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4000" y="3573360"/>
            <a:ext cx="845964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eece1"/>
                </a:solidFill>
                <a:latin typeface="Calibri"/>
              </a:rPr>
              <a:t>Интернет-зависимос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8b4"/>
                </a:solidFill>
                <a:latin typeface="Calibri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0" y="0"/>
          <a:ext cx="9325080" cy="699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25080" cy="69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6"/>
          <p:cNvSpPr/>
          <p:nvPr/>
        </p:nvSpPr>
        <p:spPr>
          <a:xfrm flipV="1" rot="10828800">
            <a:off x="0" y="4574160"/>
            <a:ext cx="637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Arial"/>
              </a:rPr>
              <a:t>Без Интернета сейчас нельзя представить себе полноценное существование современного общества, поэтому нужно искать альтернативу решению сложившейся проблеме интернет-зависимости у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109840" y="4549680"/>
            <a:ext cx="40338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Calibri"/>
              </a:rPr>
              <a:t>Родители не должны оставлять без внимания своих детей, тогда Интернет-зависимости можно избежать. Постоянно общайтесь со своими детьми. Никогда не поздно рассказать ребенку, как правильно поступать и реагировать на действия</a:t>
            </a:r>
            <a:r>
              <a:rPr b="0" lang="en-US" sz="1800" spc="-1" strike="noStrike">
                <a:solidFill>
                  <a:srgbClr val="99ffcc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99ffcc"/>
                </a:solidFill>
                <a:latin typeface="Calibri"/>
              </a:rPr>
              <a:t>других людей в Интерне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716000" y="0"/>
            <a:ext cx="442764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99ffcc"/>
                </a:solidFill>
                <a:latin typeface="Calibri"/>
              </a:rPr>
              <a:t>Детей привлекают в Интернете разнообразные сайты, социальные сети, где они могут узнавать что-то новое, но не всегда это «новое» может быть приемлемо для ребенка. Ресурсы Интернета ничем не ограничены для пользователей, а поэтому ребенок может узнать то, чего ему еще знать совсем не нужно. Дети посещают порно-сайты сначала из любопытства, а потом это входит в привычку, эти привычки, складывающиеся у ребенка в результате его взаимодействия с компьютером наедине, кардинально портят психику. Будьте друзьями для своих собственных детей, создавайте такую атмосферу, в которой им хотелось бы больше проводить времени с вами, гулять, нежели  сидеть в душной комнате, за компьютер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410364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о нельзя сказать, что Интернет – это зло, нет. Интернет, несомненно важное изобретение человечества, которое помогло обществу шагнуть далеко вперед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есь мир крутится вокруг Интерн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Картинка 427 из 96000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88640"/>
            <a:ext cx="3708360" cy="78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f5f5f"/>
                </a:solidFill>
                <a:uFillTx/>
                <a:latin typeface="Calibri"/>
              </a:rPr>
              <a:t>Положительные черты Интерн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Calibri"/>
              </a:rPr>
              <a:t>заработок в се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Calibri"/>
              </a:rPr>
              <a:t>экономия времен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Calibri"/>
              </a:rPr>
              <a:t>способ показать, проявить себ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Calibri"/>
              </a:rPr>
              <a:t>найти работу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Calibri"/>
              </a:rPr>
              <a:t>старых друзей, которых давно потеря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Calibri"/>
              </a:rPr>
              <a:t>возможность звонить по телефон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Calibri"/>
              </a:rPr>
              <a:t>делать покупк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Calibri"/>
              </a:rPr>
              <a:t>заказывать авиабилеты и номера в отелях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Calibri"/>
              </a:rPr>
              <a:t>рекламировать свои товары и фирм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Calibri"/>
              </a:rPr>
              <a:t>наличие огромных библиотек всевозможной литера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Calibri"/>
              </a:rPr>
              <a:t>возможность многому научиться, получить профессию, либо поднять свои навыки на иной уровен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Calibri"/>
              </a:rPr>
              <a:t>получить самые свежие новости узкой либо широкой темати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Calibri"/>
              </a:rPr>
              <a:t>чаты и ICQ дают возможность общаться в реальном времени.</a:t>
            </a:r>
            <a:r>
              <a:rPr b="0" lang="ru-RU" sz="18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Картинка 525 из 96000"/>
          <p:cNvPicPr/>
          <p:nvPr/>
        </p:nvPicPr>
        <p:blipFill>
          <a:blip r:embed="rId1"/>
          <a:stretch/>
        </p:blipFill>
        <p:spPr>
          <a:xfrm>
            <a:off x="3635280" y="260280"/>
            <a:ext cx="5186520" cy="5113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Картинка 706 из 96000"/>
          <p:cNvPicPr/>
          <p:nvPr/>
        </p:nvPicPr>
        <p:blipFill>
          <a:blip r:embed="rId2"/>
          <a:stretch/>
        </p:blipFill>
        <p:spPr>
          <a:xfrm>
            <a:off x="7236000" y="4365720"/>
            <a:ext cx="1908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3 Marcador de contenido" descr="4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Calibri"/>
              </a:rPr>
              <a:t>Мы живем в современном </a:t>
            </a:r>
            <a:r>
              <a:rPr b="1" lang="en-US" sz="2800" spc="-1" strike="noStrike">
                <a:solidFill>
                  <a:srgbClr val="66ffff"/>
                </a:solidFill>
                <a:latin typeface="Calibri"/>
              </a:rPr>
              <a:t>XXI</a:t>
            </a:r>
            <a:r>
              <a:rPr b="1" lang="ru-RU" sz="2800" spc="-1" strike="noStrike">
                <a:solidFill>
                  <a:srgbClr val="66ffff"/>
                </a:solidFill>
                <a:latin typeface="Calibri"/>
              </a:rPr>
              <a:t> веке, в котором постоянно осуществляются модернизирование и технический прогресс. Жизнь диктует свои правила, невозможно </a:t>
            </a:r>
            <a:r>
              <a:rPr b="1" lang="ru-RU" sz="2800" spc="-1" strike="noStrike">
                <a:solidFill>
                  <a:srgbClr val="66ffff"/>
                </a:solidFill>
                <a:latin typeface="Calibri"/>
              </a:rPr>
              <a:t>сейчас</a:t>
            </a:r>
            <a:r>
              <a:rPr b="1" lang="ru-RU" sz="2800" spc="-1" strike="noStrike">
                <a:solidFill>
                  <a:srgbClr val="66ffff"/>
                </a:solidFill>
                <a:latin typeface="Calibri"/>
              </a:rPr>
              <a:t> обойтись без новых технологий во всех сферах жизни.  Одним из таких прорывов в технологиях является всеобщая доступность сети Интернет. С внедрением новых технологий возникают не только положительные аспекты, но и отрицательные. Одним из таких примеров являет собой интернет-зависимость. В большинстве же своем она проявляется у детей и подростков, т.к. у них еще не сформирована психика, и они не могут контролировать свое пристрастие.</a:t>
            </a:r>
            <a:r>
              <a:rPr b="0" lang="ru-RU" sz="2800" spc="-1" strike="noStrike">
                <a:solidFill>
                  <a:srgbClr val="66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40360" y="189000"/>
            <a:ext cx="4752720" cy="648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Calibri"/>
              </a:rPr>
              <a:t>Тревогу по поводу зависимости от интернета зарубежные психологи начали бить еще в середине 90-х. Главным ее признаком назвали "навязчивое желание войти в интернет и неспособность из него выйти". Интернет назвали средством ухода от реальности; поиск информации в Сети - информационным вампиризмом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big_640750"/>
          <p:cNvPicPr/>
          <p:nvPr/>
        </p:nvPicPr>
        <p:blipFill>
          <a:blip r:embed="rId1"/>
          <a:stretch/>
        </p:blipFill>
        <p:spPr>
          <a:xfrm>
            <a:off x="0" y="3852720"/>
            <a:ext cx="399564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Calibri"/>
              </a:rPr>
              <a:t>Зависимость от компьютера начинается, когда работа на нем заменяет отдых, приносит дискомфорт окружающим и провоцирует болезни. Страдает и физическое состояние – появляется боль в спине, падает зрение, мучает геморрой. В тяжелых случаях (киберзависимость) человек переключается с реальной жизни на виртуальную, проводя у экрана до 20 часов ежедневно. Если нет возможности пользоваться Интернетом, впадает в депрессию, испытывая своеобразную «ломку». Перестает даже следить за собой – не моется, не меняет одежду, на улицу выходит лишь в случае крайней необходимости, почти не общается с домашними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Депрессия интернет зависимости"/>
          <p:cNvPicPr/>
          <p:nvPr/>
        </p:nvPicPr>
        <p:blipFill>
          <a:blip r:embed="rId1"/>
          <a:stretch/>
        </p:blipFill>
        <p:spPr>
          <a:xfrm>
            <a:off x="5796000" y="4346640"/>
            <a:ext cx="3348000" cy="2511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b85d3476c15071786584b174295dbeb9"/>
          <p:cNvPicPr/>
          <p:nvPr/>
        </p:nvPicPr>
        <p:blipFill>
          <a:blip r:embed="rId2"/>
          <a:stretch/>
        </p:blipFill>
        <p:spPr>
          <a:xfrm>
            <a:off x="0" y="4398840"/>
            <a:ext cx="32767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ь что может быть лучше прогулки в лесу или в парке? Создайте детям альтернативу сидению за компьютером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518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c0c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c0c0c0"/>
                </a:solidFill>
                <a:latin typeface="Calibri"/>
              </a:rPr>
              <a:t>Можно выделить несколько типов интернет зависимости. Все они делятся по признаку того, что человек с интернет-зависимостью делает в интернет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c0c0"/>
                </a:solidFill>
                <a:latin typeface="Calibri"/>
              </a:rPr>
              <a:t>Общение. Человек постоянно общается разными способами в интернет. Способы общения могут отличаться, например социальные сети, форумы, чаты, интернет-мессенджеры, электронная почта, бло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c0c0"/>
                </a:solidFill>
                <a:latin typeface="Calibri"/>
              </a:rPr>
              <a:t>Развлечения. Сюда можно отнести просмотр какого-либо контента в сети. Это могут быть различные картинки, фильмы, электронные книги, он-лайн игры, сетевые иг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c0c0"/>
                </a:solidFill>
                <a:latin typeface="Calibri"/>
              </a:rPr>
              <a:t>Отдельная категория людей пытается заниматься манимейкерством, а точнее, зарабатывать деньги в интерне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006560" y="594216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5106-d24ee833"/>
          <p:cNvPicPr/>
          <p:nvPr/>
        </p:nvPicPr>
        <p:blipFill>
          <a:blip r:embed="rId1"/>
          <a:stretch/>
        </p:blipFill>
        <p:spPr>
          <a:xfrm>
            <a:off x="5580000" y="765000"/>
            <a:ext cx="3348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00720" y="-603360"/>
            <a:ext cx="4319280" cy="76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c0c0"/>
                </a:solidFill>
                <a:latin typeface="Calibri"/>
              </a:rPr>
              <a:t>Некоторые известные психологи считают, что инфомания (а, следовательно и интернет-зависимость), могут вызвать состояния, похожие по своей симптоматике с наркотической ломкой. Правда, человек не испытывает боли, он просто находится в постоянной депрессии и не может сосредоточиться на выполнении текущих зад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img_2cef168f8bf2402744a309d3ece84b3d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371592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c0c0"/>
                </a:solidFill>
                <a:latin typeface="Calibri"/>
              </a:rPr>
              <a:t>Чем же так привлекает Интернет?</a:t>
            </a:r>
            <a:br>
              <a:rPr sz="1600"/>
            </a:br>
            <a:r>
              <a:rPr b="0" lang="ru-RU" sz="1600" spc="-1" strike="noStrike">
                <a:solidFill>
                  <a:srgbClr val="c0c0c0"/>
                </a:solidFill>
                <a:latin typeface="Calibri"/>
              </a:rPr>
              <a:t>1) Анонимность. Несмотря на то, что иногда возможно получить некоторые сведения анкетного характера и даже фотографию собеседника, они недостаточны для восприятия личности. Кроме того, наблюдается скрывание или презентация ложных сведений. Вследствие подобной анонимности и безнаказанности в сети проявляется и другая особенность, связанная со снижением психологического и социального риска в процессе общения – аффективная раскрепощенность, ненормативность и некоторая безответственность участников общения. Человек в сети может проявлять и проявляет большую свободу высказываний и поступков (вплоть до оскорблений, нецензурных выражений, сексуальных домогательств), так как риск разоблачения и личной отрицательной оценки окружающими минимален.</a:t>
            </a:r>
            <a:br>
              <a:rPr sz="1600"/>
            </a:br>
            <a:r>
              <a:rPr b="0" lang="ru-RU" sz="1600" spc="-1" strike="noStrike">
                <a:solidFill>
                  <a:srgbClr val="c0c0c0"/>
                </a:solidFill>
                <a:latin typeface="Calibri"/>
              </a:rPr>
              <a:t>2) Создание образа. Своеобразие протекания процессов межличностного восприятия в условиях отсутствия невербальной информации. Как правило, сильное влияние на представление о собеседнике имеют механизмы стереотипизации и идентификации, а также установка как ожидание желаемых качеств в партнере.</a:t>
            </a:r>
            <a:br>
              <a:rPr sz="1600"/>
            </a:br>
            <a:r>
              <a:rPr b="0" lang="ru-RU" sz="1600" spc="-1" strike="noStrike">
                <a:solidFill>
                  <a:srgbClr val="c0c0c0"/>
                </a:solidFill>
                <a:latin typeface="Calibri"/>
              </a:rPr>
              <a:t>3) Добровольность и желательность контактов. Пользователь добровольно завязывает контакты или уходит от них, а также может прервать их в любой момент.</a:t>
            </a:r>
            <a:br>
              <a:rPr sz="1600"/>
            </a:br>
            <a:r>
              <a:rPr b="0" lang="ru-RU" sz="1600" spc="-1" strike="noStrike">
                <a:solidFill>
                  <a:srgbClr val="c0c0c0"/>
                </a:solidFill>
                <a:latin typeface="Calibri"/>
              </a:rPr>
              <a:t>4) Отсутствие эмоций. Затрудненность эмоционального компонента общения и, в то же время, стойкое стремление к эмоциональному наполнению текста, которое выражается в создании специальных значков для обозначения эмоций или в описании эмоций словами (в скобках после основного текста послания).</a:t>
            </a:r>
            <a:br>
              <a:rPr sz="1600"/>
            </a:br>
            <a:r>
              <a:rPr b="0" lang="ru-RU" sz="1600" spc="-1" strike="noStrike">
                <a:solidFill>
                  <a:srgbClr val="c0c0c0"/>
                </a:solidFill>
                <a:latin typeface="Calibri"/>
              </a:rPr>
              <a:t>5) Стремление к нетипичному, ненормативному поведению. Зачастую пользователи презентируют себя с иной стороны, чем в условиях реальной социальной нормы, проигрывают не реализуемые в деятельности вне сети роли, сценарии, ненормативного поведения.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431964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2a28"/>
                </a:solidFill>
                <a:latin typeface="Calibri"/>
              </a:rPr>
              <a:t>Если ребенок, особенно подросток, очень много времени проводит за компьютером, это может быть показателем проблем в семье. Дети «уходят» в компьютер, прячась от семейных неурядиц, компенсируя собственное одиночество.  Это одна проблем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067280" y="-316080"/>
            <a:ext cx="5688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5065560" y="333360"/>
            <a:ext cx="4078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2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alibri"/>
              </a:rPr>
              <a:t>Одиночество больших городов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99"/>
                </a:solidFill>
                <a:latin typeface="Calibri"/>
              </a:rPr>
              <a:t>Симптомы интернет-зависимости у детей вырастают нередко из родительского отношения. Более чем для 62% московских родителей ребенок – это маленький бог, над которым дрожат от страха – «а вдруг с ним что-то случится?», и малейшие прихоти которого стремятся выполнить – «не то он нам всем испортит жизнь!». Более 65% родителей разрешают своим детям свободно пользоваться Интернетом. Испуг, протест (как часто подростки всей душой любят те занятия, которые ненавидят их родители!) и чувство глубокого внутреннего одиночества приводят в виртуальный мир чудес, где любой может представить себя богом-инкогнито, где забываются семейные, учебные и рабочие проблемы, гасятся страхи, связанные с глубокими  личными переживаниям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99"/>
                </a:solidFill>
                <a:latin typeface="Calibri"/>
              </a:rPr>
              <a:t>В Москве люди больше погружены в Сеть, чем жители маленьких городов. Одиночество в большом городе вырастает из психологического отчуждения. Понаблюдаем за пассажирами метро: для отчуждения от взглядов у них есть книга либо мобильный, для отчуждения от звуков – плеер с наушниками. Мы отгораживаемся от мира всеми доступными способами. Интернет – апофеоз отчуждения, он помогает отгородиться от близких, позволяет не решать возникающие проблемы…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99"/>
                </a:solidFill>
                <a:latin typeface="Calibri"/>
              </a:rPr>
              <a:t>Именно компенсаторная функция Интернета завораживает: ведь в этом мире чудес можно получить то, чего никогда не получишь в жизни, и стать тем, кем никогда не станешь в реальности.</a:t>
            </a:r>
            <a:br>
              <a:rPr sz="1800"/>
            </a:br>
            <a:br>
              <a:rPr sz="800"/>
            </a:br>
            <a:r>
              <a:rPr b="0" lang="ru-RU" sz="8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6:52:29Z</dcterms:created>
  <dc:creator>Elizabeth</dc:creator>
  <dc:description/>
  <cp:keywords/>
  <dc:language>en-US</dc:language>
  <cp:lastModifiedBy>Таня</cp:lastModifiedBy>
  <dcterms:modified xsi:type="dcterms:W3CDTF">2019-01-12T17:08:33Z</dcterms:modified>
  <cp:revision>10</cp:revision>
  <dc:subject/>
  <dc:title>Влияние Интернета на дете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4987259991</vt:lpwstr>
  </property>
</Properties>
</file>