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25A-DE9A-4C8B-B867-9C03FB7E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3D2-3CF4-40D8-AE92-940EF54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3F9-44C4-4C75-A8C4-C0A4ED9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CCC-40BC-4D17-98F6-8684B176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48A-A589-4D4D-8B32-EBF39F0D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112-8769-47A8-905B-DABE3154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2FC-AE27-4E99-9E96-DFC1D8B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447-88EC-4D55-942E-35F4B48B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93F-B868-4661-A79D-97638438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35B-1A13-46A5-A5ED-5A8EB7B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2D1-8E24-4D44-BCDE-E95205E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BFA-08B5-421D-9CBF-E7C248D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0E8-CBE7-49E7-A4F9-668604EF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35280" y="0"/>
            <a:ext cx="619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ff00"/>
                </a:solidFill>
                <a:latin typeface="Arial"/>
              </a:rPr>
              <a:t>Загадк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03280" y="1484280"/>
            <a:ext cx="6985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Стоит Алён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латок зелёны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Тонкий стан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Белый сарафа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Берёза"/>
          <p:cNvPicPr/>
          <p:nvPr/>
        </p:nvPicPr>
        <p:blipFill>
          <a:blip r:embed="rId1"/>
          <a:stretch/>
        </p:blipFill>
        <p:spPr>
          <a:xfrm>
            <a:off x="2428920" y="5716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042920" y="907920"/>
            <a:ext cx="78501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рёз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549360"/>
            <a:ext cx="93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ТОЛКОВ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71640" y="2349360"/>
            <a:ext cx="76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Лиственное дерево с тонкими розовато-коричневыми веточками, с гладкой белой корой, покрытой тёмными полос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9280" y="4046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Однокорен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9640" y="1413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843280" y="134136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ерёз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843280" y="213372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ерёзонь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43280" y="2997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ерезня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843280" y="386064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ерёзов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771640" y="465300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одберёзов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042920" y="6206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Фразеологиз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47640" y="213372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Дать берёзовой         каш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332000" y="3933720"/>
            <a:ext cx="78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казать розгами, выпороть, высеч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0"/>
            <a:ext cx="849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990099"/>
                </a:solidFill>
                <a:latin typeface="Arial"/>
              </a:rPr>
              <a:t>Пословицы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50920" y="1413000"/>
            <a:ext cx="8893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ерёзой обогреешься, а не оденеш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аковы берёзки, таковы и отрос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 у берёзы слёзки текут, когда с неё кору дер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14240" y="116748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ю составила учитель начальных классов  МОБУ Гимназия №17 г. Белорецка Республики Башкортос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ненкова Елена Валер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5:07:07Z</dcterms:created>
  <dc:creator>0</dc:creator>
  <dc:description/>
  <dc:language>en-US</dc:language>
  <cp:lastModifiedBy>КарМаН</cp:lastModifiedBy>
  <dcterms:modified xsi:type="dcterms:W3CDTF">2011-05-14T07:02:47Z</dcterms:modified>
  <cp:revision>6</cp:revision>
  <dc:subject/>
  <dc:title>Слайд 1</dc:title>
</cp:coreProperties>
</file>