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C57-9B32-4BC2-A330-22E15EA2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2B2-DB87-453C-89E1-1412F337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CB6-BDF9-4625-BFD5-02A43DAA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18C-B840-4482-9F26-3603BC99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9A69-7F3E-477F-BFA9-23DD3A97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2A48-2BF5-4530-99A3-C590EB6F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661C-7427-462E-BE56-8869323D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DE8E-B126-4494-8DEF-74C402A0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F032-FDC9-414B-B715-8FC165E1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D208-FE39-47C6-AFEA-1C9CAE5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7F1D-71B9-41C5-97BE-9B6DBD27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F68-4B84-4F85-8BB1-61DBB954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054E-C672-4035-9921-D0068FA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098-B1FC-4418-946B-7AB14C8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2CBD-64F6-451E-B4BF-152F35B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DAC3-095D-4D14-8231-CBCD2B09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9BEC-AB5C-44E5-901B-3742FC41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FA34-2F33-464A-BAAC-753EE93D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FD7A-E02D-4FE4-9A9E-1B2F4470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B272-9DE7-4131-AFFB-14635EA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5B86-E40D-46A7-915A-FB12B75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2173-ADE4-470E-A71A-78F18798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A03-E3DE-4A9A-8E8F-292C243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5650-11DC-4949-8B55-00CEAA93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B68B-968C-40C8-BFA2-098714CE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0BA4-4326-4120-8EE1-FBD0F37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FF2A-FF04-4074-AA55-632A4955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2C13-EF85-4FAF-A99F-E2928913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FC19-3BA7-43ED-90C6-D3AB49CD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23E2-D91F-46AD-B296-ABDC857F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45C-F534-4F54-9094-424AD320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42B-E70F-450F-8720-8F5DEA53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9E5-1C85-4A42-A0D3-3284910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C57-FF51-442C-897A-90755D1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CBF-26D3-42CF-9B60-1C0EEF8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EFF-D249-401D-8706-46E67EB1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08CF-1043-4671-9D67-F8D23711B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2D0D-BD50-4F0B-B60A-E22C77CFA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CFF2-23C2-460C-8B25-AFD825E58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556000" y="4437000"/>
            <a:ext cx="52164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05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b5305"/>
                </a:solidFill>
                <a:latin typeface="Calibri"/>
              </a:rPr>
              <a:t>Воспитат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05"/>
                </a:solidFill>
                <a:latin typeface="Calibri"/>
              </a:rPr>
              <a:t>                      </a:t>
            </a:r>
            <a:r>
              <a:rPr b="1" lang="ru-RU" sz="2800" spc="-1" strike="noStrike">
                <a:solidFill>
                  <a:srgbClr val="0b5305"/>
                </a:solidFill>
                <a:latin typeface="Calibri"/>
              </a:rPr>
              <a:t>Рубанова Т.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05"/>
                </a:solidFill>
                <a:latin typeface="Calibri"/>
              </a:rPr>
              <a:t>                        </a:t>
            </a:r>
            <a:r>
              <a:rPr b="1" lang="ru-RU" sz="2800" spc="-1" strike="noStrike">
                <a:solidFill>
                  <a:srgbClr val="0b5305"/>
                </a:solidFill>
                <a:latin typeface="Calibri"/>
              </a:rPr>
              <a:t>Тимофеева Е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11280" y="1916280"/>
            <a:ext cx="76197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Дорожная азбу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ематический день в старшей группе компенсирующей направленности «Колоколь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780640" y="83664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МБДОУ ДС №56 «Улыб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Цель: Познакомить детей с дорожными знаками «Осторожно, дети!» и «Пешеходный переход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2494080" y="4005360"/>
            <a:ext cx="41767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3564000" y="2585880"/>
            <a:ext cx="4681440" cy="3511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4029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9360" y="1574280"/>
            <a:ext cx="5545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6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4175280" y="107172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4092480" cy="30700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1042920" y="879480"/>
            <a:ext cx="2976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осмотр обучающего мультфильма «Азбука Безопасности. Смешар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9360" y="1574280"/>
            <a:ext cx="5545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6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4124160" y="888840"/>
            <a:ext cx="4019760" cy="3015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1123920" y="2903400"/>
            <a:ext cx="3726000" cy="27957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3"/>
          <a:stretch/>
        </p:blipFill>
        <p:spPr>
          <a:xfrm>
            <a:off x="1270080" y="774720"/>
            <a:ext cx="2357280" cy="1727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"/>
          <p:cNvPicPr/>
          <p:nvPr/>
        </p:nvPicPr>
        <p:blipFill>
          <a:blip r:embed="rId4"/>
          <a:stretch/>
        </p:blipFill>
        <p:spPr>
          <a:xfrm>
            <a:off x="5546880" y="4103640"/>
            <a:ext cx="2539800" cy="16318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1414440" y="5699160"/>
            <a:ext cx="66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крепление знаний о знаках «Осторожно,дети!» и «Пешеходный перех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79360" y="1574280"/>
            <a:ext cx="5545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6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490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1</cp:lastModifiedBy>
  <dcterms:modified xsi:type="dcterms:W3CDTF">2022-04-05T10:48:57Z</dcterms:modified>
  <cp:revision>49</cp:revision>
  <dc:subject/>
  <dc:title>Слайд 1</dc:title>
</cp:coreProperties>
</file>