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F27-E7F9-48FD-868E-1E3D0E41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C94-1A2E-4DC8-8EF4-58882F5E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5BD-3809-4966-AE98-F8211402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7C7-2F3E-4FAF-8F2B-43A21743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B433-07E3-4874-AE04-5797F479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AAD7-B911-4EDD-A64E-4DA1150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0B8E-19F1-4845-9BA9-C386E0C0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FB9A-2B54-49AC-959F-413381A7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734B-3554-4DBC-9796-2DDBF081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30C6-0B7C-4944-AD69-8054FC1B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F213-A8D9-43B7-B0E3-D96E766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141-0C38-4859-9451-B6D2C97D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1A14-B894-4B4C-B1FA-55B5C7F8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1B1B-A269-40ED-833E-0232FE2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89E3-E571-4C8E-BF50-2EE87ED5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04AE-F342-452C-9EDC-CF60B25B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F033-548F-4F4A-839F-A61F10EC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4D3-4914-4E73-9918-9C4A2448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3F9-EF93-4432-ABC7-0BC5F8F7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011-AE78-46C9-A3C6-E90B38DA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58F-FC78-49A0-BECF-7BD45024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10C-660C-40FD-BFBD-B369000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09E-126A-4E87-BFC2-E739DD0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54F-D641-4345-80DB-B9DC082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F453-8BAE-42DF-B863-7E04EA960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BFF3-72B5-4320-9518-33AC130E3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2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791320" cy="1447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1015755425"/>
          <p:cNvPicPr/>
          <p:nvPr/>
        </p:nvPicPr>
        <p:blipFill>
          <a:blip r:embed="rId3"/>
          <a:stretch/>
        </p:blipFill>
        <p:spPr>
          <a:xfrm>
            <a:off x="2590920" y="2590920"/>
            <a:ext cx="189072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254160" y="12193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. пошли, собирать, погода, набр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41200" y="2514600"/>
            <a:ext cx="862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послышался, стучал, интерес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грае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79360" y="5029200"/>
            <a:ext cx="85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пошли, увидели, стучал, игр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1518892915_abstract-lines-background-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2745720" y="228600"/>
            <a:ext cx="3621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ной барабанщ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14160" y="990720"/>
            <a:ext cx="80964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 пошли в лес собирать грибы и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да была прекрасная. Все быстро набр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ые корзины гри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09480" y="2590920"/>
            <a:ext cx="80773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руг послышался странный стук. Как будто кто-то стучал по барабану. Ребятам стало интересно, кто играет в лесу на бараба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09480" y="4114800"/>
            <a:ext cx="80773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пошли на звуки и тихонько подошли к лесной поляне. Там они увидели зайца, который стучал по старому пню. Так вот кто играл на барабан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518892915_abstract-lines-background-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1523880" y="2133720"/>
            <a:ext cx="59436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502000" y="8636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Ш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стое апреля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971800" y="22096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зложение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752480" y="35053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сной барабанщик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1518892915_abstract-lines-background-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4920" y="8888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ан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04920" y="25020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. Ребята пошли в л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908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2"/>
          <a:stretch/>
        </p:blipFill>
        <p:spPr>
          <a:xfrm>
            <a:off x="4495680" y="25560"/>
            <a:ext cx="445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304920" y="8888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ан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04920" y="25020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. Ребята пошли в л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304920" y="3733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Стук бараб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79360" y="5029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Зая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115920" y="0"/>
            <a:ext cx="891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04920" y="8888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ан</a:t>
            </a: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04920" y="25020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. Ребята пошли в л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304920" y="3733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Стук бараб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279360" y="5029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Зая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4T12:48:12Z</dcterms:created>
  <dc:creator>111</dc:creator>
  <dc:description/>
  <dc:language>en-US</dc:language>
  <cp:lastModifiedBy>пользователь</cp:lastModifiedBy>
  <dcterms:modified xsi:type="dcterms:W3CDTF">2022-04-05T12:51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