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0A55-590A-464A-B5F1-DCA2AD6F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6882-B443-4061-AA4E-9EAD3209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3D9B-3AD1-4C7D-B157-1B08FCEA9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3FA2-258E-4F5D-946D-74DC928DE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5645-A06E-4133-B481-09B700AC8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9D8B-D697-4290-98F0-A35C699A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6001-DCC0-4C3A-8F30-3AA5C28E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696F-4A23-4DB0-805F-91F0AB96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8252-79E4-4C84-A2A2-CFD82275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D56D-F51B-4864-A840-A799483D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BD4E-70B7-47C3-B50C-1E2EC105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DDEA-0626-4EE0-B190-42468BAE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67A9-AF2A-43C7-AC2A-693E82AA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83EE-136F-4C36-8D0F-9B172838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A61B-4D8E-48F8-B18A-41613A40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3B6D-4DA2-4AA2-811E-038F101C9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1539-BB2C-4730-A4FC-8D99F8BF0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2427-A11D-431C-9D9D-F69470C1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FAB5-B802-4218-AC2C-B5262418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F139-A1C2-432E-8292-7A7646BE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39E8-8F7B-41AF-89D6-1F8C087B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4AFB-3A45-4B4F-8052-0B0D4943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D0B1-3636-4049-97DF-9D83A994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2823-EEA0-45C1-92F2-DCF89492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3348-3DA4-4A45-B703-A57217E3B4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36FC-E239-458E-8F8A-E8062EAE7A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2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2057400" y="990720"/>
            <a:ext cx="5791320" cy="1447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1015755425"/>
          <p:cNvPicPr/>
          <p:nvPr/>
        </p:nvPicPr>
        <p:blipFill>
          <a:blip r:embed="rId3"/>
          <a:stretch/>
        </p:blipFill>
        <p:spPr>
          <a:xfrm>
            <a:off x="2590920" y="2590920"/>
            <a:ext cx="189072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6"/>
          <p:cNvSpPr/>
          <p:nvPr/>
        </p:nvSpPr>
        <p:spPr>
          <a:xfrm>
            <a:off x="254160" y="12193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1. пошли, собирать, погода, набра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241200" y="2514600"/>
            <a:ext cx="862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2. послышался, стучал, интересно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играет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279360" y="5029200"/>
            <a:ext cx="858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3. пошли, увидели, стучал, игра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1518892915_abstract-lines-background-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8"/>
          <p:cNvSpPr/>
          <p:nvPr/>
        </p:nvSpPr>
        <p:spPr>
          <a:xfrm>
            <a:off x="2745720" y="228600"/>
            <a:ext cx="3621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сной барабанщ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614160" y="990720"/>
            <a:ext cx="809640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ята пошли в лес собирать грибы и яг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года была прекрасная. Все быстро набра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ные корзины гриб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609480" y="2590920"/>
            <a:ext cx="807732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друг послышался странный стук. Как будто кто-то стучал по барабану. Ребятам стало интересно, кто играет в лесу на барабан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609480" y="4114800"/>
            <a:ext cx="807732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и пошли на звуки и тихонько подошли к лесной поляне. Там они увидели зайца, который стучал по старому пню. Так вот кто играл на барабан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1518892915_abstract-lines-background-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19" name="WordArt 5"/>
          <p:cNvSpPr txBox="1"/>
          <p:nvPr/>
        </p:nvSpPr>
        <p:spPr>
          <a:xfrm>
            <a:off x="1523880" y="2133720"/>
            <a:ext cx="594360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Молодц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2502000" y="86364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Ш</a:t>
            </a:r>
            <a:r>
              <a:rPr b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естое апреля</a:t>
            </a:r>
            <a:r>
              <a:rPr b="1" lang="ru-RU" sz="4000" spc="-1" strike="noStrike">
                <a:solidFill>
                  <a:srgbClr val="262673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2971800" y="220968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И</a:t>
            </a:r>
            <a:r>
              <a:rPr b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зложение</a:t>
            </a:r>
            <a:r>
              <a:rPr b="1" lang="ru-RU" sz="4000" spc="-1" strike="noStrike">
                <a:solidFill>
                  <a:srgbClr val="262673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1752480" y="350532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Л</a:t>
            </a:r>
            <a:r>
              <a:rPr b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есной барабанщик</a:t>
            </a:r>
            <a:r>
              <a:rPr b="1" lang="ru-RU" sz="4000" spc="-1" strike="noStrike">
                <a:solidFill>
                  <a:srgbClr val="262673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1518892915_abstract-lines-background-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45820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304920" y="88884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</a:t>
            </a:r>
            <a:r>
              <a:rPr b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лан</a:t>
            </a:r>
            <a:r>
              <a:rPr b="1" lang="ru-RU" sz="4000" spc="-1" strike="noStrike">
                <a:solidFill>
                  <a:srgbClr val="262673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304920" y="25020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1. Ребята пошли в ле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"/>
          <p:cNvPicPr/>
          <p:nvPr/>
        </p:nvPicPr>
        <p:blipFill>
          <a:blip r:embed="rId1"/>
          <a:stretch/>
        </p:blipFill>
        <p:spPr>
          <a:xfrm>
            <a:off x="19080" y="0"/>
            <a:ext cx="6858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2" descr=""/>
          <p:cNvPicPr/>
          <p:nvPr/>
        </p:nvPicPr>
        <p:blipFill>
          <a:blip r:embed="rId2"/>
          <a:stretch/>
        </p:blipFill>
        <p:spPr>
          <a:xfrm>
            <a:off x="4495680" y="25560"/>
            <a:ext cx="44546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304920" y="88884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</a:t>
            </a:r>
            <a:r>
              <a:rPr b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лан</a:t>
            </a:r>
            <a:r>
              <a:rPr b="1" lang="ru-RU" sz="4000" spc="-1" strike="noStrike">
                <a:solidFill>
                  <a:srgbClr val="262673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304920" y="25020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1. Ребята пошли в ле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304920" y="373392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2. Стук бараба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279360" y="50292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3. Заяц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"/>
          <p:cNvPicPr/>
          <p:nvPr/>
        </p:nvPicPr>
        <p:blipFill>
          <a:blip r:embed="rId1"/>
          <a:stretch/>
        </p:blipFill>
        <p:spPr>
          <a:xfrm>
            <a:off x="115920" y="0"/>
            <a:ext cx="8912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304920" y="88884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</a:t>
            </a:r>
            <a:r>
              <a:rPr b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лан</a:t>
            </a:r>
            <a:r>
              <a:rPr b="1" lang="ru-RU" sz="4000" spc="-1" strike="noStrike">
                <a:solidFill>
                  <a:srgbClr val="262673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304920" y="25020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1. Ребята пошли в ле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304920" y="373392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2. Стук бараба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279360" y="50292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3. Заяц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4T12:48:12Z</dcterms:created>
  <dc:creator>111</dc:creator>
  <dc:description/>
  <dc:language>en-US</dc:language>
  <cp:lastModifiedBy>пользователь</cp:lastModifiedBy>
  <dcterms:modified xsi:type="dcterms:W3CDTF">2022-04-05T12:51:3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