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251B-5CA5-4678-B3DE-310443CF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6943-9AE0-4BCB-9A8A-F5BA95DA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000B-5453-41F7-BBA9-78567FA82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F730-C942-4EEE-AB2F-6BE55BE69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450F-7F46-4923-AA14-BAE09C8B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634C-7D70-4A33-88B2-862E24ED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2F49-ED79-47EE-9958-4ED92645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14DE-4C34-4505-9935-FF08D1D8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5972-0B35-4AEB-8E3D-F66FB0AD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C33F-0076-4BB4-8907-4174BB7C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52A7-0EB3-4CE3-B243-13A7FF12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0820-071E-4615-A629-2B4E4033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FA45-6D7C-4C8B-9549-6034BE2B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17B6-2B9D-433E-8AD4-E7CA3F40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0F8D-BF91-4A54-A24B-105461BE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110A-E603-4C2B-B9A3-E4E11B716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1B51-67EA-4802-AF12-FAB179F6F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C1E8-8912-49D8-A9EF-DBAE6D83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347C-CAF8-4602-BA91-7F60E673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1476-6279-4739-9FD2-57A92CFF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B6EB-1919-446D-B320-4B3AF4B5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11DA-2405-4868-9620-A64F9EF6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5673-8177-437F-AE3E-BF23873D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DBF8-D32E-4E94-A342-97C91218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68C5-7097-40C1-B07E-9C1FE768ECA3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FC1B-2053-4F14-9139-5BDFD822618F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82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41eb1"/>
                </a:solidFill>
                <a:latin typeface="Arial"/>
                <a:ea typeface="Arial"/>
              </a:rPr>
              <a:t>Муниципальное Дошкольное Образовательное Учреждение «Детский сад «Ветерок» п.Наваринка.</a:t>
            </a: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560" y="3432240"/>
            <a:ext cx="8713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41eb1"/>
                </a:solidFill>
                <a:latin typeface="Arial"/>
                <a:ea typeface="Arial"/>
              </a:rPr>
              <a:t>Мастер – класс «Экспериментирование – как метод освоения математики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4344120" y="4508640"/>
            <a:ext cx="447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41eb1"/>
                </a:solidFill>
                <a:latin typeface="Arial"/>
                <a:ea typeface="Arial"/>
              </a:rPr>
              <a:t>Подготовила: воспитатель Каплина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41eb1"/>
                </a:solidFill>
                <a:latin typeface="Arial"/>
                <a:ea typeface="Arial"/>
              </a:rPr>
              <a:t>Наталья Сергеевна</a:t>
            </a:r>
            <a:r>
              <a:rPr b="0" lang="ru-RU" sz="1600" spc="-1" strike="noStrike">
                <a:solidFill>
                  <a:srgbClr val="d41eb1"/>
                </a:solidFill>
                <a:latin typeface="Palatino Linotyp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3190680" y="6264360"/>
            <a:ext cx="252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41eb1"/>
                </a:solidFill>
                <a:latin typeface="Arial"/>
                <a:ea typeface="Arial"/>
              </a:rPr>
              <a:t>п. Наваринка 2017г</a:t>
            </a:r>
            <a:r>
              <a:rPr b="0" lang="ru-RU" sz="1800" spc="-1" strike="noStrike">
                <a:solidFill>
                  <a:srgbClr val="d41eb1"/>
                </a:solidFill>
                <a:latin typeface="Palatino Linotyp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0" y="1031760"/>
            <a:ext cx="91440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714680" y="642960"/>
            <a:ext cx="61434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643040" y="714240"/>
            <a:ext cx="652608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2000160" y="1000080"/>
            <a:ext cx="577872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G:\DCIM\100CANON\IMG_0409.JPG"/>
          <p:cNvPicPr/>
          <p:nvPr/>
        </p:nvPicPr>
        <p:blipFill>
          <a:blip r:embed="rId1"/>
          <a:stretch/>
        </p:blipFill>
        <p:spPr>
          <a:xfrm>
            <a:off x="2571840" y="1214280"/>
            <a:ext cx="450036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2428920" y="1500120"/>
            <a:ext cx="3887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://detskiisad113.caduk.ru/images/znayka.png"/>
          <p:cNvPicPr/>
          <p:nvPr/>
        </p:nvPicPr>
        <p:blipFill>
          <a:blip r:embed="rId1"/>
          <a:stretch/>
        </p:blipFill>
        <p:spPr>
          <a:xfrm>
            <a:off x="2556000" y="115920"/>
            <a:ext cx="47448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-3877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Arial"/>
                <a:ea typeface="Arial"/>
              </a:rPr>
              <a:t>Спасибо за внимание!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01" name="Picture 2" descr="C:\Users\Администратор\Desktop\IMG_1351.JPG"/>
          <p:cNvPicPr/>
          <p:nvPr/>
        </p:nvPicPr>
        <p:blipFill>
          <a:blip r:embed="rId1"/>
          <a:stretch/>
        </p:blipFill>
        <p:spPr>
          <a:xfrm>
            <a:off x="1042920" y="1600200"/>
            <a:ext cx="69138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4T10:16:10Z</dcterms:created>
  <dc:creator>Администратор</dc:creator>
  <dc:description/>
  <dc:language>en-US</dc:language>
  <cp:lastModifiedBy>Пользователь Windows</cp:lastModifiedBy>
  <dcterms:modified xsi:type="dcterms:W3CDTF">2022-04-05T09:59:14Z</dcterms:modified>
  <cp:revision>12</cp:revision>
  <dc:subject/>
  <dc:title>Презентация PowerPoint</dc:title>
</cp:coreProperties>
</file>