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7F3-4300-441A-8C08-545B6E13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7B4-967D-403A-A130-2590C84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8F5-B3B0-4526-8863-F6E0612C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A0C-57B2-45B0-BC1F-7EB21705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D38-1412-4F56-835C-CEED012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D16-A470-4433-A4BF-D2FCB535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846-44BC-4A57-8F19-5268C36C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043-16CE-42D4-818C-26CBD474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12A-B31F-4AD3-BB70-DAA1DE8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852-E8A1-4AFD-B54D-A00F2D6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936-0CA1-416C-A10D-DDE7518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619-9E0C-4F35-AC28-4D55999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0E9C-86B8-4C60-BF30-9FADEB04A54D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ideouroki.net/razrabotki/osobennosti-raboty-s-diet-mi-v-usloviiakh-dopolnitiel-nogho-obrazovaniia.html" TargetMode="External"/><Relationship Id="rId2" Type="http://schemas.openxmlformats.org/officeDocument/2006/relationships/hyperlink" Target="http://videouroki.net/razrabotki/osobennosti-raboty-s-diet-mi-v-usloviiakh-dopolnitiel-nogho-obrazovaniia.html" TargetMode="External"/><Relationship Id="rId3" Type="http://schemas.openxmlformats.org/officeDocument/2006/relationships/hyperlink" Target="http://videouroki.net/razrabotki/osobennosti-raboty-s-diet-mi-v-usloviiakh-dopolnitiel-nogho-obrazovaniia.html" TargetMode="External"/><Relationship Id="rId4" Type="http://schemas.openxmlformats.org/officeDocument/2006/relationships/hyperlink" Target="http://videouroki.net/razrabotki/osobennosti-raboty-s-diet-mi-v-usloviiakh-dopolnitiel-nogho-obrazovaniia.html" TargetMode="External"/><Relationship Id="rId5" Type="http://schemas.openxmlformats.org/officeDocument/2006/relationships/hyperlink" Target="http://videouroki.net/razrabotki/osobennosti-raboty-s-diet-mi-v-usloviiakh-dopolnitiel-nogho-obrazovaniia.html" TargetMode="External"/><Relationship Id="rId6" Type="http://schemas.openxmlformats.org/officeDocument/2006/relationships/hyperlink" Target="http://videouroki.net/razrabotki/osobennosti-raboty-s-diet-mi-v-usloviiakh-dopolnitiel-nogho-obrazovaniia.html" TargetMode="External"/><Relationship Id="rId7" Type="http://schemas.openxmlformats.org/officeDocument/2006/relationships/hyperlink" Target="http://videouroki.net/razrabotki/osobennosti-raboty-s-diet-mi-v-usloviiakh-dopolnitiel-nogho-obrazovaniia.html" TargetMode="External"/><Relationship Id="rId8" Type="http://schemas.openxmlformats.org/officeDocument/2006/relationships/hyperlink" Target="http://videouroki.net/razrabotki/osobennosti-raboty-s-diet-mi-v-usloviiakh-dopolnitiel-nogho-obrazovaniia.html" TargetMode="External"/><Relationship Id="rId9" Type="http://schemas.openxmlformats.org/officeDocument/2006/relationships/hyperlink" Target="http://videouroki.net/razrabotki/osobennosti-raboty-s-diet-mi-v-usloviiakh-dopolnitiel-nogho-obrazovaniia.html" TargetMode="External"/><Relationship Id="rId10" Type="http://schemas.openxmlformats.org/officeDocument/2006/relationships/hyperlink" Target="http://videouroki.net/razrabotki/osobennosti-raboty-s-diet-mi-v-usloviiakh-dopolnitiel-nogho-obrazovaniia.html" TargetMode="External"/><Relationship Id="rId11" Type="http://schemas.openxmlformats.org/officeDocument/2006/relationships/hyperlink" Target="http://videouroki.net/razrabotki/osobennosti-raboty-s-diet-mi-v-usloviiakh-dopolnitiel-nogho-obrazovaniia.html" TargetMode="External"/><Relationship Id="rId12" Type="http://schemas.openxmlformats.org/officeDocument/2006/relationships/hyperlink" Target="http://videouroki.net/razrabotki/osobennosti-raboty-s-diet-mi-v-usloviiakh-dopolnitiel-nogho-obrazovaniia.html" TargetMode="External"/><Relationship Id="rId13" Type="http://schemas.openxmlformats.org/officeDocument/2006/relationships/hyperlink" Target="http://videouroki.net/razrabotki/osobennosti-raboty-s-diet-mi-v-usloviiakh-dopolnitiel-nogho-obrazovaniia.html" TargetMode="External"/><Relationship Id="rId14" Type="http://schemas.openxmlformats.org/officeDocument/2006/relationships/hyperlink" Target="http://videouroki.net/razrabotki/osobennosti-raboty-s-diet-mi-v-usloviiakh-dopolnitiel-nogho-obrazovaniia.html" TargetMode="External"/><Relationship Id="rId15" Type="http://schemas.openxmlformats.org/officeDocument/2006/relationships/hyperlink" Target="http://videouroki.net/razrabotki/osobennosti-raboty-s-diet-mi-v-usloviiakh-dopolnitiel-nogho-obrazovaniia.html" TargetMode="External"/><Relationship Id="rId16" Type="http://schemas.openxmlformats.org/officeDocument/2006/relationships/hyperlink" Target="http://videouroki.net/razrabotki/osobennosti-raboty-s-diet-mi-v-usloviiakh-dopolnitiel-nogho-obrazovaniia.html" TargetMode="External"/><Relationship Id="rId17" Type="http://schemas.openxmlformats.org/officeDocument/2006/relationships/hyperlink" Target="http://videouroki.net/razrabotki/osobennosti-raboty-s-diet-mi-v-usloviiakh-dopolnitiel-nogho-obrazovaniia.html" TargetMode="External"/><Relationship Id="rId18" Type="http://schemas.openxmlformats.org/officeDocument/2006/relationships/hyperlink" Target="http://videouroki.net/razrabotki/osobennosti-raboty-s-diet-mi-v-usloviiakh-dopolnitiel-nogho-obrazovaniia.html" TargetMode="External"/><Relationship Id="rId19" Type="http://schemas.openxmlformats.org/officeDocument/2006/relationships/hyperlink" Target="http://videouroki.net/razrabotki/osobennosti-raboty-s-diet-mi-v-usloviiakh-dopolnitiel-nogho-obrazovaniia.html" TargetMode="External"/><Relationship Id="rId20" Type="http://schemas.openxmlformats.org/officeDocument/2006/relationships/hyperlink" Target="http://videouroki.net/razrabotki/osobennosti-raboty-s-diet-mi-v-usloviiakh-dopolnitiel-nogho-obrazovaniia.html" TargetMode="External"/><Relationship Id="rId21" Type="http://schemas.openxmlformats.org/officeDocument/2006/relationships/hyperlink" Target="http://videouroki.net/razrabotki/osobennosti-raboty-s-diet-mi-v-usloviiakh-dopolnitiel-nogho-obrazovaniia.html" TargetMode="External"/><Relationship Id="rId22" Type="http://schemas.openxmlformats.org/officeDocument/2006/relationships/hyperlink" Target="http://videouroki.net/razrabotki/osobennosti-raboty-s-diet-mi-v-usloviiakh-dopolnitiel-nogho-obrazovaniia.html" TargetMode="External"/><Relationship Id="rId23" Type="http://schemas.openxmlformats.org/officeDocument/2006/relationships/hyperlink" Target="http://videouroki.net/razrabotki/osobennosti-raboty-s-diet-mi-v-usloviiakh-dopolnitiel-nogho-obrazovaniia.html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291440" cy="561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bd189"/>
                </a:solidFill>
                <a:latin typeface="Arial"/>
              </a:rPr>
              <a:t>Современные подходы к организации учебного процесса в дополнительном образовании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93440" y="3886200"/>
            <a:ext cx="151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304920"/>
            <a:ext cx="801216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Методы обучения </a:t>
            </a:r>
            <a:br>
              <a:rPr sz="4000"/>
            </a:b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(по Ю.К. Бабанскому</a:t>
            </a:r>
            <a:r>
              <a:rPr b="0" lang="ru-RU" sz="32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560" y="1484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овесные (источником знания является устное или печатное слово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глядные (источником знания являются наблюдаемые предметы, явления, наглядные пособия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ктические (получают знания и вырабатывают умения, выполняя практическое действие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801216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Методы обучения </a:t>
            </a:r>
            <a:br>
              <a:rPr sz="4000"/>
            </a:b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(по М.Н.Скаткину и И.Я.Лернеру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бъяснительно-иллюстративны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продуктивны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роблемны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Частично-поисковы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Исследовательски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2" name="Picture 10" descr="j0424168"/>
          <p:cNvPicPr/>
          <p:nvPr/>
        </p:nvPicPr>
        <p:blipFill>
          <a:blip r:embed="rId1"/>
          <a:stretch/>
        </p:blipFill>
        <p:spPr>
          <a:xfrm>
            <a:off x="5332320" y="1773360"/>
            <a:ext cx="3816360" cy="280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Традиционные формы организации деятельности детей в учебном процессе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680" y="206064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Лекц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емина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искусс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нференц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кскурс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кспедиц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уристический пох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чебная иг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5" name="Picture 20" descr="j0417332"/>
          <p:cNvPicPr/>
          <p:nvPr/>
        </p:nvPicPr>
        <p:blipFill>
          <a:blip r:embed="rId1"/>
          <a:stretch/>
        </p:blipFill>
        <p:spPr>
          <a:xfrm>
            <a:off x="5435640" y="220500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d189"/>
                </a:solidFill>
                <a:latin typeface="Arial"/>
              </a:rPr>
              <a:t>Нетрадиционные формы организации деятельности детей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560" y="1413000"/>
            <a:ext cx="82090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зентация предмета, явления, события, фак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циодра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щита проек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руглый сто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аепит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Крепкий орешек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ень добрых сюрприз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нверт вопрос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ускной ринг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8" name="Picture 4" descr="j0415452"/>
          <p:cNvPicPr/>
          <p:nvPr/>
        </p:nvPicPr>
        <p:blipFill>
          <a:blip r:embed="rId1"/>
          <a:stretch/>
        </p:blipFill>
        <p:spPr>
          <a:xfrm>
            <a:off x="4788000" y="1844640"/>
            <a:ext cx="4011480" cy="2836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77708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bd189"/>
                </a:solidFill>
                <a:latin typeface="Arial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ebd189"/>
                </a:solidFill>
                <a:latin typeface="Arial"/>
              </a:rPr>
              <a:t>за работу</a:t>
            </a:r>
            <a:r>
              <a:rPr b="1" lang="ru-RU" sz="5400" spc="-1" strike="noStrike">
                <a:solidFill>
                  <a:srgbClr val="ebd189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" name="Picture 5" descr="j0195384"/>
          <p:cNvPicPr/>
          <p:nvPr/>
        </p:nvPicPr>
        <p:blipFill>
          <a:blip r:embed="rId1"/>
          <a:stretch/>
        </p:blipFill>
        <p:spPr>
          <a:xfrm>
            <a:off x="1116000" y="2492280"/>
            <a:ext cx="3745080" cy="3886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общенная информация о результатах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фессиональной деятельности педагога дополнительного образовани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6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85760" y="2544840"/>
          <a:ext cx="7734240" cy="4052880"/>
        </p:xfrm>
        <a:graphic>
          <a:graphicData uri="http://schemas.openxmlformats.org/drawingml/2006/table">
            <a:tbl>
              <a:tblPr/>
              <a:tblGrid>
                <a:gridCol w="428760"/>
                <a:gridCol w="2038320"/>
                <a:gridCol w="2549520"/>
                <a:gridCol w="2717640"/>
              </a:tblGrid>
              <a:tr h="12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ровень, на котором распространяется собственный педагогический опыт (ОУ, муниципальный, региональный и т.д.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орма распространения собственного педагогического опыта (обобщение, презентация, выступление, открытый урок, мастер – класс)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ма представляемого педагогического опыт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квизиты подтверждающего документ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сертификата, выписки из протокола и т.д.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Районный семинар по теме: « Развитие креативного мышления средствами различных видов деятельности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ертификат участник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  <a:tr h="101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f1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Образовательный семинар по теме: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«Управление образованием прошлого, настоящего и будущего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f1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ертификат участника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f1e8"/>
                    </a:solidFill>
                  </a:tcPr>
                </a:tc>
              </a:tr>
              <a:tr h="101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еминар-практикум по теме « Организация образовательно-воспитательного процесса, ориентированного на здоровьесберегающее обучени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ертификат участник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1085760" y="187200"/>
            <a:ext cx="7967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.1. Транслирование практических результатов профессионально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еятельност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104840" y="2637000"/>
          <a:ext cx="7694640" cy="2377800"/>
        </p:xfrm>
        <a:graphic>
          <a:graphicData uri="http://schemas.openxmlformats.org/drawingml/2006/table">
            <a:tbl>
              <a:tblPr/>
              <a:tblGrid>
                <a:gridCol w="349200"/>
                <a:gridCol w="1235160"/>
                <a:gridCol w="1987560"/>
                <a:gridCol w="4122720"/>
              </a:tblGrid>
              <a:tr h="237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звание образовательной технологи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Цель применения образовательной технологи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зультат применения образовательной технологии (методическая и практическая направленность применения)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ведения о публичных мероприятиях, отражающих внедрение образовательных технологий: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 творческий отчет;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 мастер – классы;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 открытые занятия, открытые внеурочные мероприятия, т.п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нятие с использованием указанной технологии (видеозапись, размещенная на сайте ОО или представленная на других электронных носителях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-286200"/>
            <a:ext cx="732456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.2. Продуктивное использование новых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разовательных технологий</a:t>
            </a:r>
            <a:br>
              <a:rPr sz="2400"/>
            </a:br>
            <a:r>
              <a:rPr b="0" i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показатель обязателен для высшей квалификационной </a:t>
            </a:r>
            <a:br>
              <a:rPr sz="2400"/>
            </a:br>
            <a:r>
              <a:rPr b="0" i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атегории)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066680" y="3184560"/>
          <a:ext cx="7772400" cy="1463760"/>
        </p:xfrm>
        <a:graphic>
          <a:graphicData uri="http://schemas.openxmlformats.org/drawingml/2006/table">
            <a:tbl>
              <a:tblPr/>
              <a:tblGrid>
                <a:gridCol w="2578320"/>
                <a:gridCol w="2577960"/>
                <a:gridCol w="2616120"/>
              </a:tblGrid>
              <a:tr h="91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истанционные образовательные технологи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Цель применения образовательной технологии (самообразование, транслирование и обобщение опыта, обучение и т.д.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дтверждение использование данной технологи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ебинар на тему: «Теория и практика с одаренными детьми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ертификат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72043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.3. Дистанционные образовательные технологии в системе 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ы педагога 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66680" y="2770200"/>
          <a:ext cx="7772400" cy="1927080"/>
        </p:xfrm>
        <a:graphic>
          <a:graphicData uri="http://schemas.openxmlformats.org/drawingml/2006/table">
            <a:tbl>
              <a:tblPr/>
              <a:tblGrid>
                <a:gridCol w="800280"/>
                <a:gridCol w="1960560"/>
                <a:gridCol w="3068640"/>
                <a:gridCol w="1942920"/>
              </a:tblGrid>
              <a:tr h="78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од участ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ровень участ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орма участия. Темы выступлен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ыписка из протокола № от___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f1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f1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f1e8"/>
                    </a:solidFill>
                  </a:tcPr>
                </a:tc>
              </a:tr>
              <a:tr h="84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Выступление по теме: «Здоровьесберегающи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технологии на занятиях в объединении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«Гитара+»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ертификат 26.04.2017 г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236880"/>
            <a:ext cx="7539120" cy="22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.4.  Активное участие педагога дополнительного образования 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работе методических объединений 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едагогических работников организаций</a:t>
            </a:r>
            <a:br>
              <a:rPr sz="2000"/>
            </a:br>
            <a:r>
              <a:rPr b="0" i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показатель для первой квалификационной категории)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66680" y="2727360"/>
          <a:ext cx="7772400" cy="2560680"/>
        </p:xfrm>
        <a:graphic>
          <a:graphicData uri="http://schemas.openxmlformats.org/drawingml/2006/table">
            <a:tbl>
              <a:tblPr/>
              <a:tblGrid>
                <a:gridCol w="1209960"/>
                <a:gridCol w="2379600"/>
                <a:gridCol w="1687320"/>
                <a:gridCol w="249552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ровень публикаци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ОО, муниципальный, региональный, федеральный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именование публикаци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од и место опубликован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дтверждающий документ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титульный лист и страница «содержание» сборника, в котором помещена публикация, адреса сайтов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татья «Особенности работы с детьми в условиях дополнительного образования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2017 г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"/>
                        </a:rPr>
                        <a:t>http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"/>
                        </a:rPr>
                        <a:t>://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3"/>
                        </a:rPr>
                        <a:t>videouroki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4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5"/>
                        </a:rPr>
                        <a:t>net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6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7"/>
                        </a:rPr>
                        <a:t>razrabotki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8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9"/>
                        </a:rPr>
                        <a:t>osobennosti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0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1"/>
                        </a:rPr>
                        <a:t>raboty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2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3"/>
                        </a:rPr>
                        <a:t>s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4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5"/>
                        </a:rPr>
                        <a:t>diet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6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7"/>
                        </a:rPr>
                        <a:t>mi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8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19"/>
                        </a:rPr>
                        <a:t>v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0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1"/>
                        </a:rPr>
                        <a:t>usloviiakh</a:t>
                      </a:r>
                      <a:r>
                        <a:rPr b="0" lang="ru-RU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2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b97c01"/>
                          </a:solidFill>
                          <a:uFillTx/>
                          <a:latin typeface="Arial"/>
                          <a:hlinkClick r:id="rId23"/>
                        </a:rPr>
                        <a:t>dopolnitiel</a:t>
                      </a:r>
                      <a:r>
                        <a:rPr b="0" lang="ru-RU" sz="1200" spc="-1" strike="noStrike" u="sng">
                          <a:solidFill>
                            <a:srgbClr val="000054"/>
                          </a:solidFill>
                          <a:uFillTx/>
                          <a:latin typeface="Arial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000054"/>
                          </a:solidFill>
                          <a:uFillTx/>
                          <a:latin typeface="Arial"/>
                        </a:rPr>
                        <a:t>nogho</a:t>
                      </a:r>
                      <a:r>
                        <a:rPr b="0" lang="ru-RU" sz="1200" spc="-1" strike="noStrike" u="sng">
                          <a:solidFill>
                            <a:srgbClr val="000054"/>
                          </a:solidFill>
                          <a:uFillTx/>
                          <a:latin typeface="Arial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000054"/>
                          </a:solidFill>
                          <a:uFillTx/>
                          <a:latin typeface="Arial"/>
                        </a:rPr>
                        <a:t>obrazovaniia</a:t>
                      </a:r>
                      <a:r>
                        <a:rPr b="0" lang="ru-RU" sz="1200" spc="-1" strike="noStrike" u="sng">
                          <a:solidFill>
                            <a:srgbClr val="000054"/>
                          </a:solidFill>
                          <a:uFillTx/>
                          <a:latin typeface="Arial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000054"/>
                          </a:solidFill>
                          <a:uFillTx/>
                          <a:latin typeface="Arial"/>
                        </a:rPr>
                        <a:t>html</a:t>
                      </a: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 свидетельство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99701716. 03.12.17 г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66680" y="281880"/>
            <a:ext cx="62355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9040"/>
                <a:tab algn="ctr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.2. Наличие авторских (соавторских)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публикованных материалов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907560"/>
            <a:ext cx="77724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современными подходами, принципами и формами планирования и организации учебного процесс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педагог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ебования к образовательному процессу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Иметь развивающий характе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Быть разнообразн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Основываться на многообразии дополнительных образовательных програм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Базироваться на развивающих методах обучения дет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ебования к педагогу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Обладать психолого-педагогическими знания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Использовать диагностику интересов и мотивации дет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Основываться на социальном заказе обще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Отражать региональные особенности и традиц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ebd189"/>
                </a:solidFill>
                <a:latin typeface="Arial"/>
              </a:rPr>
              <a:t>чебное занятие – основная форма организации учебного процесса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ля того, чтобы занятие стало обучающим, его нужно тщательно подготовить, спланирова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b23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eb239"/>
                </a:solidFill>
                <a:latin typeface="Arial"/>
              </a:rPr>
              <a:t>Посредственный учитель излагает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b239"/>
                </a:solidFill>
                <a:latin typeface="Arial"/>
              </a:rPr>
              <a:t>Хороший учитель объясняе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b239"/>
                </a:solidFill>
                <a:latin typeface="Arial"/>
              </a:rPr>
              <a:t>Выдающийся учитель показывае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b239"/>
                </a:solidFill>
                <a:latin typeface="Arial"/>
              </a:rPr>
              <a:t>Великий учитель вдохновляе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b239"/>
                </a:solidFill>
                <a:latin typeface="Arial"/>
              </a:rPr>
              <a:t>У.Уор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bd189"/>
                </a:solidFill>
                <a:latin typeface="Arial"/>
              </a:rPr>
              <a:t>Типы занятий: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980640"/>
            <a:ext cx="7867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Изучение нового материал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Формирование умений и навыко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Закрепление и развитие знаний, умений, навыко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рименение знаний, умений, навыко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Комбинированное занят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Контрольное занят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заняти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рганизационный – проверочный – подготовительный – основной – контрольный – рефлективный – итоговый – информационны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e3b8"/>
                </a:solidFill>
                <a:latin typeface="Arial"/>
              </a:rPr>
              <a:t>Смена видов деятельности обучающих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осприятие – осмысление – запоминание – применение – обобщение – систематизац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d189"/>
                </a:solidFill>
                <a:latin typeface="Arial"/>
              </a:rPr>
              <a:t>Типичные ошибки в подготовке и проведении занятий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167652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ок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тсутствие специфики дополнительного обра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груженность занятия (показать все лучшее сразу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оминирование формы занятия над его содержание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соблюдение времени проведения занят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 творчества 3</cp:lastModifiedBy>
  <dcterms:modified xsi:type="dcterms:W3CDTF">2022-04-03T14:11:43Z</dcterms:modified>
  <cp:revision>43</cp:revision>
  <dc:subject/>
  <dc:title>PowerPoint Presentation</dc:title>
</cp:coreProperties>
</file>