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7D4-6B6E-4D41-9CDE-6A549C4A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249-D6E7-49E4-8594-B962B929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D8F-8455-4879-AFB3-56454DFE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1D0-1979-429D-95BF-6AC50A4D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307-4F63-4ECF-A656-0ED46397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EF3-B290-4876-8294-74EF01E8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C5A-D32D-4606-B0B0-F87FB7A9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485-33F5-4A63-B633-E208713D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351D-1D95-4FCD-865C-C838BFF5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767-BE71-41E4-A716-FA30B466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0A0-9100-476C-BA1E-125E35E5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45B-AAD2-49FE-82AA-9259E3B1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9563-3B65-4AAC-BEA7-78364B1E2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1203120"/>
            <a:ext cx="6696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Портфолио 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педагога-психолога </a:t>
            </a:r>
            <a:br>
              <a:rPr sz="4000"/>
            </a:b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часть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14440" y="195120"/>
            <a:ext cx="567828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Муниципальное автономное дошкольное образовательное учреждение детский сад №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ous-titre 2"/>
          <p:cNvSpPr/>
          <p:nvPr/>
        </p:nvSpPr>
        <p:spPr>
          <a:xfrm>
            <a:off x="1979640" y="4371840"/>
            <a:ext cx="5616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г.Калининград, 202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143000" y="32148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Журавлевой Анны Владимиро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Общие сведения о педагоге-психоло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space réservé du contenu 4"/>
          <p:cNvSpPr/>
          <p:nvPr/>
        </p:nvSpPr>
        <p:spPr>
          <a:xfrm>
            <a:off x="468360" y="1203480"/>
            <a:ext cx="375444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re 1"/>
          <p:cNvSpPr/>
          <p:nvPr/>
        </p:nvSpPr>
        <p:spPr>
          <a:xfrm>
            <a:off x="324000" y="915840"/>
            <a:ext cx="52560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ата рождения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02.05.1967г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именование образовательного учреждения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МАДОУ детский сад №57 г. Калининграда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щий трудовой стаж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9 лет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едагогический стаж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7 лет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данном учреждении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6 лет 6 месяцев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ысшая квалификационная категория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разование, название и год окончания учреждения профессионального образования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ысшее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ий открытый социальный университет,1998 год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пециальность, квалификация по дипло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571680" y="435780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я                псих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C:\Users\User\Desktop\20220325_123106.jpg"/>
          <p:cNvPicPr/>
          <p:nvPr/>
        </p:nvPicPr>
        <p:blipFill>
          <a:blip r:embed="rId2"/>
          <a:stretch/>
        </p:blipFill>
        <p:spPr>
          <a:xfrm>
            <a:off x="5572080" y="928800"/>
            <a:ext cx="318780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2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Работа с деть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276720" y="843120"/>
            <a:ext cx="28810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сиходиагностическое обследование и мониторинг (диагностика познавательной сферы, эмоционально-волевой, личностной, коммуникативной сферы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348000" y="235584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групповая психопрофилактическая работа (профилактика эмоционально-волевых отклонений, личностных, коммуникативных процессов и др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86080" y="4214880"/>
            <a:ext cx="2735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дивидуальная и групповая коррекционно-развивающая раб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9" descr="C:\Users\user\Desktop\Метод калейдоскоп\IMG_3086.JPG"/>
          <p:cNvPicPr/>
          <p:nvPr/>
        </p:nvPicPr>
        <p:blipFill>
          <a:blip r:embed="rId1"/>
          <a:stretch/>
        </p:blipFill>
        <p:spPr>
          <a:xfrm>
            <a:off x="0" y="1500120"/>
            <a:ext cx="331308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J:\DCIM\101MSDCF\DSC06317.JPG"/>
          <p:cNvPicPr/>
          <p:nvPr/>
        </p:nvPicPr>
        <p:blipFill>
          <a:blip r:embed="rId2"/>
          <a:stretch/>
        </p:blipFill>
        <p:spPr>
          <a:xfrm>
            <a:off x="6072120" y="1428840"/>
            <a:ext cx="29052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5" descr="IMG_031511[1].jpg"/>
          <p:cNvPicPr/>
          <p:nvPr/>
        </p:nvPicPr>
        <p:blipFill>
          <a:blip r:embed="rId1"/>
          <a:stretch/>
        </p:blipFill>
        <p:spPr>
          <a:xfrm>
            <a:off x="571680" y="500040"/>
            <a:ext cx="3519360" cy="26431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4071960" y="500040"/>
            <a:ext cx="49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И разнообразные формы и методы работы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5" descr="C:\Users\user\Desktop\Метод калейдоскоп\IMG_3101.JPG"/>
          <p:cNvPicPr/>
          <p:nvPr/>
        </p:nvPicPr>
        <p:blipFill>
          <a:blip r:embed="rId2"/>
          <a:stretch/>
        </p:blipFill>
        <p:spPr>
          <a:xfrm>
            <a:off x="4221000" y="2357280"/>
            <a:ext cx="44942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95120"/>
            <a:ext cx="438948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Работа с родител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2920" y="928800"/>
            <a:ext cx="42148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едется по направления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сиходиагностика детско-родительских отно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 (индивидуальное и группово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сихопрофилактическое и коррекционное (по коррекции детско-родительских отношени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F:\Родительский клуб\Январь\IMG_4701.JPG"/>
          <p:cNvPicPr/>
          <p:nvPr/>
        </p:nvPicPr>
        <p:blipFill>
          <a:blip r:embed="rId1"/>
          <a:stretch/>
        </p:blipFill>
        <p:spPr>
          <a:xfrm>
            <a:off x="5357880" y="2643120"/>
            <a:ext cx="3537000" cy="235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:\фото 57\IMG_1987.JPG"/>
          <p:cNvPicPr/>
          <p:nvPr/>
        </p:nvPicPr>
        <p:blipFill>
          <a:blip r:embed="rId2"/>
          <a:stretch/>
        </p:blipFill>
        <p:spPr>
          <a:xfrm>
            <a:off x="5357880" y="142920"/>
            <a:ext cx="36799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285840" y="214200"/>
            <a:ext cx="47149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ован и функционирует Родительский клуб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Гармония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Users\User\Desktop\ФОТОЧКИ\IMG_5521.JPG"/>
          <p:cNvPicPr/>
          <p:nvPr/>
        </p:nvPicPr>
        <p:blipFill>
          <a:blip r:embed="rId1"/>
          <a:stretch/>
        </p:blipFill>
        <p:spPr>
          <a:xfrm>
            <a:off x="142920" y="2000160"/>
            <a:ext cx="4392720" cy="2928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User\Desktop\родительский клуб\IMG_7014.JPG"/>
          <p:cNvPicPr/>
          <p:nvPr/>
        </p:nvPicPr>
        <p:blipFill>
          <a:blip r:embed="rId2"/>
          <a:stretch/>
        </p:blipFill>
        <p:spPr>
          <a:xfrm>
            <a:off x="4572000" y="642960"/>
            <a:ext cx="43578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35280" y="268200"/>
            <a:ext cx="46908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Работа с педагог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79280" y="700200"/>
            <a:ext cx="6107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едется по направления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сиходиагностика (диагностика эмоционального выгорания, диагностика коммуникативных функций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сультирование (индивидуальное и групповое по вопросам развития и воспитания дет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сихопрофилактическое и коррекционное (семинары, практикум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C:\Users\User\Desktop\фото сад 57\DSC05565.JPG"/>
          <p:cNvPicPr/>
          <p:nvPr/>
        </p:nvPicPr>
        <p:blipFill>
          <a:blip r:embed="rId1"/>
          <a:stretch/>
        </p:blipFill>
        <p:spPr>
          <a:xfrm>
            <a:off x="5786280" y="2571840"/>
            <a:ext cx="3237120" cy="242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C:\Users\User\Desktop\фото для аттестации\IMG_3216.JPG"/>
          <p:cNvPicPr/>
          <p:nvPr/>
        </p:nvPicPr>
        <p:blipFill>
          <a:blip r:embed="rId2"/>
          <a:stretch/>
        </p:blipFill>
        <p:spPr>
          <a:xfrm>
            <a:off x="6143760" y="285840"/>
            <a:ext cx="2912760" cy="207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:\Users\User\Desktop\ФОТОЧКИ\IMG_5423.JPG"/>
          <p:cNvPicPr/>
          <p:nvPr/>
        </p:nvPicPr>
        <p:blipFill>
          <a:blip r:embed="rId3"/>
          <a:stretch/>
        </p:blipFill>
        <p:spPr>
          <a:xfrm>
            <a:off x="1785960" y="2571840"/>
            <a:ext cx="360828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еминары с педагог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User\Desktop\Новый год 2019\20190313_131612.jpg"/>
          <p:cNvPicPr/>
          <p:nvPr/>
        </p:nvPicPr>
        <p:blipFill>
          <a:blip r:embed="rId1"/>
          <a:stretch/>
        </p:blipFill>
        <p:spPr>
          <a:xfrm>
            <a:off x="357120" y="12142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User\Desktop\20190410_132542.jpg"/>
          <p:cNvPicPr/>
          <p:nvPr/>
        </p:nvPicPr>
        <p:blipFill>
          <a:blip r:embed="rId2"/>
          <a:stretch/>
        </p:blipFill>
        <p:spPr>
          <a:xfrm>
            <a:off x="3768840" y="-10429920"/>
            <a:ext cx="4875120" cy="650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User\Desktop\20190430_135214.jpg"/>
          <p:cNvPicPr/>
          <p:nvPr/>
        </p:nvPicPr>
        <p:blipFill>
          <a:blip r:embed="rId3"/>
          <a:stretch/>
        </p:blipFill>
        <p:spPr>
          <a:xfrm>
            <a:off x="5857920" y="1000080"/>
            <a:ext cx="301788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54:37Z</dcterms:created>
  <dc:creator>ppsworld.ru</dc:creator>
  <dc:description/>
  <dc:language>en-US</dc:language>
  <cp:lastModifiedBy>User</cp:lastModifiedBy>
  <dcterms:modified xsi:type="dcterms:W3CDTF">2022-04-02T08:59:55Z</dcterms:modified>
  <cp:revision>263</cp:revision>
  <dc:subject/>
  <dc:title>PRESENTATION  NAME</dc:title>
</cp:coreProperties>
</file>