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EC3B-A028-4FD8-A8B6-FE4884E245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8196-1830-41A8-B7A9-138BD91815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BDE2-0101-4E78-90F4-AA9FB029BF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2A0-4186-4F89-8BA5-029D1167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CBF-C59B-415B-89A9-F1F6445F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44F-1D06-4F8B-883A-91CC32CF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3E2-7EE6-4E06-BEF8-CE878A0C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3A0-6B0E-460A-9EEA-FE199C14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8D6-F00F-4BC2-BF6E-FD807E08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B99-7E07-4A3E-A727-3AD9D599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C5F-2487-401C-9923-FFC6FD02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D26-C95D-4004-B1F4-F77E9046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2AF-DB40-4964-96B1-63916695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BA7-1670-451D-BC5F-DF56CCD4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CD8-382D-4C05-B789-E472A047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3F6D-A6EB-4997-BF1A-5F9A81B9E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640" y="1203120"/>
            <a:ext cx="6696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Портфолио 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педагога-психолога</a:t>
            </a:r>
            <a:br>
              <a:rPr sz="4000"/>
            </a:b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часть 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14440" y="195120"/>
            <a:ext cx="567828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Муниципальное автономное дошкольное образовательное учреждение детский сад №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ous-titre 2"/>
          <p:cNvSpPr/>
          <p:nvPr/>
        </p:nvSpPr>
        <p:spPr>
          <a:xfrm>
            <a:off x="1979640" y="4371840"/>
            <a:ext cx="5616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г.Калининград, 2022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000080" y="321480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Журавлевой Анны Владимиров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Мо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920" y="1428840"/>
            <a:ext cx="485784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Благодарственное письмо «Института развития образования» за высокий профессионализм и активное участие в проведении обучающих мероприятий в рамках курсов профессиональной переподготовке педагогических работников г. Калининграда и Калининградской области (2016г.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Диплом победителя заочного дистанционного конкурса специалистов психолого-педагогических служб общеобразовательных учреждений «Методический калейдоскоп» в номинации «Методическое пособие» (2016г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User\Desktop\Для портфолио\благодарственное пистмо.jpeg"/>
          <p:cNvPicPr/>
          <p:nvPr/>
        </p:nvPicPr>
        <p:blipFill>
          <a:blip r:embed="rId1"/>
          <a:stretch/>
        </p:blipFill>
        <p:spPr>
          <a:xfrm rot="795600">
            <a:off x="6976800" y="596520"/>
            <a:ext cx="1752480" cy="249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User\Desktop\Для портфолио\диплом - 1.jpeg"/>
          <p:cNvPicPr/>
          <p:nvPr/>
        </p:nvPicPr>
        <p:blipFill>
          <a:blip r:embed="rId2"/>
          <a:stretch/>
        </p:blipFill>
        <p:spPr>
          <a:xfrm rot="20182800">
            <a:off x="5268960" y="2315880"/>
            <a:ext cx="17222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7120" y="206280"/>
            <a:ext cx="832968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Повышение квалифик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C:\Users\User\Desktop\для сайта\ce51920e9194f3aad682d70c8a72175c - копия.png"/>
          <p:cNvPicPr/>
          <p:nvPr/>
        </p:nvPicPr>
        <p:blipFill>
          <a:blip r:embed="rId1"/>
          <a:stretch/>
        </p:blipFill>
        <p:spPr>
          <a:xfrm>
            <a:off x="285840" y="1143000"/>
            <a:ext cx="2801880" cy="19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Users\User\Desktop\для сайта\3554b394ba793cb7290a433148fd1eee.png"/>
          <p:cNvPicPr/>
          <p:nvPr/>
        </p:nvPicPr>
        <p:blipFill>
          <a:blip r:embed="rId2"/>
          <a:stretch/>
        </p:blipFill>
        <p:spPr>
          <a:xfrm>
            <a:off x="5786280" y="1143000"/>
            <a:ext cx="2608560" cy="184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User\Desktop\АПТ - 6.jpeg"/>
          <p:cNvPicPr/>
          <p:nvPr/>
        </p:nvPicPr>
        <p:blipFill>
          <a:blip r:embed="rId3"/>
          <a:stretch/>
        </p:blipFill>
        <p:spPr>
          <a:xfrm>
            <a:off x="3214800" y="1857240"/>
            <a:ext cx="2252520" cy="313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User\Desktop\142347.jpg"/>
          <p:cNvPicPr/>
          <p:nvPr/>
        </p:nvPicPr>
        <p:blipFill>
          <a:blip r:embed="rId4"/>
          <a:stretch/>
        </p:blipFill>
        <p:spPr>
          <a:xfrm>
            <a:off x="500040" y="3214800"/>
            <a:ext cx="2500200" cy="176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User\Desktop\вебинары вложения\сертификаты вебинаров\142368.jpg"/>
          <p:cNvPicPr/>
          <p:nvPr/>
        </p:nvPicPr>
        <p:blipFill>
          <a:blip r:embed="rId5"/>
          <a:stretch/>
        </p:blipFill>
        <p:spPr>
          <a:xfrm>
            <a:off x="5929200" y="3143160"/>
            <a:ext cx="265608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Users\User\Desktop\ЛУЧ.jpeg"/>
          <p:cNvPicPr/>
          <p:nvPr/>
        </p:nvPicPr>
        <p:blipFill>
          <a:blip r:embed="rId1"/>
          <a:stretch/>
        </p:blipFill>
        <p:spPr>
          <a:xfrm rot="20228400">
            <a:off x="720720" y="414360"/>
            <a:ext cx="1932120" cy="263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User\Desktop\ПЕДАГОГИ.ОНЛАЙН.jpeg"/>
          <p:cNvPicPr/>
          <p:nvPr/>
        </p:nvPicPr>
        <p:blipFill>
          <a:blip r:embed="rId2"/>
          <a:stretch/>
        </p:blipFill>
        <p:spPr>
          <a:xfrm rot="1804800">
            <a:off x="6408360" y="2401920"/>
            <a:ext cx="1668600" cy="2360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User\Desktop\справка-1.jpeg"/>
          <p:cNvPicPr/>
          <p:nvPr/>
        </p:nvPicPr>
        <p:blipFill>
          <a:blip r:embed="rId3"/>
          <a:stretch/>
        </p:blipFill>
        <p:spPr>
          <a:xfrm>
            <a:off x="4357800" y="500040"/>
            <a:ext cx="2297160" cy="1825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User\Desktop\справка-2.jpeg"/>
          <p:cNvPicPr/>
          <p:nvPr/>
        </p:nvPicPr>
        <p:blipFill>
          <a:blip r:embed="rId4"/>
          <a:stretch/>
        </p:blipFill>
        <p:spPr>
          <a:xfrm>
            <a:off x="3071880" y="2714760"/>
            <a:ext cx="26924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User\Desktop\ПМПК - Семаго.jpeg"/>
          <p:cNvPicPr/>
          <p:nvPr/>
        </p:nvPicPr>
        <p:blipFill>
          <a:blip r:embed="rId1"/>
          <a:stretch/>
        </p:blipFill>
        <p:spPr>
          <a:xfrm>
            <a:off x="500040" y="357120"/>
            <a:ext cx="2714760" cy="190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User\Desktop\Аутисты - Семаго.jpeg"/>
          <p:cNvPicPr/>
          <p:nvPr/>
        </p:nvPicPr>
        <p:blipFill>
          <a:blip r:embed="rId2"/>
          <a:stretch/>
        </p:blipFill>
        <p:spPr>
          <a:xfrm>
            <a:off x="5715000" y="2928960"/>
            <a:ext cx="3016080" cy="2116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User\Desktop\вебинары вложения\сертификаты вебинаров\142368.jpg"/>
          <p:cNvPicPr/>
          <p:nvPr/>
        </p:nvPicPr>
        <p:blipFill>
          <a:blip r:embed="rId3"/>
          <a:stretch/>
        </p:blipFill>
        <p:spPr>
          <a:xfrm>
            <a:off x="4357800" y="214200"/>
            <a:ext cx="3538440" cy="2500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User\Desktop\вебинары вложения\сертификаты вебинаров\142368.jpg"/>
          <p:cNvPicPr/>
          <p:nvPr/>
        </p:nvPicPr>
        <p:blipFill>
          <a:blip r:embed="rId4"/>
          <a:stretch/>
        </p:blipFill>
        <p:spPr>
          <a:xfrm>
            <a:off x="1000080" y="2500200"/>
            <a:ext cx="3436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54:37Z</dcterms:created>
  <dc:creator>ppsworld.ru</dc:creator>
  <dc:description/>
  <dc:language>en-US</dc:language>
  <cp:lastModifiedBy>User</cp:lastModifiedBy>
  <dcterms:modified xsi:type="dcterms:W3CDTF">2022-04-02T09:30:43Z</dcterms:modified>
  <cp:revision>270</cp:revision>
  <dc:subject/>
  <dc:title>PRESENTATION  NAME</dc:title>
</cp:coreProperties>
</file>