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6.jpeg" ContentType="image/jpeg"/>
  <Override PartName="/ppt/media/image10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1A4F3-308C-494F-AE83-3AEC6FEC99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B5B6F-78A3-4CCD-B4C7-0823C995DF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B53B8-B653-4F49-AAA9-604757C65B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4D81-E1B5-4782-8DA0-DF2C4DBEC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A94D-0248-433D-A010-16C4FFB77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1ECB-C89C-4E4F-B8D1-6AA0888AE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62F1-AB93-4991-860A-B79910AF1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F912-3FB8-41A0-B80C-B4ADFB1C6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6E30-644D-472A-9542-D0C3587C6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4EF6-8369-4ED4-9A89-8F25F8153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E3D7-F78C-4932-9B58-799195F7B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96F6-8BC3-401A-8EBC-49EED1F89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CB4B-59AB-4E79-9399-3AEE2447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6598-BD2A-497F-A1A8-062687DDC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5D46-A9AB-45CF-8873-8A7A068D7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710D1-4AEC-46E8-BC84-11421B98B4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63640" y="1203120"/>
            <a:ext cx="6696000" cy="18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Times New Roman"/>
              </a:rPr>
              <a:t>Портфолио </a:t>
            </a:r>
            <a:br>
              <a:rPr sz="4000"/>
            </a:br>
            <a:r>
              <a:rPr b="1" i="1" lang="ru-RU" sz="4000" spc="-1" strike="noStrike">
                <a:solidFill>
                  <a:srgbClr val="0000ff"/>
                </a:solidFill>
                <a:latin typeface="Times New Roman"/>
              </a:rPr>
              <a:t>педагога-психолога </a:t>
            </a:r>
            <a:br>
              <a:rPr sz="4000"/>
            </a:b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часть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214440" y="195120"/>
            <a:ext cx="567828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Times New Roman"/>
              </a:rPr>
              <a:t>Муниципальное автономное дошкольное образовательное учреждение детский сад №5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ous-titre 2"/>
          <p:cNvSpPr/>
          <p:nvPr/>
        </p:nvSpPr>
        <p:spPr>
          <a:xfrm>
            <a:off x="1979640" y="4371840"/>
            <a:ext cx="5616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Times New Roman"/>
              </a:rPr>
              <a:t>г.Калининград, 2022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1079640" y="3286080"/>
            <a:ext cx="80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Times New Roman"/>
              </a:rPr>
              <a:t>Журавлевой Анны Владимиров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4"/>
          <p:cNvSpPr/>
          <p:nvPr/>
        </p:nvSpPr>
        <p:spPr>
          <a:xfrm>
            <a:off x="2571840" y="28584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вышение квалифик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:\Users\User\Desktop\для сайта\повышение квалификации\квалификация.jpeg"/>
          <p:cNvPicPr/>
          <p:nvPr/>
        </p:nvPicPr>
        <p:blipFill>
          <a:blip r:embed="rId1"/>
          <a:stretch/>
        </p:blipFill>
        <p:spPr>
          <a:xfrm>
            <a:off x="5072040" y="714240"/>
            <a:ext cx="2911320" cy="2032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User\Desktop\для сайта\повышение квалификации\квалификация.jpeg"/>
          <p:cNvPicPr/>
          <p:nvPr/>
        </p:nvPicPr>
        <p:blipFill>
          <a:blip r:embed="rId2"/>
          <a:stretch/>
        </p:blipFill>
        <p:spPr>
          <a:xfrm>
            <a:off x="571680" y="928800"/>
            <a:ext cx="2786040" cy="1944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Users\User\Desktop\удостоверение.jpeg"/>
          <p:cNvPicPr/>
          <p:nvPr/>
        </p:nvPicPr>
        <p:blipFill>
          <a:blip r:embed="rId3"/>
          <a:stretch/>
        </p:blipFill>
        <p:spPr>
          <a:xfrm>
            <a:off x="5786280" y="2928960"/>
            <a:ext cx="3000600" cy="2079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4"/>
          <a:stretch/>
        </p:blipFill>
        <p:spPr>
          <a:xfrm>
            <a:off x="1714680" y="2928960"/>
            <a:ext cx="307152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2920" y="1928880"/>
            <a:ext cx="447192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шла семинар «Организация образовательного процесса обучающихся с ОВЗ в условиях специального и инклюзивного образования» в объеме 8час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 rot="20804400">
            <a:off x="4971600" y="998280"/>
            <a:ext cx="3552840" cy="24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357120" y="477720"/>
            <a:ext cx="2230560" cy="3165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C:\Users\User\Desktop\для сайта\повышение квалификации\Суицид.jpeg"/>
          <p:cNvPicPr/>
          <p:nvPr/>
        </p:nvPicPr>
        <p:blipFill>
          <a:blip r:embed="rId2"/>
          <a:stretch/>
        </p:blipFill>
        <p:spPr>
          <a:xfrm>
            <a:off x="3143160" y="2205000"/>
            <a:ext cx="3357720" cy="2335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C:\Users\User\Desktop\для сайта\повышение квалификации\последстваия травм.png"/>
          <p:cNvPicPr/>
          <p:nvPr/>
        </p:nvPicPr>
        <p:blipFill>
          <a:blip r:embed="rId3"/>
          <a:stretch/>
        </p:blipFill>
        <p:spPr>
          <a:xfrm>
            <a:off x="6858000" y="500040"/>
            <a:ext cx="200016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57120" y="206280"/>
            <a:ext cx="8329680" cy="8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Times New Roman"/>
              </a:rPr>
              <a:t>Экспертная деятель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5" descr="C:\Users\User\Desktop\для сайта\выписки\выписка 21 -1.jpeg"/>
          <p:cNvPicPr/>
          <p:nvPr/>
        </p:nvPicPr>
        <p:blipFill>
          <a:blip r:embed="rId1"/>
          <a:stretch/>
        </p:blipFill>
        <p:spPr>
          <a:xfrm>
            <a:off x="6072120" y="1000080"/>
            <a:ext cx="2874960" cy="4043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"/>
          <p:cNvPicPr/>
          <p:nvPr/>
        </p:nvPicPr>
        <p:blipFill>
          <a:blip r:embed="rId2"/>
          <a:stretch/>
        </p:blipFill>
        <p:spPr>
          <a:xfrm>
            <a:off x="3143160" y="1071720"/>
            <a:ext cx="2587680" cy="3695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C:\Users\User\Desktop\суицид.jpeg"/>
          <p:cNvPicPr/>
          <p:nvPr/>
        </p:nvPicPr>
        <p:blipFill>
          <a:blip r:embed="rId3"/>
          <a:stretch/>
        </p:blipFill>
        <p:spPr>
          <a:xfrm>
            <a:off x="214200" y="1143000"/>
            <a:ext cx="262440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ризёр конкурса «Специалист года – 2018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C:\Users\User\Desktop\IMG-ea7c2ac17a639355b44914281c3bda50-V.jpg"/>
          <p:cNvPicPr/>
          <p:nvPr/>
        </p:nvPicPr>
        <p:blipFill>
          <a:blip r:embed="rId1"/>
          <a:stretch/>
        </p:blipFill>
        <p:spPr>
          <a:xfrm>
            <a:off x="1643040" y="1000080"/>
            <a:ext cx="3000240" cy="4000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C:\Users\User\Desktop\Рисунок (117).jpg"/>
          <p:cNvPicPr/>
          <p:nvPr/>
        </p:nvPicPr>
        <p:blipFill>
          <a:blip r:embed="rId2"/>
          <a:stretch/>
        </p:blipFill>
        <p:spPr>
          <a:xfrm>
            <a:off x="5000760" y="1214280"/>
            <a:ext cx="256356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42960" y="205920"/>
            <a:ext cx="804384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одительский клуб – 20 г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C:\Users\User\Desktop\20190201_175050_001.jpg"/>
          <p:cNvPicPr/>
          <p:nvPr/>
        </p:nvPicPr>
        <p:blipFill>
          <a:blip r:embed="rId1"/>
          <a:stretch/>
        </p:blipFill>
        <p:spPr>
          <a:xfrm>
            <a:off x="3143160" y="1428840"/>
            <a:ext cx="2571840" cy="3429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C:\Users\User\Desktop\20190220_174156.jpg"/>
          <p:cNvPicPr/>
          <p:nvPr/>
        </p:nvPicPr>
        <p:blipFill>
          <a:blip r:embed="rId2"/>
          <a:stretch/>
        </p:blipFill>
        <p:spPr>
          <a:xfrm>
            <a:off x="5929200" y="1357200"/>
            <a:ext cx="3071880" cy="2303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C:\Users\User\Desktop\20190321_174434_015.jpg"/>
          <p:cNvPicPr/>
          <p:nvPr/>
        </p:nvPicPr>
        <p:blipFill>
          <a:blip r:embed="rId3"/>
          <a:stretch/>
        </p:blipFill>
        <p:spPr>
          <a:xfrm>
            <a:off x="214200" y="1000080"/>
            <a:ext cx="2554560" cy="34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чемучки - знай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C:\Users\User\Desktop\Новый год 2019\20190314_095911.jpg"/>
          <p:cNvPicPr/>
          <p:nvPr/>
        </p:nvPicPr>
        <p:blipFill>
          <a:blip r:embed="rId1"/>
          <a:stretch/>
        </p:blipFill>
        <p:spPr>
          <a:xfrm>
            <a:off x="142920" y="1357200"/>
            <a:ext cx="4643280" cy="3483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C:\Users\User\Desktop\Новый год 2019\20190314_100643.jpg"/>
          <p:cNvPicPr/>
          <p:nvPr/>
        </p:nvPicPr>
        <p:blipFill>
          <a:blip r:embed="rId2"/>
          <a:stretch/>
        </p:blipFill>
        <p:spPr>
          <a:xfrm>
            <a:off x="5000760" y="1928880"/>
            <a:ext cx="40003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7T09:54:37Z</dcterms:created>
  <dc:creator>ppsworld.ru</dc:creator>
  <dc:description/>
  <dc:language>en-US</dc:language>
  <cp:lastModifiedBy>User</cp:lastModifiedBy>
  <dcterms:modified xsi:type="dcterms:W3CDTF">2022-04-02T09:09:43Z</dcterms:modified>
  <cp:revision>271</cp:revision>
  <dc:subject/>
  <dc:title>PRESENTATION  NAME</dc:title>
</cp:coreProperties>
</file>