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4A9-8BF2-4860-A599-5DC9ED5F8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C2E-724A-45EA-B579-190B9A37B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BA8-1C60-4BF8-9082-2AB5B99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530-1D31-4618-A096-1D80A50A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998-C362-46A7-BB31-57ED4AB3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622-6C5D-4F06-BD1D-B6A1C639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79E-E5AA-4237-A99F-6B7EEEE8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C4A-D0D7-4F69-9B3B-E58209F1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B4E-8AC7-4049-85AC-63A987AA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756-7769-46FC-AD2D-14390F5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47B-3623-4D88-B905-A8F7436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2CD-C1D2-4091-963D-1049055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736-7596-4282-96FF-23F7896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177-3BD9-4155-BBA3-1CAA6411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17E-8EF4-467C-A2CE-0FCDAC376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1203120"/>
            <a:ext cx="6696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ртфолио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едагога-психолога </a:t>
            </a:r>
            <a:br>
              <a:rPr sz="40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часть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28920" y="194760"/>
            <a:ext cx="64641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Муниципальное автономное образовательное учреждение средняя образовательная школа №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ous-titre 2"/>
          <p:cNvSpPr/>
          <p:nvPr/>
        </p:nvSpPr>
        <p:spPr>
          <a:xfrm>
            <a:off x="1979640" y="4371840"/>
            <a:ext cx="5616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г.Калининград, 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79640" y="32860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уравлевой Анны Владимир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071960" y="2142720"/>
            <a:ext cx="49291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User\Desktop\20220401_103654.jpg"/>
          <p:cNvPicPr/>
          <p:nvPr/>
        </p:nvPicPr>
        <p:blipFill>
          <a:blip r:embed="rId1"/>
          <a:stretch/>
        </p:blipFill>
        <p:spPr>
          <a:xfrm>
            <a:off x="357120" y="214200"/>
            <a:ext cx="35006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71800" y="142560"/>
            <a:ext cx="43574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для сайта\повышение квалификации\квалификация.jpeg"/>
          <p:cNvPicPr/>
          <p:nvPr/>
        </p:nvPicPr>
        <p:blipFill>
          <a:blip r:embed="rId1"/>
          <a:stretch/>
        </p:blipFill>
        <p:spPr>
          <a:xfrm>
            <a:off x="428760" y="1000080"/>
            <a:ext cx="2652480" cy="185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286680" y="933480"/>
            <a:ext cx="2595240" cy="17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286080" y="2978280"/>
            <a:ext cx="2857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928520" cy="273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User\Desktop\для сайта\повышение квалификации\Суицид.jpeg"/>
          <p:cNvPicPr/>
          <p:nvPr/>
        </p:nvPicPr>
        <p:blipFill>
          <a:blip r:embed="rId2"/>
          <a:stretch/>
        </p:blipFill>
        <p:spPr>
          <a:xfrm>
            <a:off x="3125880" y="2571840"/>
            <a:ext cx="2830320" cy="19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User\Desktop\для сайта\повышение квалификации\последстваия травм.png"/>
          <p:cNvPicPr/>
          <p:nvPr/>
        </p:nvPicPr>
        <p:blipFill>
          <a:blip r:embed="rId3"/>
          <a:stretch/>
        </p:blipFill>
        <p:spPr>
          <a:xfrm>
            <a:off x="6715080" y="571680"/>
            <a:ext cx="20718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06280"/>
            <a:ext cx="83296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ксперт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3143160" y="1071720"/>
            <a:ext cx="2587680" cy="36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User\Desktop\суицид.jpeg"/>
          <p:cNvPicPr/>
          <p:nvPr/>
        </p:nvPicPr>
        <p:blipFill>
          <a:blip r:embed="rId2"/>
          <a:stretch/>
        </p:blipFill>
        <p:spPr>
          <a:xfrm>
            <a:off x="214200" y="1143000"/>
            <a:ext cx="2624400" cy="3786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User\Desktop\депрессия.jpeg"/>
          <p:cNvPicPr/>
          <p:nvPr/>
        </p:nvPicPr>
        <p:blipFill>
          <a:blip r:embed="rId3"/>
          <a:stretch/>
        </p:blipFill>
        <p:spPr>
          <a:xfrm>
            <a:off x="5929200" y="1643040"/>
            <a:ext cx="2987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работаны и внедрены профилактические тренинги с подрост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User\Desktop\20211214_134235.jpg"/>
          <p:cNvPicPr/>
          <p:nvPr/>
        </p:nvPicPr>
        <p:blipFill>
          <a:blip r:embed="rId1"/>
          <a:stretch/>
        </p:blipFill>
        <p:spPr>
          <a:xfrm>
            <a:off x="1071720" y="1500120"/>
            <a:ext cx="2714400" cy="3297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User\Desktop\20220401_103639.jpg"/>
          <p:cNvPicPr/>
          <p:nvPr/>
        </p:nvPicPr>
        <p:blipFill>
          <a:blip r:embed="rId2"/>
          <a:stretch/>
        </p:blipFill>
        <p:spPr>
          <a:xfrm>
            <a:off x="5357880" y="1571760"/>
            <a:ext cx="23414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1285920" y="21420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имущества групповых форм работы с подрос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5840" y="928800"/>
            <a:ext cx="3143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можность взглянуть на свои проблемы «глазами други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чение безоценочной обратной связи и поддерж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е устойчивой положительной самооценки и уверен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:\БГА фото\свежие\20170331_133217.jpg"/>
          <p:cNvPicPr/>
          <p:nvPr/>
        </p:nvPicPr>
        <p:blipFill>
          <a:blip r:embed="rId1"/>
          <a:stretch/>
        </p:blipFill>
        <p:spPr>
          <a:xfrm>
            <a:off x="4357800" y="1500120"/>
            <a:ext cx="4091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5"/>
          <p:cNvSpPr/>
          <p:nvPr/>
        </p:nvSpPr>
        <p:spPr>
          <a:xfrm>
            <a:off x="5715000" y="1143000"/>
            <a:ext cx="328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работка механизмов саморегуляции на основе сознательного волевого усил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способы поведения, выхода из труд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ser\Desktop\a2584f199f08eb8b1859.jpg"/>
          <p:cNvPicPr/>
          <p:nvPr/>
        </p:nvPicPr>
        <p:blipFill>
          <a:blip r:embed="rId1"/>
          <a:stretch/>
        </p:blipFill>
        <p:spPr>
          <a:xfrm>
            <a:off x="785880" y="1428840"/>
            <a:ext cx="343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1771200" y="428760"/>
            <a:ext cx="54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ы и формы работы на трени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428760" y="1143000"/>
            <a:ext cx="364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из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 кей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у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ле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зговой шту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одр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лаксационны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арт-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:\БГА фото\Новая папка\DSC01158.JPG"/>
          <p:cNvPicPr/>
          <p:nvPr/>
        </p:nvPicPr>
        <p:blipFill>
          <a:blip r:embed="rId1"/>
          <a:stretch/>
        </p:blipFill>
        <p:spPr>
          <a:xfrm>
            <a:off x="4929120" y="1768320"/>
            <a:ext cx="36244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вляюсь руководителем проектной деятельности старшекласс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User\Desktop\20220317_122409.jpg"/>
          <p:cNvPicPr/>
          <p:nvPr/>
        </p:nvPicPr>
        <p:blipFill>
          <a:blip r:embed="rId1"/>
          <a:stretch/>
        </p:blipFill>
        <p:spPr>
          <a:xfrm>
            <a:off x="4286160" y="1643040"/>
            <a:ext cx="4029120" cy="3021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Desktop\20211007_150230.jpg"/>
          <p:cNvPicPr/>
          <p:nvPr/>
        </p:nvPicPr>
        <p:blipFill>
          <a:blip r:embed="rId2"/>
          <a:stretch/>
        </p:blipFill>
        <p:spPr>
          <a:xfrm>
            <a:off x="1071720" y="1952640"/>
            <a:ext cx="20397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22-04-02T09:15:45Z</dcterms:modified>
  <cp:revision>287</cp:revision>
  <dc:subject/>
  <dc:title>PRESENTATION  NAME</dc:title>
</cp:coreProperties>
</file>