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75D81-2B2D-4991-A780-36C7F0B23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F95D-BF2F-4764-91E9-6B25F381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C072B-74DC-4F0A-9CFE-E31D6BDA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630B9-581B-4930-8307-3D9CC40FC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336F9-9AE3-42B2-88AF-9E149B5C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8DFDC-84CF-405F-A2A8-4B443FD8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90D7A-3622-4849-BF16-8DC2F439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35912-A252-41AA-8692-15E3112E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25AFF-C64B-4036-BEC6-3865DAD31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C075-E9DA-4C7F-895C-973B9825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D396-508A-45A6-91A0-CB74046F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AE1E-3AFA-4CD4-8B57-F179F0A48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D295-8E16-472B-9317-717034C8903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7132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PT Sans"/>
              </a:rPr>
              <a:t>ДИСПУТ</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42640" y="2286000"/>
            <a:ext cx="6729480" cy="3571920"/>
          </a:xfrm>
          <a:prstGeom prst="rect">
            <a:avLst/>
          </a:prstGeom>
          <a:noFill/>
          <a:ln w="0">
            <a:noFill/>
          </a:ln>
        </p:spPr>
        <p:txBody>
          <a:bodyPr anchor="t">
            <a:noAutofit/>
          </a:bodyPr>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Times New Roman"/>
                <a:ea typeface="Times New Roman"/>
              </a:rPr>
              <a:t>на тему:</a:t>
            </a:r>
            <a:endParaRPr b="0" lang="en-US" sz="3700" spc="-1" strike="noStrike">
              <a:solidFill>
                <a:srgbClr val="000000"/>
              </a:solidFill>
              <a:latin typeface="Calibri"/>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Times New Roman"/>
                <a:ea typeface="Times New Roman"/>
              </a:rPr>
              <a:t>«</a:t>
            </a:r>
            <a:r>
              <a:rPr b="1" lang="ru-RU" sz="4100" spc="-1" strike="noStrike" u="sng">
                <a:solidFill>
                  <a:srgbClr val="000000"/>
                </a:solidFill>
                <a:uFillTx/>
                <a:latin typeface="Times New Roman"/>
                <a:ea typeface="Times New Roman"/>
              </a:rPr>
              <a:t>Нравственный стержень человека – в чем он?</a:t>
            </a:r>
            <a:r>
              <a:rPr b="1" lang="ru-RU" sz="3700" spc="-1" strike="noStrike">
                <a:solidFill>
                  <a:srgbClr val="000000"/>
                </a:solidFill>
                <a:latin typeface="Times New Roman"/>
                <a:ea typeface="Times New Roman"/>
              </a:rPr>
              <a:t>»</a:t>
            </a:r>
            <a:endParaRPr b="0" lang="en-US" sz="37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ru-RU" sz="2200" spc="-1" strike="noStrike">
                <a:solidFill>
                  <a:srgbClr val="000000"/>
                </a:solidFill>
                <a:latin typeface="Times New Roman"/>
                <a:ea typeface="Times New Roman"/>
              </a:rPr>
              <a:t>Касимов, 2022г.</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Объект 3" descr="https://sun1-93.userapi.com/c854428/v854428208/174908/YUiPYG8ryQU.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Объект 3" descr="https://www.factroom.ru/wp-content/uploads/2016/09/03-4.jpg"/>
          <p:cNvPicPr/>
          <p:nvPr/>
        </p:nvPicPr>
        <p:blipFill>
          <a:blip r:embed="rId1"/>
          <a:srcRect l="1793" t="0" r="0" b="11765"/>
          <a:stretch/>
        </p:blipFill>
        <p:spPr>
          <a:xfrm>
            <a:off x="2373480" y="1887480"/>
            <a:ext cx="4397040" cy="395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Объект 3" descr="http://rusnakoleg.com/wp-content/uploads/2016/05/22-4.jpg"/>
          <p:cNvPicPr/>
          <p:nvPr/>
        </p:nvPicPr>
        <p:blipFill>
          <a:blip r:embed="rId1"/>
          <a:srcRect l="0" t="0" r="246" b="14365"/>
          <a:stretch/>
        </p:blipFill>
        <p:spPr>
          <a:xfrm>
            <a:off x="457200" y="2017800"/>
            <a:ext cx="8229600" cy="36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Объект 3" descr="https://rognowsky.ru/wp-content/uploads/2021/08/obu4.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 name="Объект 3" descr="https://psy-files.ru/wp-content/uploads/d/b/2/db2c8f112904e6a994418a27d9512132.jpeg"/>
          <p:cNvPicPr/>
          <p:nvPr/>
        </p:nvPicPr>
        <p:blipFill>
          <a:blip r:embed="rId1"/>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Рисунок 3" descr="https://i.ytimg.com/vi/nbqhVTWQ0GE/maxresdefault.jpg"/>
          <p:cNvPicPr/>
          <p:nvPr/>
        </p:nvPicPr>
        <p:blipFill>
          <a:blip r:embed="rId2"/>
          <a:stretch/>
        </p:blipFill>
        <p:spPr>
          <a:xfrm>
            <a:off x="2514600" y="2271600"/>
            <a:ext cx="443376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Объект 3" descr="https://www.culture.ru/storage/images/8f84b302c0e50c724be40ed4f17d18c7/fac82eedee4607cd283fe386188f2500.jpeg"/>
          <p:cNvPicPr/>
          <p:nvPr/>
        </p:nvPicPr>
        <p:blipFill>
          <a:blip r:embed="rId1"/>
          <a:stretch/>
        </p:blipFill>
        <p:spPr>
          <a:xfrm>
            <a:off x="457200" y="1703520"/>
            <a:ext cx="8229600" cy="43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Объект 3" descr="https://avatars.mds.yandex.net/get-zen-pub-og/218323/pub_5bcb0bfd944c5300b8f63e0f_5bcb0bfd944c5300b8f63e10/orig"/>
          <p:cNvPicPr/>
          <p:nvPr/>
        </p:nvPicPr>
        <p:blipFill>
          <a:blip r:embed="rId1"/>
          <a:srcRect l="0" t="0" r="-1713" b="30926"/>
          <a:stretch/>
        </p:blipFill>
        <p:spPr>
          <a:xfrm>
            <a:off x="755640" y="2395440"/>
            <a:ext cx="7931160" cy="276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СПАСИБО </a:t>
            </a: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ЗА </a:t>
            </a: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ВНИМАНИ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 начинается с человека и заканчивается человеком. Никакие улучшения в структуре управления, экономике, технологиях… не помогут, если мы сами останемся прежними, с тем мировосприятием и теми представлениями, которое завели нас в сегодняшний тупик. Но по какому критерию можно отличить старые, изжившие себя общественные явления от тех прогрессивных и нарождающихся, которые так нужны сейчас? Скорее всего – это нравственный стержень, нравственное чувство.</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Объект 4" descr="https://ds02.infourok.ru/uploads/ex/0b3c/00074ab3-fd70b877/img19.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 понятие нравственности требует, в этой связи, более точного определения. Часто его путают с моралью, которая представляет собой свод чисто внешних правил, в то время, как нравственность есть глубоко внутреннее (врожденное) свойство человека. Мораль действует пока человек обусловлен социумом с его жестким набором предписаний. Поэтому наличие или отсутствие нравственного стержня становится заметным в экстренных (нештатных) ситуациях. Сегодня, благодаря кризису, вся наша жизнь начинает походить на одну непрекращающуюся нештатную ситуацию. Самые обычные и заурядные жизненные проблемы могут повлечь гораздо более серьезные последствия, чем раньше. К примеру, если раньше увольнение было чревато лишь менее престижной работой или меньшей зарплатой, то сегодня это может превратиться в крушение всех жизненных планов и даже поставить семью на грань выживания.</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0" name="Объект 3" descr="https://cdnimg.rg.ru/img/content/157/96/35/5645_d_850.jpg"/>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менно такие, казалось бы, чисто житейские вещи проявляют в человеке его нравственный стержень, показывая чем и ради чего он готов поступиться. Сегодня все больше людей встают перед выбором – либо закрыть глаза (пойти на компромисс) с собственными представлениями о порядочности, чести, справедливости… , либо лишиться средств существования. Как бы прозаически это не выглядело, но такие простые жизненные ситуации являются лакмусовой бумагой, которая показывает, что ведет нас по жизни.</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равственное чувство – это пропуск в будущее, та серебряная нить, которая проведет человека через все предстоящие коллизии. Это тот стержень, который не даст сломаться от кажущейся безысходности или потерять направление от внезапной удачи. Лучшие человеческие качества исходят из этого чувства.</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Объект 3" descr="https://theslide.ru/img/thumbs/0405b0b8950b0c7b6269d041ac412a4b-800x.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9 способов развить внутренний стержень</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Освой искусство самоконтроля</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Определись со своими желаниями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ойми, что для тебя действительно важно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Не впадай в крайности</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роанализируй текущий опыт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Достигни гармонии с собой</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Избавляйся от негатива</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Уделяй время саморазвитию</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Научись отказывать</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Объект 3" descr="https://www.culture.ru/storage/images/5ac646345b88f24d5f6909fac342cd4f/d6ecc23f16a81814907609900c85465b.jpeg"/>
          <p:cNvPicPr/>
          <p:nvPr/>
        </p:nvPicPr>
        <p:blipFill>
          <a:blip r:embed="rId1"/>
          <a:stretch/>
        </p:blipFill>
        <p:spPr>
          <a:xfrm>
            <a:off x="1173240" y="1600200"/>
            <a:ext cx="67975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8-19T13:24:47Z</dcterms:created>
  <dc:creator>user</dc:creator>
  <dc:description/>
  <dc:language>en-US</dc:language>
  <cp:lastModifiedBy>Пользователь</cp:lastModifiedBy>
  <dcterms:modified xsi:type="dcterms:W3CDTF">2022-02-02T08:18:49Z</dcterms:modified>
  <cp:revision>51</cp:revision>
  <dc:subject/>
  <dc:title>Презентация PowerPoint</dc:title>
</cp:coreProperties>
</file>